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7B54-4F07-410F-A36D-5D9763DF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DB2-F263-4096-AAF9-AAFEC5B7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D1D-DCDD-4249-A0E9-0EFB0220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0DC7-2457-4AB0-91AE-F679E632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388-9E66-46AB-BFC2-C66E3AF5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FD6-C84F-43D9-B143-4EE57D25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478-0999-4FDD-949E-95C0E1EB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3E5E-53CE-4597-A5BD-1FA079A2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0D8-8681-4248-B766-C1022D88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D416-2681-4457-BEF5-29520503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399-00F8-413F-95A5-934FF70D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3C66-8D8D-4FD9-89EC-F4C83660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1636-8310-4626-A5E1-F3ED4C879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3"/>
            <a:endCxn id="42" idx="7"/>
          </p:cNvCxnSpPr>
          <p:nvPr/>
        </p:nvCxnSpPr>
        <p:spPr>
          <a:xfrm flipH="1">
            <a:off x="3427200" y="319860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1" idx="5"/>
            <a:endCxn id="43" idx="1"/>
          </p:cNvCxnSpPr>
          <p:nvPr/>
        </p:nvCxnSpPr>
        <p:spPr>
          <a:xfrm>
            <a:off x="4722480" y="3198600"/>
            <a:ext cx="84240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7"/>
          </p:cNvCxnSpPr>
          <p:nvPr/>
        </p:nvCxnSpPr>
        <p:spPr>
          <a:xfrm flipH="1">
            <a:off x="2207880" y="4113000"/>
            <a:ext cx="8424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2" idx="5"/>
            <a:endCxn id="45" idx="1"/>
          </p:cNvCxnSpPr>
          <p:nvPr/>
        </p:nvCxnSpPr>
        <p:spPr>
          <a:xfrm>
            <a:off x="3427200" y="4113000"/>
            <a:ext cx="53748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5" idx="3"/>
            <a:endCxn id="50" idx="7"/>
          </p:cNvCxnSpPr>
          <p:nvPr/>
        </p:nvCxnSpPr>
        <p:spPr>
          <a:xfrm flipH="1">
            <a:off x="3503160" y="5256000"/>
            <a:ext cx="461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43" idx="5"/>
            <a:endCxn id="61" idx="0"/>
          </p:cNvCxnSpPr>
          <p:nvPr/>
        </p:nvCxnSpPr>
        <p:spPr>
          <a:xfrm>
            <a:off x="594180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endCxn id="63" idx="7"/>
          </p:cNvCxnSpPr>
          <p:nvPr/>
        </p:nvCxnSpPr>
        <p:spPr>
          <a:xfrm flipH="1">
            <a:off x="5027400" y="4113000"/>
            <a:ext cx="537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44" idx="3"/>
            <a:endCxn id="66" idx="7"/>
          </p:cNvCxnSpPr>
          <p:nvPr/>
        </p:nvCxnSpPr>
        <p:spPr>
          <a:xfrm flipH="1">
            <a:off x="1293480" y="5256000"/>
            <a:ext cx="5374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44" idx="5"/>
            <a:endCxn id="70" idx="0"/>
          </p:cNvCxnSpPr>
          <p:nvPr/>
        </p:nvCxnSpPr>
        <p:spPr>
          <a:xfrm>
            <a:off x="2207880" y="525600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39" idx="3"/>
            <a:endCxn id="34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9" idx="5"/>
            <a:endCxn id="34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6" name=""/>
          <p:cNvCxnSpPr>
            <a:stCxn id="340" idx="3"/>
            <a:endCxn id="34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40" idx="5"/>
            <a:endCxn id="34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3" idx="3"/>
            <a:endCxn id="34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41" idx="5"/>
            <a:endCxn id="359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endCxn id="361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42" idx="5"/>
            <a:endCxn id="365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endCxn id="369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2" idx="3"/>
            <a:endCxn id="373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72" idx="5"/>
            <a:endCxn id="374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73" idx="3"/>
            <a:endCxn id="375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3" idx="5"/>
            <a:endCxn id="376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76" idx="3"/>
            <a:endCxn id="381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74" idx="5"/>
            <a:endCxn id="392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75" idx="5"/>
            <a:endCxn id="395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7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endCxn id="399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994800" y="3724200"/>
            <a:ext cx="2020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no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"/>
          <p:cNvCxnSpPr>
            <a:stCxn id="403" idx="3"/>
            <a:endCxn id="404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403" idx="5"/>
            <a:endCxn id="405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>
            <a:stCxn id="404" idx="3"/>
            <a:endCxn id="406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404" idx="5"/>
            <a:endCxn id="407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2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7" idx="3"/>
            <a:endCxn id="412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5" idx="5"/>
            <a:endCxn id="423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6" idx="5"/>
            <a:endCxn id="426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30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94800" y="3724200"/>
            <a:ext cx="2020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no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33920" y="4257720"/>
            <a:ext cx="127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w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"/>
          <p:cNvCxnSpPr>
            <a:stCxn id="435" idx="3"/>
            <a:endCxn id="436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1" name=""/>
          <p:cNvCxnSpPr>
            <a:stCxn id="435" idx="5"/>
            <a:endCxn id="437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36" idx="3"/>
            <a:endCxn id="438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3" name=""/>
          <p:cNvCxnSpPr>
            <a:stCxn id="436" idx="5"/>
            <a:endCxn id="439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39" idx="3"/>
            <a:endCxn id="444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"/>
          <p:cNvCxnSpPr>
            <a:stCxn id="437" idx="5"/>
            <a:endCxn id="455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38" idx="5"/>
            <a:endCxn id="458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endCxn id="462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94800" y="3724200"/>
            <a:ext cx="1978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endCxn id="466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8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9" idx="3"/>
            <a:endCxn id="47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69" idx="5"/>
            <a:endCxn id="47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70" idx="3"/>
            <a:endCxn id="47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70" idx="5"/>
            <a:endCxn id="47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3" idx="3"/>
            <a:endCxn id="47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71" idx="5"/>
            <a:endCxn id="489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72" idx="5"/>
            <a:endCxn id="492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4" name=""/>
          <p:cNvSpPr/>
          <p:nvPr/>
        </p:nvSpPr>
        <p:spPr>
          <a:xfrm>
            <a:off x="4951800" y="914400"/>
            <a:ext cx="396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ary Search Tre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endCxn id="496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endCxn id="499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34640" y="15238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3" idx="3"/>
            <a:endCxn id="504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503" idx="5"/>
            <a:endCxn id="505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4" idx="3"/>
            <a:endCxn id="506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504" idx="5"/>
            <a:endCxn id="507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07" idx="3"/>
            <a:endCxn id="512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05" idx="5"/>
            <a:endCxn id="523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5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6" idx="5"/>
            <a:endCxn id="526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"/>
          <p:cNvSpPr/>
          <p:nvPr/>
        </p:nvSpPr>
        <p:spPr>
          <a:xfrm>
            <a:off x="4951800" y="914400"/>
            <a:ext cx="396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ary Search Tre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endCxn id="530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endCxn id="53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34640" y="15238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2800" y="34956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8" idx="3"/>
            <a:endCxn id="539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8" idx="5"/>
            <a:endCxn id="540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9" idx="3"/>
            <a:endCxn id="541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9" idx="5"/>
            <a:endCxn id="542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2" idx="3"/>
            <a:endCxn id="547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"/>
          <p:cNvCxnSpPr>
            <a:stCxn id="540" idx="5"/>
            <a:endCxn id="55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2" name=""/>
          <p:cNvCxnSpPr>
            <a:stCxn id="541" idx="5"/>
            <a:endCxn id="56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3" name=""/>
          <p:cNvSpPr/>
          <p:nvPr/>
        </p:nvSpPr>
        <p:spPr>
          <a:xfrm>
            <a:off x="4951800" y="914400"/>
            <a:ext cx="396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ary Search Tre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endCxn id="565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>
            <a:endCxn id="568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34640" y="15238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2800" y="34956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06440" y="3429000"/>
            <a:ext cx="208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951800" y="914400"/>
            <a:ext cx="396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ary Search Tre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34640" y="152388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1720" y="3495600"/>
            <a:ext cx="168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706440" y="3429000"/>
            <a:ext cx="208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stCxn id="580" idx="3"/>
            <a:endCxn id="581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"/>
          <p:cNvCxnSpPr>
            <a:stCxn id="580" idx="5"/>
            <a:endCxn id="582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7" name=""/>
          <p:cNvCxnSpPr>
            <a:stCxn id="581" idx="3"/>
            <a:endCxn id="583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8" name=""/>
          <p:cNvCxnSpPr>
            <a:stCxn id="581" idx="5"/>
            <a:endCxn id="584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9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4" idx="3"/>
            <a:endCxn id="589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1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82" idx="5"/>
            <a:endCxn id="599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602" idx="3"/>
            <a:endCxn id="603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8" name=""/>
          <p:cNvCxnSpPr>
            <a:stCxn id="602" idx="5"/>
            <a:endCxn id="604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9" name=""/>
          <p:cNvCxnSpPr>
            <a:stCxn id="603" idx="3"/>
            <a:endCxn id="605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0" name=""/>
          <p:cNvCxnSpPr>
            <a:stCxn id="603" idx="5"/>
            <a:endCxn id="606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1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2" name=""/>
          <p:cNvCxnSpPr>
            <a:stCxn id="606" idx="3"/>
            <a:endCxn id="611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3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604" idx="5"/>
            <a:endCxn id="621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3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605" idx="5"/>
            <a:endCxn id="624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6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" name=""/>
          <p:cNvCxnSpPr>
            <a:endCxn id="626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8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endCxn id="629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1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47480" y="914400"/>
            <a:ext cx="349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node X, the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length of the left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t least as larg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right ch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0" name=""/>
          <p:cNvCxnSpPr>
            <a:stCxn id="635" idx="3"/>
            <a:endCxn id="636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1" name=""/>
          <p:cNvCxnSpPr>
            <a:stCxn id="635" idx="5"/>
            <a:endCxn id="637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2" name=""/>
          <p:cNvCxnSpPr>
            <a:stCxn id="636" idx="3"/>
            <a:endCxn id="638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3" name=""/>
          <p:cNvCxnSpPr>
            <a:stCxn id="636" idx="5"/>
            <a:endCxn id="639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4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39" idx="3"/>
            <a:endCxn id="644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5" name=""/>
          <p:cNvCxnSpPr>
            <a:stCxn id="637" idx="5"/>
            <a:endCxn id="654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6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8" idx="5"/>
            <a:endCxn id="657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9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0" name=""/>
          <p:cNvCxnSpPr>
            <a:endCxn id="659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endCxn id="662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4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0120" y="1041480"/>
            <a:ext cx="345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ll path 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of an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ngth of the shor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nod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or one chil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47480" y="914400"/>
            <a:ext cx="349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node X, the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length of the left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t least as larg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right ch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2" idx="3"/>
            <a:endCxn id="73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2" idx="5"/>
            <a:endCxn id="74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3" idx="3"/>
            <a:endCxn id="75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3" idx="5"/>
            <a:endCxn id="76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76" idx="3"/>
            <a:endCxn id="81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74" idx="5"/>
            <a:endCxn id="92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endCxn id="94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75" idx="3"/>
            <a:endCxn id="97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75" idx="5"/>
            <a:endCxn id="10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68" idx="3"/>
            <a:endCxn id="669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4" name=""/>
          <p:cNvCxnSpPr>
            <a:stCxn id="668" idx="5"/>
            <a:endCxn id="670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5" name=""/>
          <p:cNvCxnSpPr>
            <a:stCxn id="669" idx="3"/>
            <a:endCxn id="671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6" name=""/>
          <p:cNvCxnSpPr>
            <a:stCxn id="669" idx="5"/>
            <a:endCxn id="672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7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8" name=""/>
          <p:cNvCxnSpPr>
            <a:stCxn id="672" idx="3"/>
            <a:endCxn id="677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9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8" name=""/>
          <p:cNvCxnSpPr>
            <a:stCxn id="670" idx="5"/>
            <a:endCxn id="687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9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1" name=""/>
          <p:cNvCxnSpPr>
            <a:stCxn id="671" idx="5"/>
            <a:endCxn id="690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endCxn id="692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4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endCxn id="695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947480" y="914400"/>
            <a:ext cx="349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node X, the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length of the left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t least as larg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right ch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6" name=""/>
          <p:cNvCxnSpPr>
            <a:stCxn id="701" idx="3"/>
            <a:endCxn id="702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701" idx="5"/>
            <a:endCxn id="703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702" idx="3"/>
            <a:endCxn id="704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2" idx="5"/>
            <a:endCxn id="705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3"/>
            <a:endCxn id="710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2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1" name=""/>
          <p:cNvCxnSpPr>
            <a:stCxn id="703" idx="5"/>
            <a:endCxn id="720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04" idx="5"/>
            <a:endCxn id="723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endCxn id="725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endCxn id="728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0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34" idx="3"/>
            <a:endCxn id="735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0" name=""/>
          <p:cNvCxnSpPr>
            <a:stCxn id="734" idx="5"/>
            <a:endCxn id="736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>
            <a:stCxn id="735" idx="3"/>
            <a:endCxn id="737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735" idx="5"/>
            <a:endCxn id="738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3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38" idx="3"/>
            <a:endCxn id="743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5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36" idx="5"/>
            <a:endCxn id="753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5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37" idx="5"/>
            <a:endCxn id="756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8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endCxn id="758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0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2" name=""/>
          <p:cNvCxnSpPr>
            <a:endCxn id="761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3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61640" y="2581200"/>
            <a:ext cx="18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3" name=""/>
          <p:cNvCxnSpPr>
            <a:stCxn id="778" idx="3"/>
            <a:endCxn id="779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4" name=""/>
          <p:cNvCxnSpPr>
            <a:stCxn id="778" idx="5"/>
            <a:endCxn id="780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5" name=""/>
          <p:cNvCxnSpPr>
            <a:stCxn id="779" idx="3"/>
            <a:endCxn id="781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6" name=""/>
          <p:cNvCxnSpPr>
            <a:stCxn id="779" idx="5"/>
            <a:endCxn id="782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7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"/>
          <p:cNvCxnSpPr>
            <a:stCxn id="782" idx="3"/>
            <a:endCxn id="787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9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8" name=""/>
          <p:cNvCxnSpPr>
            <a:stCxn id="780" idx="5"/>
            <a:endCxn id="797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9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"/>
          <p:cNvCxnSpPr>
            <a:stCxn id="781" idx="5"/>
            <a:endCxn id="800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2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"/>
          <p:cNvCxnSpPr>
            <a:endCxn id="802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4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6" name=""/>
          <p:cNvCxnSpPr>
            <a:endCxn id="805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7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461640" y="2581200"/>
            <a:ext cx="18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147080" y="3800520"/>
            <a:ext cx="197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e th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als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23" idx="3"/>
            <a:endCxn id="824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9" name=""/>
          <p:cNvCxnSpPr>
            <a:stCxn id="823" idx="5"/>
            <a:endCxn id="825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0" name=""/>
          <p:cNvCxnSpPr>
            <a:stCxn id="824" idx="3"/>
            <a:endCxn id="826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1" name=""/>
          <p:cNvCxnSpPr>
            <a:stCxn id="824" idx="5"/>
            <a:endCxn id="827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27" idx="3"/>
            <a:endCxn id="832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3" name=""/>
          <p:cNvCxnSpPr>
            <a:stCxn id="825" idx="5"/>
            <a:endCxn id="842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4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6" name=""/>
          <p:cNvCxnSpPr>
            <a:stCxn id="826" idx="5"/>
            <a:endCxn id="845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8" name=""/>
          <p:cNvCxnSpPr>
            <a:endCxn id="847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9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endCxn id="850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2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461640" y="2581200"/>
            <a:ext cx="18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13480" y="3038400"/>
            <a:ext cx="184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ose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move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rot="4633800">
            <a:off x="42840" y="5006880"/>
            <a:ext cx="1333440" cy="304560"/>
          </a:xfrm>
          <a:custGeom>
            <a:avLst/>
            <a:gdLst>
              <a:gd name="textAreaLeft" fmla="*/ 166680 w 1333440"/>
              <a:gd name="textAreaRight" fmla="*/ 1166760 w 13334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147080" y="3800520"/>
            <a:ext cx="197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e th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als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0" idx="3"/>
            <a:endCxn id="871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70" idx="5"/>
            <a:endCxn id="872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871" idx="3"/>
            <a:endCxn id="873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71" idx="5"/>
            <a:endCxn id="874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9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0" name=""/>
          <p:cNvCxnSpPr>
            <a:stCxn id="874" idx="3"/>
            <a:endCxn id="879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1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72" idx="5"/>
            <a:endCxn id="889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1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"/>
          <p:cNvCxnSpPr>
            <a:stCxn id="873" idx="5"/>
            <a:endCxn id="892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4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endCxn id="894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6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909" idx="3"/>
            <a:endCxn id="91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5" name=""/>
          <p:cNvCxnSpPr>
            <a:stCxn id="909" idx="5"/>
            <a:endCxn id="91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6" name=""/>
          <p:cNvCxnSpPr>
            <a:stCxn id="910" idx="3"/>
            <a:endCxn id="91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7" name=""/>
          <p:cNvCxnSpPr>
            <a:stCxn id="910" idx="5"/>
            <a:endCxn id="91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3" idx="3"/>
            <a:endCxn id="91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9" name=""/>
          <p:cNvCxnSpPr>
            <a:stCxn id="911" idx="5"/>
            <a:endCxn id="92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2" name=""/>
          <p:cNvCxnSpPr>
            <a:stCxn id="912" idx="5"/>
            <a:endCxn id="93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endCxn id="93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89440" y="5019840"/>
            <a:ext cx="133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4" name=""/>
          <p:cNvCxnSpPr>
            <a:stCxn id="949" idx="3"/>
            <a:endCxn id="95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5" name=""/>
          <p:cNvCxnSpPr>
            <a:stCxn id="949" idx="5"/>
            <a:endCxn id="95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6" name=""/>
          <p:cNvCxnSpPr>
            <a:stCxn id="950" idx="3"/>
            <a:endCxn id="95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50" idx="5"/>
            <a:endCxn id="95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53" idx="3"/>
            <a:endCxn id="95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9" name=""/>
          <p:cNvCxnSpPr>
            <a:stCxn id="951" idx="5"/>
            <a:endCxn id="96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52" idx="5"/>
            <a:endCxn id="97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4" name=""/>
          <p:cNvCxnSpPr>
            <a:endCxn id="97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3040" y="5791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89" idx="3"/>
            <a:endCxn id="99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"/>
          <p:cNvCxnSpPr>
            <a:stCxn id="989" idx="5"/>
            <a:endCxn id="99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"/>
          <p:cNvCxnSpPr>
            <a:stCxn id="990" idx="3"/>
            <a:endCxn id="99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7" name=""/>
          <p:cNvCxnSpPr>
            <a:stCxn id="990" idx="5"/>
            <a:endCxn id="99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9" name=""/>
          <p:cNvCxnSpPr>
            <a:stCxn id="993" idx="3"/>
            <a:endCxn id="99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9" name=""/>
          <p:cNvCxnSpPr>
            <a:stCxn id="991" idx="5"/>
            <a:endCxn id="100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2" name=""/>
          <p:cNvCxnSpPr>
            <a:stCxn id="992" idx="5"/>
            <a:endCxn id="101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4" name=""/>
          <p:cNvCxnSpPr>
            <a:endCxn id="101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04920" y="4952880"/>
            <a:ext cx="152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29" idx="3"/>
            <a:endCxn id="103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5" name=""/>
          <p:cNvCxnSpPr>
            <a:stCxn id="1029" idx="5"/>
            <a:endCxn id="103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6" name=""/>
          <p:cNvCxnSpPr>
            <a:stCxn id="1030" idx="3"/>
            <a:endCxn id="103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7" name=""/>
          <p:cNvCxnSpPr>
            <a:stCxn id="1030" idx="5"/>
            <a:endCxn id="103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9" name=""/>
          <p:cNvCxnSpPr>
            <a:stCxn id="1033" idx="3"/>
            <a:endCxn id="103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9" name=""/>
          <p:cNvCxnSpPr>
            <a:stCxn id="1031" idx="5"/>
            <a:endCxn id="104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2" name=""/>
          <p:cNvCxnSpPr>
            <a:stCxn id="1032" idx="5"/>
            <a:endCxn id="105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4" name=""/>
          <p:cNvCxnSpPr>
            <a:endCxn id="105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89800" y="4714920"/>
            <a:ext cx="132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4" idx="3"/>
            <a:endCxn id="105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4" idx="5"/>
            <a:endCxn id="106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5" idx="3"/>
            <a:endCxn id="107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5"/>
            <a:endCxn id="108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08" idx="3"/>
            <a:endCxn id="113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06" idx="5"/>
            <a:endCxn id="124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endCxn id="126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07" idx="3"/>
            <a:endCxn id="129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07" idx="5"/>
            <a:endCxn id="133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4" name=""/>
          <p:cNvCxnSpPr>
            <a:stCxn id="1069" idx="3"/>
            <a:endCxn id="107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5" name=""/>
          <p:cNvCxnSpPr>
            <a:stCxn id="1069" idx="5"/>
            <a:endCxn id="107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6" name=""/>
          <p:cNvCxnSpPr>
            <a:stCxn id="1070" idx="3"/>
            <a:endCxn id="107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7" name=""/>
          <p:cNvCxnSpPr>
            <a:stCxn id="1070" idx="5"/>
            <a:endCxn id="107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9" name=""/>
          <p:cNvCxnSpPr>
            <a:stCxn id="1073" idx="3"/>
            <a:endCxn id="107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9" name=""/>
          <p:cNvCxnSpPr>
            <a:stCxn id="1071" idx="5"/>
            <a:endCxn id="108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2" name=""/>
          <p:cNvCxnSpPr>
            <a:stCxn id="1072" idx="5"/>
            <a:endCxn id="109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4" name=""/>
          <p:cNvCxnSpPr>
            <a:endCxn id="109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56600" y="990720"/>
            <a:ext cx="37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986720" y="914400"/>
            <a:ext cx="39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ist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l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0520" y="4714920"/>
            <a:ext cx="155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is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4" name=""/>
          <p:cNvCxnSpPr>
            <a:stCxn id="1109" idx="3"/>
            <a:endCxn id="111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5" name=""/>
          <p:cNvCxnSpPr>
            <a:stCxn id="1109" idx="5"/>
            <a:endCxn id="111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6" name=""/>
          <p:cNvCxnSpPr>
            <a:stCxn id="1110" idx="3"/>
            <a:endCxn id="1112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7" name=""/>
          <p:cNvCxnSpPr>
            <a:stCxn id="1110" idx="5"/>
            <a:endCxn id="1113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9" name=""/>
          <p:cNvCxnSpPr>
            <a:stCxn id="1113" idx="3"/>
            <a:endCxn id="1118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9" name=""/>
          <p:cNvCxnSpPr>
            <a:stCxn id="1111" idx="5"/>
            <a:endCxn id="1128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0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2" name=""/>
          <p:cNvCxnSpPr>
            <a:stCxn id="1112" idx="5"/>
            <a:endCxn id="1131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4" name=""/>
          <p:cNvCxnSpPr>
            <a:endCxn id="113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629400" y="4343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124080" y="5638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514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8862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63868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724280" y="2362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6" name=""/>
          <p:cNvCxnSpPr>
            <a:endCxn id="1145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7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981080" y="1143000"/>
            <a:ext cx="514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trees have good balan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4" name=""/>
          <p:cNvCxnSpPr>
            <a:stCxn id="1151" idx="3"/>
            <a:endCxn id="1152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5" name=""/>
          <p:cNvCxnSpPr>
            <a:stCxn id="1152" idx="3"/>
            <a:endCxn id="1153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4" name=""/>
          <p:cNvCxnSpPr>
            <a:endCxn id="1163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5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980360" y="1143000"/>
            <a:ext cx="58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trees have good balan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leftist trees can be very unbalan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2" name=""/>
          <p:cNvCxnSpPr>
            <a:stCxn id="1169" idx="3"/>
            <a:endCxn id="117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3" name=""/>
          <p:cNvCxnSpPr>
            <a:stCxn id="1170" idx="3"/>
            <a:endCxn id="1171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4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2" name=""/>
          <p:cNvCxnSpPr>
            <a:endCxn id="1181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3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365040" y="2352600"/>
            <a:ext cx="318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trivial cas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wo entir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-lea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1" name=""/>
          <p:cNvCxnSpPr>
            <a:stCxn id="1188" idx="3"/>
            <a:endCxn id="1189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2" name=""/>
          <p:cNvCxnSpPr>
            <a:stCxn id="1189" idx="3"/>
            <a:endCxn id="1190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3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1" name=""/>
          <p:cNvCxnSpPr>
            <a:endCxn id="1200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2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40080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105520" y="36576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8" name=""/>
          <p:cNvCxnSpPr>
            <a:stCxn id="1205" idx="3"/>
            <a:endCxn id="1206" idx="7"/>
          </p:cNvCxnSpPr>
          <p:nvPr/>
        </p:nvCxnSpPr>
        <p:spPr>
          <a:xfrm flipH="1">
            <a:off x="5560200" y="31989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9" name=""/>
          <p:cNvCxnSpPr>
            <a:stCxn id="1206" idx="3"/>
            <a:endCxn id="1207" idx="7"/>
          </p:cNvCxnSpPr>
          <p:nvPr/>
        </p:nvCxnSpPr>
        <p:spPr>
          <a:xfrm flipH="1">
            <a:off x="434124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0" name=""/>
          <p:cNvSpPr/>
          <p:nvPr/>
        </p:nvSpPr>
        <p:spPr>
          <a:xfrm>
            <a:off x="6445080" y="27432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25780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88620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48640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96252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1055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58000" y="2362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1" name=""/>
          <p:cNvCxnSpPr>
            <a:stCxn id="1218" idx="3"/>
            <a:endCxn id="1219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2" name=""/>
          <p:cNvCxnSpPr>
            <a:stCxn id="1219" idx="3"/>
            <a:endCxn id="1220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3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1" name=""/>
          <p:cNvCxnSpPr>
            <a:endCxn id="1230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2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67560" y="2352600"/>
            <a:ext cx="243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erge th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3886200" y="2743200"/>
            <a:ext cx="3048120" cy="2593440"/>
            <a:chOff x="3886200" y="2743200"/>
            <a:chExt cx="3048120" cy="2593440"/>
          </a:xfrm>
        </p:grpSpPr>
        <p:grpSp>
          <p:nvGrpSpPr>
            <p:cNvPr id="1237" name=""/>
            <p:cNvGrpSpPr/>
            <p:nvPr/>
          </p:nvGrpSpPr>
          <p:grpSpPr>
            <a:xfrm>
              <a:off x="5560200" y="2743200"/>
              <a:ext cx="1374120" cy="992160"/>
              <a:chOff x="5560200" y="2743200"/>
              <a:chExt cx="1374120" cy="992160"/>
            </a:xfrm>
          </p:grpSpPr>
          <p:sp>
            <p:nvSpPr>
              <p:cNvPr id="1238" name=""/>
              <p:cNvSpPr/>
              <p:nvPr/>
            </p:nvSpPr>
            <p:spPr>
              <a:xfrm>
                <a:off x="6400800" y="2743200"/>
                <a:ext cx="53352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39" name=""/>
              <p:cNvCxnSpPr>
                <a:stCxn id="1238" idx="3"/>
                <a:endCxn id="1240" idx="7"/>
              </p:cNvCxnSpPr>
              <p:nvPr/>
            </p:nvCxnSpPr>
            <p:spPr>
              <a:xfrm flipH="1">
                <a:off x="5560200" y="3198960"/>
                <a:ext cx="91836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41" name=""/>
              <p:cNvSpPr/>
              <p:nvPr/>
            </p:nvSpPr>
            <p:spPr>
              <a:xfrm>
                <a:off x="6445080" y="2743200"/>
                <a:ext cx="41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3886200" y="3124080"/>
              <a:ext cx="1784520" cy="2212560"/>
              <a:chOff x="3886200" y="3124080"/>
              <a:chExt cx="1784520" cy="2212560"/>
            </a:xfrm>
          </p:grpSpPr>
          <p:sp>
            <p:nvSpPr>
              <p:cNvPr id="1240" name=""/>
              <p:cNvSpPr/>
              <p:nvPr/>
            </p:nvSpPr>
            <p:spPr>
              <a:xfrm>
                <a:off x="5105520" y="3657600"/>
                <a:ext cx="53316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886200" y="4800600"/>
                <a:ext cx="53352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44" name=""/>
              <p:cNvCxnSpPr>
                <a:stCxn id="1240" idx="3"/>
                <a:endCxn id="1243" idx="7"/>
              </p:cNvCxnSpPr>
              <p:nvPr/>
            </p:nvCxnSpPr>
            <p:spPr>
              <a:xfrm flipH="1">
                <a:off x="4341240" y="4113000"/>
                <a:ext cx="842040" cy="76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45" name=""/>
              <p:cNvSpPr/>
              <p:nvPr/>
            </p:nvSpPr>
            <p:spPr>
              <a:xfrm>
                <a:off x="5257800" y="37339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886200" y="48769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486400" y="33336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962520" y="4267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1055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0" name=""/>
          <p:cNvSpPr/>
          <p:nvPr/>
        </p:nvSpPr>
        <p:spPr>
          <a:xfrm>
            <a:off x="6858000" y="2362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>
            <a:off x="229680" y="2057400"/>
            <a:ext cx="273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erge th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make th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nod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6" name=""/>
          <p:cNvCxnSpPr>
            <a:stCxn id="1253" idx="3"/>
            <a:endCxn id="1254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7" name=""/>
          <p:cNvCxnSpPr>
            <a:stCxn id="1254" idx="3"/>
            <a:endCxn id="1255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8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6" name=""/>
          <p:cNvCxnSpPr>
            <a:endCxn id="1265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7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562720" y="36576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006800" y="48783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87480" y="60213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3" name=""/>
          <p:cNvCxnSpPr>
            <a:stCxn id="1270" idx="3"/>
            <a:endCxn id="1271" idx="7"/>
          </p:cNvCxnSpPr>
          <p:nvPr/>
        </p:nvCxnSpPr>
        <p:spPr>
          <a:xfrm flipH="1">
            <a:off x="4462200" y="4113000"/>
            <a:ext cx="1178640" cy="84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4" name=""/>
          <p:cNvCxnSpPr>
            <a:stCxn id="1271" idx="3"/>
            <a:endCxn id="1272" idx="7"/>
          </p:cNvCxnSpPr>
          <p:nvPr/>
        </p:nvCxnSpPr>
        <p:spPr>
          <a:xfrm flipH="1">
            <a:off x="3242520" y="533376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5" name=""/>
          <p:cNvSpPr/>
          <p:nvPr/>
        </p:nvSpPr>
        <p:spPr>
          <a:xfrm>
            <a:off x="5607000" y="36576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159080" y="4954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787480" y="609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387680" y="455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863800" y="5487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06800" y="4344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019920" y="3276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2" name=""/>
          <p:cNvCxnSpPr>
            <a:stCxn id="1253" idx="5"/>
            <a:endCxn id="1275" idx="1"/>
          </p:cNvCxnSpPr>
          <p:nvPr/>
        </p:nvCxnSpPr>
        <p:spPr>
          <a:xfrm>
            <a:off x="4722840" y="3198600"/>
            <a:ext cx="8848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228600" y="2057400"/>
            <a:ext cx="295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case show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 is alre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ftist heap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fin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8" name=""/>
          <p:cNvCxnSpPr>
            <a:stCxn id="1285" idx="3"/>
            <a:endCxn id="1286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9" name=""/>
          <p:cNvCxnSpPr>
            <a:stCxn id="1286" idx="3"/>
            <a:endCxn id="1287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8288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9718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8" name=""/>
          <p:cNvCxnSpPr>
            <a:endCxn id="1297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9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838080" y="5562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562720" y="36576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006800" y="48783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787480" y="60213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5" name=""/>
          <p:cNvCxnSpPr>
            <a:stCxn id="1302" idx="3"/>
            <a:endCxn id="1303" idx="7"/>
          </p:cNvCxnSpPr>
          <p:nvPr/>
        </p:nvCxnSpPr>
        <p:spPr>
          <a:xfrm flipH="1">
            <a:off x="4462200" y="4113000"/>
            <a:ext cx="1178640" cy="84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6" name=""/>
          <p:cNvCxnSpPr>
            <a:stCxn id="1303" idx="3"/>
            <a:endCxn id="1304" idx="7"/>
          </p:cNvCxnSpPr>
          <p:nvPr/>
        </p:nvCxnSpPr>
        <p:spPr>
          <a:xfrm flipH="1">
            <a:off x="3242520" y="533376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7" name=""/>
          <p:cNvSpPr/>
          <p:nvPr/>
        </p:nvSpPr>
        <p:spPr>
          <a:xfrm>
            <a:off x="5607000" y="36576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159080" y="4954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787480" y="609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387680" y="455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863800" y="5487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006800" y="4344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019920" y="3276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4" name=""/>
          <p:cNvCxnSpPr>
            <a:stCxn id="1285" idx="5"/>
            <a:endCxn id="1307" idx="1"/>
          </p:cNvCxnSpPr>
          <p:nvPr/>
        </p:nvCxnSpPr>
        <p:spPr>
          <a:xfrm>
            <a:off x="4722840" y="3198600"/>
            <a:ext cx="8848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67200" y="2352600"/>
            <a:ext cx="32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had start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3886200" y="2743200"/>
            <a:ext cx="3048120" cy="2593440"/>
            <a:chOff x="3886200" y="2743200"/>
            <a:chExt cx="3048120" cy="2593440"/>
          </a:xfrm>
        </p:grpSpPr>
        <p:grpSp>
          <p:nvGrpSpPr>
            <p:cNvPr id="1322" name=""/>
            <p:cNvGrpSpPr/>
            <p:nvPr/>
          </p:nvGrpSpPr>
          <p:grpSpPr>
            <a:xfrm>
              <a:off x="5560200" y="2743200"/>
              <a:ext cx="1374120" cy="992160"/>
              <a:chOff x="5560200" y="2743200"/>
              <a:chExt cx="1374120" cy="992160"/>
            </a:xfrm>
          </p:grpSpPr>
          <p:sp>
            <p:nvSpPr>
              <p:cNvPr id="1323" name=""/>
              <p:cNvSpPr/>
              <p:nvPr/>
            </p:nvSpPr>
            <p:spPr>
              <a:xfrm>
                <a:off x="6400800" y="2743200"/>
                <a:ext cx="53352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24" name=""/>
              <p:cNvCxnSpPr>
                <a:stCxn id="1323" idx="3"/>
                <a:endCxn id="1325" idx="7"/>
              </p:cNvCxnSpPr>
              <p:nvPr/>
            </p:nvCxnSpPr>
            <p:spPr>
              <a:xfrm flipH="1">
                <a:off x="5560200" y="3198960"/>
                <a:ext cx="918360" cy="536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26" name=""/>
              <p:cNvSpPr/>
              <p:nvPr/>
            </p:nvSpPr>
            <p:spPr>
              <a:xfrm>
                <a:off x="6445080" y="2743200"/>
                <a:ext cx="41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3886200" y="3124080"/>
              <a:ext cx="1784520" cy="2212560"/>
              <a:chOff x="3886200" y="3124080"/>
              <a:chExt cx="1784520" cy="2212560"/>
            </a:xfrm>
          </p:grpSpPr>
          <p:sp>
            <p:nvSpPr>
              <p:cNvPr id="1325" name=""/>
              <p:cNvSpPr/>
              <p:nvPr/>
            </p:nvSpPr>
            <p:spPr>
              <a:xfrm>
                <a:off x="5105520" y="3657600"/>
                <a:ext cx="53316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886200" y="4800600"/>
                <a:ext cx="53352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29" name=""/>
              <p:cNvCxnSpPr>
                <a:stCxn id="1325" idx="3"/>
                <a:endCxn id="1328" idx="7"/>
              </p:cNvCxnSpPr>
              <p:nvPr/>
            </p:nvCxnSpPr>
            <p:spPr>
              <a:xfrm flipH="1">
                <a:off x="4341240" y="4113000"/>
                <a:ext cx="842040" cy="76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30" name=""/>
              <p:cNvSpPr/>
              <p:nvPr/>
            </p:nvSpPr>
            <p:spPr>
              <a:xfrm>
                <a:off x="5257800" y="37339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3886200" y="48769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486400" y="33336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962520" y="4267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105520" y="3124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5" name=""/>
          <p:cNvSpPr/>
          <p:nvPr/>
        </p:nvSpPr>
        <p:spPr>
          <a:xfrm>
            <a:off x="6858000" y="2362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562720" y="36576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006800" y="48783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787480" y="60213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4" name=""/>
          <p:cNvCxnSpPr>
            <a:stCxn id="1341" idx="3"/>
            <a:endCxn id="1342" idx="7"/>
          </p:cNvCxnSpPr>
          <p:nvPr/>
        </p:nvCxnSpPr>
        <p:spPr>
          <a:xfrm flipH="1">
            <a:off x="4462200" y="4113000"/>
            <a:ext cx="1178640" cy="84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5" name=""/>
          <p:cNvCxnSpPr>
            <a:stCxn id="1342" idx="3"/>
            <a:endCxn id="1343" idx="7"/>
          </p:cNvCxnSpPr>
          <p:nvPr/>
        </p:nvCxnSpPr>
        <p:spPr>
          <a:xfrm flipH="1">
            <a:off x="3242520" y="533376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6" name=""/>
          <p:cNvSpPr/>
          <p:nvPr/>
        </p:nvSpPr>
        <p:spPr>
          <a:xfrm>
            <a:off x="5607000" y="36576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59080" y="4954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87480" y="609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87680" y="455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863800" y="5487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006800" y="4344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019920" y="3276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3" name=""/>
          <p:cNvCxnSpPr>
            <a:stCxn id="1338" idx="5"/>
            <a:endCxn id="1346" idx="1"/>
          </p:cNvCxnSpPr>
          <p:nvPr/>
        </p:nvCxnSpPr>
        <p:spPr>
          <a:xfrm>
            <a:off x="4722840" y="3198600"/>
            <a:ext cx="8848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4" name=""/>
          <p:cNvSpPr/>
          <p:nvPr/>
        </p:nvSpPr>
        <p:spPr>
          <a:xfrm>
            <a:off x="367200" y="2352600"/>
            <a:ext cx="3248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then after th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the tree is n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, sinc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child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ot 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ll path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 which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sub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3580920" y="32004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352680" y="3885480"/>
            <a:ext cx="4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124080" y="3429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7" idx="3"/>
            <a:endCxn id="138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7" idx="5"/>
            <a:endCxn id="139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8" idx="3"/>
            <a:endCxn id="140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8" idx="5"/>
            <a:endCxn id="141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1" idx="3"/>
            <a:endCxn id="146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9" idx="5"/>
            <a:endCxn id="157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endCxn id="159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0" idx="3"/>
            <a:endCxn id="162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40" idx="5"/>
            <a:endCxn id="166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95520" y="3724200"/>
            <a:ext cx="193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>
            <a:off x="366480" y="2352600"/>
            <a:ext cx="336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the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sw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ft and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ees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156120" y="37339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600200" y="49546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80880" y="60976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7" name=""/>
          <p:cNvCxnSpPr>
            <a:stCxn id="1364" idx="3"/>
            <a:endCxn id="1365" idx="7"/>
          </p:cNvCxnSpPr>
          <p:nvPr/>
        </p:nvCxnSpPr>
        <p:spPr>
          <a:xfrm flipH="1">
            <a:off x="2055600" y="4189320"/>
            <a:ext cx="117864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8" name=""/>
          <p:cNvCxnSpPr>
            <a:stCxn id="1365" idx="3"/>
            <a:endCxn id="1366" idx="7"/>
          </p:cNvCxnSpPr>
          <p:nvPr/>
        </p:nvCxnSpPr>
        <p:spPr>
          <a:xfrm flipH="1">
            <a:off x="835920" y="54100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9" name=""/>
          <p:cNvSpPr/>
          <p:nvPr/>
        </p:nvSpPr>
        <p:spPr>
          <a:xfrm>
            <a:off x="3200400" y="37339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2480" y="5030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80880" y="6173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981080" y="463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57200" y="55641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600200" y="44211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352680" y="3276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6" name=""/>
          <p:cNvCxnSpPr>
            <a:stCxn id="1362" idx="2"/>
          </p:cNvCxnSpPr>
          <p:nvPr/>
        </p:nvCxnSpPr>
        <p:spPr>
          <a:xfrm flipH="1">
            <a:off x="3656880" y="3200040"/>
            <a:ext cx="7470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7" name=""/>
          <p:cNvSpPr/>
          <p:nvPr/>
        </p:nvSpPr>
        <p:spPr>
          <a:xfrm>
            <a:off x="4724280" y="32004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410080" y="3885480"/>
            <a:ext cx="4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562720" y="3429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/>
          <p:nvPr/>
        </p:nvSpPr>
        <p:spPr>
          <a:xfrm>
            <a:off x="366840" y="2352600"/>
            <a:ext cx="366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ither case, the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on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ti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982160" y="1143000"/>
            <a:ext cx="525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leftist heaps can b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alanced, they are easy to me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724280" y="2286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156120" y="37339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600200" y="49546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80880" y="60976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9" name=""/>
          <p:cNvCxnSpPr>
            <a:stCxn id="1386" idx="3"/>
            <a:endCxn id="1387" idx="7"/>
          </p:cNvCxnSpPr>
          <p:nvPr/>
        </p:nvCxnSpPr>
        <p:spPr>
          <a:xfrm flipH="1">
            <a:off x="2055600" y="4189320"/>
            <a:ext cx="117864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0" name=""/>
          <p:cNvCxnSpPr>
            <a:stCxn id="1387" idx="3"/>
            <a:endCxn id="1388" idx="7"/>
          </p:cNvCxnSpPr>
          <p:nvPr/>
        </p:nvCxnSpPr>
        <p:spPr>
          <a:xfrm flipH="1">
            <a:off x="835920" y="54100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1" name=""/>
          <p:cNvSpPr/>
          <p:nvPr/>
        </p:nvSpPr>
        <p:spPr>
          <a:xfrm>
            <a:off x="3200400" y="37339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752480" y="5030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80880" y="6173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981080" y="463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57200" y="55641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00200" y="44211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352680" y="3276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8" name=""/>
          <p:cNvCxnSpPr>
            <a:stCxn id="1384" idx="2"/>
          </p:cNvCxnSpPr>
          <p:nvPr/>
        </p:nvCxnSpPr>
        <p:spPr>
          <a:xfrm flipH="1">
            <a:off x="3656880" y="3200040"/>
            <a:ext cx="7470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229680" y="2055960"/>
            <a:ext cx="3810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, though,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re special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tir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-l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4" name=""/>
          <p:cNvCxnSpPr>
            <a:stCxn id="1401" idx="3"/>
            <a:endCxn id="1402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405" name=""/>
          <p:cNvCxnSpPr>
            <a:stCxn id="1402" idx="3"/>
            <a:endCxn id="1403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40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34800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1" name=""/>
          <p:cNvCxnSpPr>
            <a:endCxn id="1410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grpSp>
        <p:nvGrpSpPr>
          <p:cNvPr id="1412" name=""/>
          <p:cNvGrpSpPr/>
          <p:nvPr/>
        </p:nvGrpSpPr>
        <p:grpSpPr>
          <a:xfrm>
            <a:off x="5560200" y="2743200"/>
            <a:ext cx="1374120" cy="992160"/>
            <a:chOff x="5560200" y="2743200"/>
            <a:chExt cx="1374120" cy="992160"/>
          </a:xfrm>
        </p:grpSpPr>
        <p:sp>
          <p:nvSpPr>
            <p:cNvPr id="1413" name=""/>
            <p:cNvSpPr/>
            <p:nvPr/>
          </p:nvSpPr>
          <p:spPr>
            <a:xfrm>
              <a:off x="6400800" y="2743200"/>
              <a:ext cx="53352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4" name=""/>
            <p:cNvCxnSpPr>
              <a:stCxn id="1413" idx="3"/>
              <a:endCxn id="1415" idx="7"/>
            </p:cNvCxnSpPr>
            <p:nvPr/>
          </p:nvCxnSpPr>
          <p:spPr>
            <a:xfrm flipH="1">
              <a:off x="5560200" y="3198960"/>
              <a:ext cx="918360" cy="53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6" name=""/>
            <p:cNvSpPr/>
            <p:nvPr/>
          </p:nvSpPr>
          <p:spPr>
            <a:xfrm>
              <a:off x="6445080" y="274320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5" name=""/>
          <p:cNvSpPr/>
          <p:nvPr/>
        </p:nvSpPr>
        <p:spPr>
          <a:xfrm>
            <a:off x="5105520" y="36576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8" name=""/>
          <p:cNvCxnSpPr>
            <a:stCxn id="1415" idx="3"/>
            <a:endCxn id="1417" idx="7"/>
          </p:cNvCxnSpPr>
          <p:nvPr/>
        </p:nvCxnSpPr>
        <p:spPr>
          <a:xfrm flipH="1">
            <a:off x="434124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9" name=""/>
          <p:cNvSpPr/>
          <p:nvPr/>
        </p:nvSpPr>
        <p:spPr>
          <a:xfrm>
            <a:off x="525780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8620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48640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230400" y="2057400"/>
            <a:ext cx="3198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be done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ti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30400" y="2057400"/>
            <a:ext cx="3198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m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be done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 ti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t can b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i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r of the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05520" y="1752480"/>
            <a:ext cx="1974600" cy="35416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048120" y="160020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rot="7599000">
            <a:off x="5471280" y="1310400"/>
            <a:ext cx="152280" cy="426960"/>
          </a:xfrm>
          <a:custGeom>
            <a:avLst/>
            <a:gdLst>
              <a:gd name="textAreaLeft" fmla="*/ 97200 w 152280"/>
              <a:gd name="textAreaRight" fmla="*/ 152640 w 152280"/>
              <a:gd name="textAreaTop" fmla="*/ 10800 h 426960"/>
              <a:gd name="textAreaBottom" fmla="*/ 416160 h 42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rot="7599000">
            <a:off x="6995160" y="1462680"/>
            <a:ext cx="152280" cy="426960"/>
          </a:xfrm>
          <a:custGeom>
            <a:avLst/>
            <a:gdLst>
              <a:gd name="textAreaLeft" fmla="*/ 97200 w 152280"/>
              <a:gd name="textAreaRight" fmla="*/ 152640 w 152280"/>
              <a:gd name="textAreaTop" fmla="*/ 10800 h 426960"/>
              <a:gd name="textAreaBottom" fmla="*/ 416160 h 42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348800" y="3002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573800" y="312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796360" y="406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21720" y="419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554440" y="990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640480" y="121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002360" y="114228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164720" y="1370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/>
          <p:nvPr/>
        </p:nvSpPr>
        <p:spPr>
          <a:xfrm>
            <a:off x="236160" y="2057400"/>
            <a:ext cx="274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3048120" y="990000"/>
            <a:ext cx="4449600" cy="4304160"/>
            <a:chOff x="3048120" y="990000"/>
            <a:chExt cx="4449600" cy="4304160"/>
          </a:xfrm>
        </p:grpSpPr>
        <p:sp>
          <p:nvSpPr>
            <p:cNvPr id="1442" name=""/>
            <p:cNvSpPr/>
            <p:nvPr/>
          </p:nvSpPr>
          <p:spPr>
            <a:xfrm>
              <a:off x="5105520" y="175248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048120" y="1600200"/>
              <a:ext cx="2514600" cy="28954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rot="7599000">
              <a:off x="5471280" y="13104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rot="7599000">
              <a:off x="6995160" y="146268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348800" y="3002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573800" y="312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796360" y="4069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021720" y="4190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554440" y="9900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640480" y="1218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002360" y="11422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164720" y="1370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232200" y="4647600"/>
            <a:ext cx="2494080" cy="611640"/>
            <a:chOff x="232200" y="4647600"/>
            <a:chExt cx="2494080" cy="611640"/>
          </a:xfrm>
        </p:grpSpPr>
        <p:sp>
          <p:nvSpPr>
            <p:cNvPr id="1455" name=""/>
            <p:cNvSpPr/>
            <p:nvPr/>
          </p:nvSpPr>
          <p:spPr>
            <a:xfrm>
              <a:off x="232200" y="4647600"/>
              <a:ext cx="249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 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) +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735920" y="4799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64320" y="4799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8" name=""/>
          <p:cNvSpPr/>
          <p:nvPr/>
        </p:nvSpPr>
        <p:spPr>
          <a:xfrm>
            <a:off x="457200" y="2284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754280" y="312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287800" y="312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602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21148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0760" y="373320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5105520" y="1142280"/>
            <a:ext cx="2216160" cy="4151880"/>
            <a:chOff x="5105520" y="1142280"/>
            <a:chExt cx="2216160" cy="4151880"/>
          </a:xfrm>
        </p:grpSpPr>
        <p:sp>
          <p:nvSpPr>
            <p:cNvPr id="1466" name=""/>
            <p:cNvSpPr/>
            <p:nvPr/>
          </p:nvSpPr>
          <p:spPr>
            <a:xfrm>
              <a:off x="5105520" y="175248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rot="7599000">
              <a:off x="6995160" y="146268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796360" y="4069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002360" y="11422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0" name=""/>
          <p:cNvSpPr/>
          <p:nvPr/>
        </p:nvSpPr>
        <p:spPr>
          <a:xfrm>
            <a:off x="456840" y="1066680"/>
            <a:ext cx="530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ight path length, r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s the length of the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right links to a lea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7" name=""/>
          <p:cNvCxnSpPr>
            <a:stCxn id="1472" idx="3"/>
            <a:endCxn id="1473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8" name=""/>
          <p:cNvCxnSpPr>
            <a:stCxn id="1472" idx="5"/>
            <a:endCxn id="1474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9" name=""/>
          <p:cNvCxnSpPr>
            <a:stCxn id="1473" idx="3"/>
            <a:endCxn id="1475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0" name=""/>
          <p:cNvCxnSpPr>
            <a:stCxn id="1473" idx="5"/>
            <a:endCxn id="1476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1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2" name=""/>
          <p:cNvCxnSpPr>
            <a:stCxn id="1476" idx="3"/>
            <a:endCxn id="1481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3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2" name=""/>
          <p:cNvCxnSpPr>
            <a:stCxn id="1474" idx="5"/>
            <a:endCxn id="1491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3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5" name=""/>
          <p:cNvCxnSpPr>
            <a:stCxn id="1475" idx="5"/>
            <a:endCxn id="1494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6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7" name=""/>
          <p:cNvCxnSpPr>
            <a:endCxn id="1496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8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0" name=""/>
          <p:cNvCxnSpPr>
            <a:endCxn id="1499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1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55880" y="990720"/>
            <a:ext cx="332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l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l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rot="7657800">
            <a:off x="5853240" y="1432440"/>
            <a:ext cx="685800" cy="3535560"/>
          </a:xfrm>
          <a:custGeom>
            <a:avLst/>
            <a:gdLst>
              <a:gd name="textAreaLeft" fmla="*/ 438120 w 685800"/>
              <a:gd name="textAreaRight" fmla="*/ 686160 w 685800"/>
              <a:gd name="textAreaTop" fmla="*/ 92160 h 3535560"/>
              <a:gd name="textAreaBottom" fmla="*/ 3443400 h 353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513600" y="2483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717520" y="228528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l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08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11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17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9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20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4" name=""/>
          <p:cNvSpPr/>
          <p:nvPr/>
        </p:nvSpPr>
        <p:spPr>
          <a:xfrm>
            <a:off x="151920" y="2880360"/>
            <a:ext cx="274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ol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of a left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m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517480" y="27424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1" idx="3"/>
            <a:endCxn id="172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1" idx="5"/>
            <a:endCxn id="173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2" idx="3"/>
            <a:endCxn id="174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5"/>
            <a:endCxn id="175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0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73" idx="5"/>
            <a:endCxn id="191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endCxn id="19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74" idx="3"/>
            <a:endCxn id="196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4" idx="5"/>
            <a:endCxn id="200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94800" y="3724200"/>
            <a:ext cx="202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no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28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31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5" name=""/>
          <p:cNvSpPr/>
          <p:nvPr/>
        </p:nvSpPr>
        <p:spPr>
          <a:xfrm>
            <a:off x="151920" y="2880360"/>
            <a:ext cx="274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ol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of a left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m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517480" y="27424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410440" y="2514600"/>
            <a:ext cx="343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Corol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heor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011720" y="319968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41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44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8" name=""/>
          <p:cNvSpPr/>
          <p:nvPr/>
        </p:nvSpPr>
        <p:spPr>
          <a:xfrm>
            <a:off x="151920" y="2880360"/>
            <a:ext cx="274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ol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of a left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m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517480" y="27424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410440" y="2514600"/>
            <a:ext cx="3432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Corol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heor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012080" y="3275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545600" y="40374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4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55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58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2" name=""/>
          <p:cNvSpPr/>
          <p:nvPr/>
        </p:nvSpPr>
        <p:spPr>
          <a:xfrm>
            <a:off x="151920" y="2880360"/>
            <a:ext cx="274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ol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of a left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m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517480" y="27424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410440" y="2514600"/>
            <a:ext cx="3432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Corol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heor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012080" y="3275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545600" y="40374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69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72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151920" y="2880360"/>
            <a:ext cx="274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ol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of a left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m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517480" y="27424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410440" y="2514600"/>
            <a:ext cx="3432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Corol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heor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012080" y="3275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545600" y="40374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83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3048120" y="2361600"/>
            <a:ext cx="2216160" cy="4151880"/>
            <a:chOff x="3048120" y="2361600"/>
            <a:chExt cx="2216160" cy="4151880"/>
          </a:xfrm>
        </p:grpSpPr>
        <p:sp>
          <p:nvSpPr>
            <p:cNvPr id="1586" name=""/>
            <p:cNvSpPr/>
            <p:nvPr/>
          </p:nvSpPr>
          <p:spPr>
            <a:xfrm>
              <a:off x="3048120" y="297180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rot="7599000">
              <a:off x="4937760" y="26820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738960" y="5289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944960" y="23616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151920" y="2880360"/>
            <a:ext cx="274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ol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of a left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t m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517480" y="27424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410440" y="2514600"/>
            <a:ext cx="3432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Coroll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heor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012080" y="3275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545600" y="40374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6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597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" name=""/>
          <p:cNvSpPr/>
          <p:nvPr/>
        </p:nvSpPr>
        <p:spPr>
          <a:xfrm>
            <a:off x="1142280" y="2666160"/>
            <a:ext cx="59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theorem: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602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4" name=""/>
          <p:cNvSpPr/>
          <p:nvPr/>
        </p:nvSpPr>
        <p:spPr>
          <a:xfrm>
            <a:off x="1145160" y="2666880"/>
            <a:ext cx="652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theorem: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case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 In this case the tree has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one node; i.e.,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= 2  –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167520" y="3839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608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1143000" y="2666880"/>
            <a:ext cx="664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theorem: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step.  Consider a leftist t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nodes on its right path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1144440" y="1066680"/>
            <a:ext cx="6762960" cy="1373760"/>
            <a:chOff x="1144440" y="1066680"/>
            <a:chExt cx="6762960" cy="1373760"/>
          </a:xfrm>
        </p:grpSpPr>
        <p:sp>
          <p:nvSpPr>
            <p:cNvPr id="1613" name=""/>
            <p:cNvSpPr/>
            <p:nvPr/>
          </p:nvSpPr>
          <p:spPr>
            <a:xfrm>
              <a:off x="1144440" y="1066680"/>
              <a:ext cx="6762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orem. (Theorem 6.2 in textbook, restated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is a leftist tree, then size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Math B"/>
                  <a:ea typeface="Math B"/>
                </a:rPr>
                <a:t>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  – 1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+ 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326280" y="137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5" name=""/>
          <p:cNvSpPr/>
          <p:nvPr/>
        </p:nvSpPr>
        <p:spPr>
          <a:xfrm>
            <a:off x="1143000" y="2666880"/>
            <a:ext cx="664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 of the theorem: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step.  Consider a leftist t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nodes on its right path.   (We will s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     – 1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506760" y="426600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143000" y="2666880"/>
            <a:ext cx="664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step.  Consider a leftist t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nodes on its right path.   Then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right sub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, and a left subtree with at lea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its right path —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092480" y="1420920"/>
            <a:ext cx="1589040" cy="20080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362320" y="1676520"/>
            <a:ext cx="2022480" cy="164124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rot="7599000">
            <a:off x="5631480" y="120564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366000" y="235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557880" y="244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607640" y="262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589360" y="963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572000" y="838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411480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876920" y="1066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752480" y="838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848160" y="17596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rot="7599000">
            <a:off x="4293360" y="153720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251240" y="1218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421520" y="144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78960" y="19882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174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5" idx="3"/>
            <a:endCxn id="206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5" idx="5"/>
            <a:endCxn id="207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6" idx="3"/>
            <a:endCxn id="208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6" idx="5"/>
            <a:endCxn id="209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09" idx="3"/>
            <a:endCxn id="214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07" idx="5"/>
            <a:endCxn id="225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endCxn id="227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08" idx="3"/>
            <a:endCxn id="230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8" idx="5"/>
            <a:endCxn id="234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94800" y="3724200"/>
            <a:ext cx="202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no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2080200">
            <a:off x="761760" y="4343040"/>
            <a:ext cx="609480" cy="1981080"/>
          </a:xfrm>
          <a:custGeom>
            <a:avLst/>
            <a:gdLst>
              <a:gd name="textAreaLeft" fmla="*/ 389520 w 609480"/>
              <a:gd name="textAreaRight" fmla="*/ 609840 w 6094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60" y="4038480"/>
            <a:ext cx="176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141560" y="2666880"/>
            <a:ext cx="74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ctive step.  Consider a leftist t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 nodes on its right path.   Then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right subtre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, and a left subtree with at lea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its right path (otherwi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uld not be leftis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092480" y="1420920"/>
            <a:ext cx="1589040" cy="20080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362320" y="1676520"/>
            <a:ext cx="2022480" cy="164124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rot="7599000">
            <a:off x="5631480" y="120564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366000" y="235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557880" y="244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607640" y="262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589360" y="963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572000" y="838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411480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876920" y="1066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752480" y="838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848160" y="17596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rot="7599000">
            <a:off x="4293360" y="153720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251240" y="1218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4421520" y="144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078960" y="19882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74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138320" y="2666880"/>
            <a:ext cx="714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the inductive hypothesis, and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 in the diagram,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92480" y="1420920"/>
            <a:ext cx="1589040" cy="20080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362320" y="1676520"/>
            <a:ext cx="2022480" cy="164124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rot="7599000">
            <a:off x="5631480" y="120564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366000" y="235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557880" y="244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607640" y="262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589360" y="963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572000" y="838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411480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876920" y="1066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752480" y="838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848160" y="17596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rot="7599000">
            <a:off x="4293360" y="153720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251240" y="1218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421520" y="144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078960" y="19882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174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138320" y="2666880"/>
            <a:ext cx="714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the inductive hypothesis, and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 in the diag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092480" y="1420920"/>
            <a:ext cx="1589040" cy="20080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362320" y="1676520"/>
            <a:ext cx="2022480" cy="164124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rot="7599000">
            <a:off x="5631480" y="120564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366000" y="235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557880" y="244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607640" y="262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589360" y="963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572000" y="838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411480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876920" y="1066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752480" y="838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848160" y="17596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rot="7599000">
            <a:off x="4293360" y="153720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251240" y="1218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421520" y="144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078960" y="19882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174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421520" y="495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335920" y="51044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335920" y="4647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138320" y="2666880"/>
            <a:ext cx="7148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the inductive hypothesis, and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 in the diag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r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     – 1.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092480" y="1420920"/>
            <a:ext cx="1589040" cy="20080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362320" y="1676520"/>
            <a:ext cx="2022480" cy="164124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rot="7599000">
            <a:off x="5631480" y="120564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366000" y="235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557880" y="244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607640" y="262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589360" y="963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572000" y="838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H="1">
            <a:off x="411480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876920" y="1066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752480" y="838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848160" y="17596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rot="7599000">
            <a:off x="4293360" y="153720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251240" y="1218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21520" y="144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078960" y="19882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174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21520" y="495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335920" y="51044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335920" y="4647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488560" y="59425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174680" y="2666880"/>
            <a:ext cx="7148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the inductive hypothesis, and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 in the diag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– 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r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       – 1.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092480" y="1420920"/>
            <a:ext cx="1589040" cy="20080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362320" y="1676520"/>
            <a:ext cx="2022480" cy="164124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rot="7599000">
            <a:off x="5631480" y="120564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366000" y="2359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557880" y="244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607640" y="262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589360" y="9630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572000" y="838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4114800" y="1066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876920" y="10666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752480" y="838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848160" y="175968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rot="7599000">
            <a:off x="4293360" y="1537200"/>
            <a:ext cx="85680" cy="344520"/>
          </a:xfrm>
          <a:custGeom>
            <a:avLst/>
            <a:gdLst>
              <a:gd name="textAreaLeft" fmla="*/ 54720 w 85680"/>
              <a:gd name="textAreaRight" fmla="*/ 86040 w 8568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251240" y="12186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421520" y="144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6078960" y="19882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174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421520" y="495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335920" y="51044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335920" y="4647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488560" y="59425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09120" y="837360"/>
            <a:ext cx="42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algorithm, appli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9" name=""/>
          <p:cNvCxnSpPr>
            <a:stCxn id="1744" idx="3"/>
            <a:endCxn id="1745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"/>
          <p:cNvCxnSpPr>
            <a:stCxn id="1744" idx="5"/>
            <a:endCxn id="1746" idx="1"/>
          </p:cNvCxnSpPr>
          <p:nvPr/>
        </p:nvCxnSpPr>
        <p:spPr>
          <a:xfrm>
            <a:off x="3274560" y="25131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1" name=""/>
          <p:cNvCxnSpPr>
            <a:stCxn id="1745" idx="3"/>
            <a:endCxn id="1747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2" name=""/>
          <p:cNvCxnSpPr>
            <a:stCxn id="1745" idx="5"/>
            <a:endCxn id="1748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3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"/>
          <p:cNvCxnSpPr>
            <a:stCxn id="1748" idx="3"/>
            <a:endCxn id="1753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5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1166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3" name=""/>
          <p:cNvCxnSpPr>
            <a:endCxn id="1762" idx="7"/>
          </p:cNvCxnSpPr>
          <p:nvPr/>
        </p:nvCxnSpPr>
        <p:spPr>
          <a:xfrm flipH="1">
            <a:off x="3579840" y="34272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4" name=""/>
          <p:cNvSpPr/>
          <p:nvPr/>
        </p:nvSpPr>
        <p:spPr>
          <a:xfrm>
            <a:off x="32018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558880" y="5486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6" name=""/>
          <p:cNvCxnSpPr>
            <a:endCxn id="1765" idx="7"/>
          </p:cNvCxnSpPr>
          <p:nvPr/>
        </p:nvCxnSpPr>
        <p:spPr>
          <a:xfrm flipH="1">
            <a:off x="3014280" y="4646160"/>
            <a:ext cx="3088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7" name=""/>
          <p:cNvSpPr/>
          <p:nvPr/>
        </p:nvSpPr>
        <p:spPr>
          <a:xfrm>
            <a:off x="263664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783480" y="22114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4878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80024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4268880" y="4268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24996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3" name=""/>
          <p:cNvCxnSpPr>
            <a:stCxn id="1768" idx="3"/>
            <a:endCxn id="1769" idx="7"/>
          </p:cNvCxnSpPr>
          <p:nvPr/>
        </p:nvCxnSpPr>
        <p:spPr>
          <a:xfrm flipH="1">
            <a:off x="5942880" y="2666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4" name=""/>
          <p:cNvCxnSpPr>
            <a:stCxn id="1768" idx="5"/>
            <a:endCxn id="1770" idx="1"/>
          </p:cNvCxnSpPr>
          <p:nvPr/>
        </p:nvCxnSpPr>
        <p:spPr>
          <a:xfrm>
            <a:off x="7238520" y="2666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5" name=""/>
          <p:cNvCxnSpPr>
            <a:stCxn id="1769" idx="3"/>
            <a:endCxn id="1771" idx="7"/>
          </p:cNvCxnSpPr>
          <p:nvPr/>
        </p:nvCxnSpPr>
        <p:spPr>
          <a:xfrm flipH="1">
            <a:off x="4723560" y="35812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6" name=""/>
          <p:cNvCxnSpPr>
            <a:stCxn id="1769" idx="5"/>
            <a:endCxn id="1772" idx="1"/>
          </p:cNvCxnSpPr>
          <p:nvPr/>
        </p:nvCxnSpPr>
        <p:spPr>
          <a:xfrm>
            <a:off x="5943240" y="35812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7" name=""/>
          <p:cNvSpPr/>
          <p:nvPr/>
        </p:nvSpPr>
        <p:spPr>
          <a:xfrm>
            <a:off x="5564160" y="5564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8" name=""/>
          <p:cNvCxnSpPr>
            <a:stCxn id="1772" idx="3"/>
            <a:endCxn id="1777" idx="7"/>
          </p:cNvCxnSpPr>
          <p:nvPr/>
        </p:nvCxnSpPr>
        <p:spPr>
          <a:xfrm flipH="1">
            <a:off x="6019200" y="47239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9" name=""/>
          <p:cNvSpPr/>
          <p:nvPr/>
        </p:nvSpPr>
        <p:spPr>
          <a:xfrm>
            <a:off x="6827760" y="22114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564160" y="3201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251400" y="426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641920" y="564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268880" y="434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8080560" y="320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5869080" y="28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08804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7" name=""/>
          <p:cNvCxnSpPr>
            <a:endCxn id="1786" idx="7"/>
          </p:cNvCxnSpPr>
          <p:nvPr/>
        </p:nvCxnSpPr>
        <p:spPr>
          <a:xfrm flipH="1">
            <a:off x="7543800" y="358128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8" name=""/>
          <p:cNvSpPr/>
          <p:nvPr/>
        </p:nvSpPr>
        <p:spPr>
          <a:xfrm>
            <a:off x="7165800" y="4344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84582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5359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838188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5640840" y="205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861160" y="23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12000" y="838080"/>
            <a:ext cx="803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ither of the two heaps is empty, we can retur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3" name=""/>
          <p:cNvCxnSpPr>
            <a:stCxn id="1798" idx="3"/>
            <a:endCxn id="1799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4" name=""/>
          <p:cNvCxnSpPr>
            <a:stCxn id="1798" idx="5"/>
            <a:endCxn id="1800" idx="1"/>
          </p:cNvCxnSpPr>
          <p:nvPr/>
        </p:nvCxnSpPr>
        <p:spPr>
          <a:xfrm>
            <a:off x="3274560" y="25131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5" name=""/>
          <p:cNvCxnSpPr>
            <a:stCxn id="1799" idx="3"/>
            <a:endCxn id="1801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6" name=""/>
          <p:cNvCxnSpPr>
            <a:stCxn id="1799" idx="5"/>
            <a:endCxn id="1802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7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8" name=""/>
          <p:cNvCxnSpPr>
            <a:stCxn id="1802" idx="3"/>
            <a:endCxn id="1807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9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1166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7" name=""/>
          <p:cNvCxnSpPr>
            <a:endCxn id="1816" idx="7"/>
          </p:cNvCxnSpPr>
          <p:nvPr/>
        </p:nvCxnSpPr>
        <p:spPr>
          <a:xfrm flipH="1">
            <a:off x="3579840" y="34272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8" name=""/>
          <p:cNvSpPr/>
          <p:nvPr/>
        </p:nvSpPr>
        <p:spPr>
          <a:xfrm>
            <a:off x="32018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558880" y="5486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0" name=""/>
          <p:cNvCxnSpPr>
            <a:endCxn id="1819" idx="7"/>
          </p:cNvCxnSpPr>
          <p:nvPr/>
        </p:nvCxnSpPr>
        <p:spPr>
          <a:xfrm flipH="1">
            <a:off x="3014280" y="4646160"/>
            <a:ext cx="3088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1" name=""/>
          <p:cNvSpPr/>
          <p:nvPr/>
        </p:nvSpPr>
        <p:spPr>
          <a:xfrm>
            <a:off x="263664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783480" y="22114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54878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0024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268880" y="4268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624996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7" name=""/>
          <p:cNvCxnSpPr>
            <a:stCxn id="1822" idx="3"/>
            <a:endCxn id="1823" idx="7"/>
          </p:cNvCxnSpPr>
          <p:nvPr/>
        </p:nvCxnSpPr>
        <p:spPr>
          <a:xfrm flipH="1">
            <a:off x="5942880" y="2666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8" name=""/>
          <p:cNvCxnSpPr>
            <a:stCxn id="1822" idx="5"/>
            <a:endCxn id="1824" idx="1"/>
          </p:cNvCxnSpPr>
          <p:nvPr/>
        </p:nvCxnSpPr>
        <p:spPr>
          <a:xfrm>
            <a:off x="7238520" y="2666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9" name=""/>
          <p:cNvCxnSpPr>
            <a:stCxn id="1823" idx="3"/>
            <a:endCxn id="1825" idx="7"/>
          </p:cNvCxnSpPr>
          <p:nvPr/>
        </p:nvCxnSpPr>
        <p:spPr>
          <a:xfrm flipH="1">
            <a:off x="4723560" y="35812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0" name=""/>
          <p:cNvCxnSpPr>
            <a:stCxn id="1823" idx="5"/>
            <a:endCxn id="1826" idx="1"/>
          </p:cNvCxnSpPr>
          <p:nvPr/>
        </p:nvCxnSpPr>
        <p:spPr>
          <a:xfrm>
            <a:off x="5943240" y="35812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1" name=""/>
          <p:cNvSpPr/>
          <p:nvPr/>
        </p:nvSpPr>
        <p:spPr>
          <a:xfrm>
            <a:off x="5564160" y="5564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2" name=""/>
          <p:cNvCxnSpPr>
            <a:stCxn id="1826" idx="3"/>
            <a:endCxn id="1831" idx="7"/>
          </p:cNvCxnSpPr>
          <p:nvPr/>
        </p:nvCxnSpPr>
        <p:spPr>
          <a:xfrm flipH="1">
            <a:off x="6019200" y="47239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3" name=""/>
          <p:cNvSpPr/>
          <p:nvPr/>
        </p:nvSpPr>
        <p:spPr>
          <a:xfrm>
            <a:off x="6827760" y="22114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564160" y="3201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251400" y="426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641920" y="564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268880" y="434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8080560" y="320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869080" y="28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708804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1" name=""/>
          <p:cNvCxnSpPr>
            <a:endCxn id="1840" idx="7"/>
          </p:cNvCxnSpPr>
          <p:nvPr/>
        </p:nvCxnSpPr>
        <p:spPr>
          <a:xfrm flipH="1">
            <a:off x="7543800" y="358128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2" name=""/>
          <p:cNvSpPr/>
          <p:nvPr/>
        </p:nvSpPr>
        <p:spPr>
          <a:xfrm>
            <a:off x="7165800" y="4344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84582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85359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838188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640840" y="205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5861160" y="23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10200" y="838080"/>
            <a:ext cx="46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neither is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"/>
          <p:cNvCxnSpPr>
            <a:stCxn id="1852" idx="3"/>
            <a:endCxn id="1853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8" name=""/>
          <p:cNvCxnSpPr>
            <a:stCxn id="1852" idx="5"/>
            <a:endCxn id="1854" idx="1"/>
          </p:cNvCxnSpPr>
          <p:nvPr/>
        </p:nvCxnSpPr>
        <p:spPr>
          <a:xfrm>
            <a:off x="3274560" y="25131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9" name=""/>
          <p:cNvCxnSpPr>
            <a:stCxn id="1853" idx="3"/>
            <a:endCxn id="1855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0" name=""/>
          <p:cNvCxnSpPr>
            <a:stCxn id="1853" idx="5"/>
            <a:endCxn id="1856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1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2" name=""/>
          <p:cNvCxnSpPr>
            <a:stCxn id="1856" idx="3"/>
            <a:endCxn id="1861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3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1166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1" name=""/>
          <p:cNvCxnSpPr>
            <a:endCxn id="1870" idx="7"/>
          </p:cNvCxnSpPr>
          <p:nvPr/>
        </p:nvCxnSpPr>
        <p:spPr>
          <a:xfrm flipH="1">
            <a:off x="3579840" y="34272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2" name=""/>
          <p:cNvSpPr/>
          <p:nvPr/>
        </p:nvSpPr>
        <p:spPr>
          <a:xfrm>
            <a:off x="32018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558880" y="5486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4" name=""/>
          <p:cNvCxnSpPr>
            <a:endCxn id="1873" idx="7"/>
          </p:cNvCxnSpPr>
          <p:nvPr/>
        </p:nvCxnSpPr>
        <p:spPr>
          <a:xfrm flipH="1">
            <a:off x="3014280" y="4646160"/>
            <a:ext cx="3088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5" name=""/>
          <p:cNvSpPr/>
          <p:nvPr/>
        </p:nvSpPr>
        <p:spPr>
          <a:xfrm>
            <a:off x="263664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783480" y="22114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4878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0024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268880" y="4268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24996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1" name=""/>
          <p:cNvCxnSpPr>
            <a:stCxn id="1876" idx="3"/>
            <a:endCxn id="1877" idx="7"/>
          </p:cNvCxnSpPr>
          <p:nvPr/>
        </p:nvCxnSpPr>
        <p:spPr>
          <a:xfrm flipH="1">
            <a:off x="5942880" y="2666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2" name=""/>
          <p:cNvCxnSpPr>
            <a:stCxn id="1876" idx="5"/>
            <a:endCxn id="1878" idx="1"/>
          </p:cNvCxnSpPr>
          <p:nvPr/>
        </p:nvCxnSpPr>
        <p:spPr>
          <a:xfrm>
            <a:off x="7238520" y="2666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3" name=""/>
          <p:cNvCxnSpPr>
            <a:stCxn id="1877" idx="3"/>
            <a:endCxn id="1879" idx="7"/>
          </p:cNvCxnSpPr>
          <p:nvPr/>
        </p:nvCxnSpPr>
        <p:spPr>
          <a:xfrm flipH="1">
            <a:off x="4723560" y="35812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4" name=""/>
          <p:cNvCxnSpPr>
            <a:stCxn id="1877" idx="5"/>
            <a:endCxn id="1880" idx="1"/>
          </p:cNvCxnSpPr>
          <p:nvPr/>
        </p:nvCxnSpPr>
        <p:spPr>
          <a:xfrm>
            <a:off x="5943240" y="35812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5" name=""/>
          <p:cNvSpPr/>
          <p:nvPr/>
        </p:nvSpPr>
        <p:spPr>
          <a:xfrm>
            <a:off x="5564160" y="5564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6" name=""/>
          <p:cNvCxnSpPr>
            <a:stCxn id="1880" idx="3"/>
            <a:endCxn id="1885" idx="7"/>
          </p:cNvCxnSpPr>
          <p:nvPr/>
        </p:nvCxnSpPr>
        <p:spPr>
          <a:xfrm flipH="1">
            <a:off x="6019200" y="47239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7" name=""/>
          <p:cNvSpPr/>
          <p:nvPr/>
        </p:nvSpPr>
        <p:spPr>
          <a:xfrm>
            <a:off x="6827760" y="22114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564160" y="3201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251400" y="426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5641920" y="564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268880" y="434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8080560" y="320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869080" y="28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08804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5" name=""/>
          <p:cNvCxnSpPr>
            <a:endCxn id="1894" idx="7"/>
          </p:cNvCxnSpPr>
          <p:nvPr/>
        </p:nvCxnSpPr>
        <p:spPr>
          <a:xfrm flipH="1">
            <a:off x="7543800" y="358128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6" name=""/>
          <p:cNvSpPr/>
          <p:nvPr/>
        </p:nvSpPr>
        <p:spPr>
          <a:xfrm>
            <a:off x="7165800" y="4344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84582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85359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838188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5640840" y="205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861160" y="23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10920" y="838080"/>
            <a:ext cx="764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neither is empty, so we compare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s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1" name=""/>
          <p:cNvCxnSpPr>
            <a:stCxn id="1906" idx="3"/>
            <a:endCxn id="1907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2" name=""/>
          <p:cNvCxnSpPr>
            <a:stCxn id="1906" idx="5"/>
            <a:endCxn id="1908" idx="1"/>
          </p:cNvCxnSpPr>
          <p:nvPr/>
        </p:nvCxnSpPr>
        <p:spPr>
          <a:xfrm>
            <a:off x="3274560" y="25131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3" name=""/>
          <p:cNvCxnSpPr>
            <a:stCxn id="1907" idx="3"/>
            <a:endCxn id="1909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4" name=""/>
          <p:cNvCxnSpPr>
            <a:stCxn id="1907" idx="5"/>
            <a:endCxn id="1910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5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6" name=""/>
          <p:cNvCxnSpPr>
            <a:stCxn id="1910" idx="3"/>
            <a:endCxn id="1915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7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41166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5" name=""/>
          <p:cNvCxnSpPr>
            <a:endCxn id="1924" idx="7"/>
          </p:cNvCxnSpPr>
          <p:nvPr/>
        </p:nvCxnSpPr>
        <p:spPr>
          <a:xfrm flipH="1">
            <a:off x="3579840" y="34272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6" name=""/>
          <p:cNvSpPr/>
          <p:nvPr/>
        </p:nvSpPr>
        <p:spPr>
          <a:xfrm>
            <a:off x="32018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558880" y="5486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8" name=""/>
          <p:cNvCxnSpPr>
            <a:endCxn id="1927" idx="7"/>
          </p:cNvCxnSpPr>
          <p:nvPr/>
        </p:nvCxnSpPr>
        <p:spPr>
          <a:xfrm flipH="1">
            <a:off x="3014280" y="4646160"/>
            <a:ext cx="3088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9" name=""/>
          <p:cNvSpPr/>
          <p:nvPr/>
        </p:nvSpPr>
        <p:spPr>
          <a:xfrm>
            <a:off x="263664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783480" y="22114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54878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80024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268880" y="4268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24996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5" name=""/>
          <p:cNvCxnSpPr>
            <a:stCxn id="1930" idx="3"/>
            <a:endCxn id="1931" idx="7"/>
          </p:cNvCxnSpPr>
          <p:nvPr/>
        </p:nvCxnSpPr>
        <p:spPr>
          <a:xfrm flipH="1">
            <a:off x="5942880" y="2666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6" name=""/>
          <p:cNvCxnSpPr>
            <a:stCxn id="1930" idx="5"/>
            <a:endCxn id="1932" idx="1"/>
          </p:cNvCxnSpPr>
          <p:nvPr/>
        </p:nvCxnSpPr>
        <p:spPr>
          <a:xfrm>
            <a:off x="7238520" y="2666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7" name=""/>
          <p:cNvCxnSpPr>
            <a:stCxn id="1931" idx="3"/>
            <a:endCxn id="1933" idx="7"/>
          </p:cNvCxnSpPr>
          <p:nvPr/>
        </p:nvCxnSpPr>
        <p:spPr>
          <a:xfrm flipH="1">
            <a:off x="4723560" y="35812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8" name=""/>
          <p:cNvCxnSpPr>
            <a:stCxn id="1931" idx="5"/>
            <a:endCxn id="1934" idx="1"/>
          </p:cNvCxnSpPr>
          <p:nvPr/>
        </p:nvCxnSpPr>
        <p:spPr>
          <a:xfrm>
            <a:off x="5943240" y="35812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9" name=""/>
          <p:cNvSpPr/>
          <p:nvPr/>
        </p:nvSpPr>
        <p:spPr>
          <a:xfrm>
            <a:off x="5564160" y="5564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0" name=""/>
          <p:cNvCxnSpPr>
            <a:stCxn id="1934" idx="3"/>
            <a:endCxn id="1939" idx="7"/>
          </p:cNvCxnSpPr>
          <p:nvPr/>
        </p:nvCxnSpPr>
        <p:spPr>
          <a:xfrm flipH="1">
            <a:off x="6019200" y="47239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1" name=""/>
          <p:cNvSpPr/>
          <p:nvPr/>
        </p:nvSpPr>
        <p:spPr>
          <a:xfrm>
            <a:off x="6827760" y="22114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5564160" y="3201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251400" y="426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641920" y="564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268880" y="434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8080560" y="320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5869080" y="28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08804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9" name=""/>
          <p:cNvCxnSpPr>
            <a:endCxn id="1948" idx="7"/>
          </p:cNvCxnSpPr>
          <p:nvPr/>
        </p:nvCxnSpPr>
        <p:spPr>
          <a:xfrm flipH="1">
            <a:off x="7543800" y="358128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0" name=""/>
          <p:cNvSpPr/>
          <p:nvPr/>
        </p:nvSpPr>
        <p:spPr>
          <a:xfrm>
            <a:off x="7165800" y="4344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84582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85359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838188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640840" y="205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861160" y="23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12000" y="838080"/>
            <a:ext cx="75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and recursively merge the heap with the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5" name=""/>
          <p:cNvCxnSpPr>
            <a:stCxn id="1960" idx="3"/>
            <a:endCxn id="1961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6" name=""/>
          <p:cNvCxnSpPr>
            <a:stCxn id="1960" idx="5"/>
            <a:endCxn id="1962" idx="1"/>
          </p:cNvCxnSpPr>
          <p:nvPr/>
        </p:nvCxnSpPr>
        <p:spPr>
          <a:xfrm>
            <a:off x="3274560" y="25131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7" name=""/>
          <p:cNvCxnSpPr>
            <a:stCxn id="1961" idx="3"/>
            <a:endCxn id="1963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8" name=""/>
          <p:cNvCxnSpPr>
            <a:stCxn id="1961" idx="5"/>
            <a:endCxn id="1964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9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0" name=""/>
          <p:cNvCxnSpPr>
            <a:stCxn id="1964" idx="3"/>
            <a:endCxn id="1969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1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66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9" name=""/>
          <p:cNvCxnSpPr>
            <a:endCxn id="1978" idx="7"/>
          </p:cNvCxnSpPr>
          <p:nvPr/>
        </p:nvCxnSpPr>
        <p:spPr>
          <a:xfrm flipH="1">
            <a:off x="3579840" y="34272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0" name=""/>
          <p:cNvSpPr/>
          <p:nvPr/>
        </p:nvSpPr>
        <p:spPr>
          <a:xfrm>
            <a:off x="32018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558880" y="5486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2" name=""/>
          <p:cNvCxnSpPr>
            <a:endCxn id="1981" idx="7"/>
          </p:cNvCxnSpPr>
          <p:nvPr/>
        </p:nvCxnSpPr>
        <p:spPr>
          <a:xfrm flipH="1">
            <a:off x="3014280" y="4646160"/>
            <a:ext cx="3088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3" name=""/>
          <p:cNvSpPr/>
          <p:nvPr/>
        </p:nvSpPr>
        <p:spPr>
          <a:xfrm>
            <a:off x="263664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783480" y="22114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4878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8001000" y="3124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268880" y="4268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24996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9" name=""/>
          <p:cNvCxnSpPr>
            <a:stCxn id="1984" idx="3"/>
            <a:endCxn id="1985" idx="7"/>
          </p:cNvCxnSpPr>
          <p:nvPr/>
        </p:nvCxnSpPr>
        <p:spPr>
          <a:xfrm flipH="1">
            <a:off x="5942880" y="2666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0" name=""/>
          <p:cNvCxnSpPr>
            <a:stCxn id="1984" idx="5"/>
            <a:endCxn id="1986" idx="1"/>
          </p:cNvCxnSpPr>
          <p:nvPr/>
        </p:nvCxnSpPr>
        <p:spPr>
          <a:xfrm>
            <a:off x="7238520" y="2666880"/>
            <a:ext cx="84060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1" name=""/>
          <p:cNvCxnSpPr>
            <a:stCxn id="1985" idx="3"/>
            <a:endCxn id="1987" idx="7"/>
          </p:cNvCxnSpPr>
          <p:nvPr/>
        </p:nvCxnSpPr>
        <p:spPr>
          <a:xfrm flipH="1">
            <a:off x="4723560" y="35812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2" name=""/>
          <p:cNvCxnSpPr>
            <a:stCxn id="1985" idx="5"/>
            <a:endCxn id="1988" idx="1"/>
          </p:cNvCxnSpPr>
          <p:nvPr/>
        </p:nvCxnSpPr>
        <p:spPr>
          <a:xfrm>
            <a:off x="5943240" y="35812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3" name=""/>
          <p:cNvSpPr/>
          <p:nvPr/>
        </p:nvSpPr>
        <p:spPr>
          <a:xfrm>
            <a:off x="5564160" y="5564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4" name=""/>
          <p:cNvCxnSpPr>
            <a:stCxn id="1988" idx="3"/>
            <a:endCxn id="1993" idx="7"/>
          </p:cNvCxnSpPr>
          <p:nvPr/>
        </p:nvCxnSpPr>
        <p:spPr>
          <a:xfrm flipH="1">
            <a:off x="6019200" y="47239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5" name=""/>
          <p:cNvSpPr/>
          <p:nvPr/>
        </p:nvSpPr>
        <p:spPr>
          <a:xfrm>
            <a:off x="6827760" y="22114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564160" y="3201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6251400" y="426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641920" y="564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268880" y="434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8080560" y="320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869080" y="28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708804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3" name=""/>
          <p:cNvCxnSpPr>
            <a:endCxn id="2002" idx="7"/>
          </p:cNvCxnSpPr>
          <p:nvPr/>
        </p:nvCxnSpPr>
        <p:spPr>
          <a:xfrm flipH="1">
            <a:off x="7543800" y="358128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4" name=""/>
          <p:cNvSpPr/>
          <p:nvPr/>
        </p:nvSpPr>
        <p:spPr>
          <a:xfrm>
            <a:off x="7165800" y="4344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84582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85359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838188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640840" y="205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861160" y="23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rot="1204800">
            <a:off x="6400800" y="1905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1" idx="3"/>
            <a:endCxn id="242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1" idx="5"/>
            <a:endCxn id="243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42" idx="3"/>
            <a:endCxn id="244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2" idx="5"/>
            <a:endCxn id="245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5" idx="3"/>
            <a:endCxn id="250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43" idx="5"/>
            <a:endCxn id="261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endCxn id="263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6095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44" idx="3"/>
            <a:endCxn id="266" idx="7"/>
          </p:cNvCxnSpPr>
          <p:nvPr/>
        </p:nvCxnSpPr>
        <p:spPr>
          <a:xfrm flipH="1">
            <a:off x="1293840" y="5256360"/>
            <a:ext cx="5367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8380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44" idx="5"/>
            <a:endCxn id="270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2080200">
            <a:off x="761760" y="4343040"/>
            <a:ext cx="609480" cy="1981080"/>
          </a:xfrm>
          <a:custGeom>
            <a:avLst/>
            <a:gdLst>
              <a:gd name="textAreaLeft" fmla="*/ 389520 w 609480"/>
              <a:gd name="textAreaRight" fmla="*/ 609840 w 6094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0400" y="44956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10920" y="838080"/>
            <a:ext cx="672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with the right subheap of the other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0" name=""/>
          <p:cNvCxnSpPr>
            <a:stCxn id="2015" idx="3"/>
            <a:endCxn id="2016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1" name=""/>
          <p:cNvCxnSpPr>
            <a:stCxn id="2015" idx="5"/>
            <a:endCxn id="2017" idx="1"/>
          </p:cNvCxnSpPr>
          <p:nvPr/>
        </p:nvCxnSpPr>
        <p:spPr>
          <a:xfrm>
            <a:off x="3274560" y="25131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2" name=""/>
          <p:cNvCxnSpPr>
            <a:stCxn id="2016" idx="3"/>
            <a:endCxn id="2018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3" name=""/>
          <p:cNvCxnSpPr>
            <a:stCxn id="2016" idx="5"/>
            <a:endCxn id="2019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4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5" name=""/>
          <p:cNvCxnSpPr>
            <a:stCxn id="2019" idx="3"/>
            <a:endCxn id="2024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6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41166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12408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4" name=""/>
          <p:cNvCxnSpPr>
            <a:endCxn id="2033" idx="7"/>
          </p:cNvCxnSpPr>
          <p:nvPr/>
        </p:nvCxnSpPr>
        <p:spPr>
          <a:xfrm flipH="1">
            <a:off x="3579840" y="34272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5" name=""/>
          <p:cNvSpPr/>
          <p:nvPr/>
        </p:nvSpPr>
        <p:spPr>
          <a:xfrm>
            <a:off x="320184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558880" y="5486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7" name=""/>
          <p:cNvCxnSpPr>
            <a:endCxn id="2036" idx="7"/>
          </p:cNvCxnSpPr>
          <p:nvPr/>
        </p:nvCxnSpPr>
        <p:spPr>
          <a:xfrm flipH="1">
            <a:off x="3014280" y="4646160"/>
            <a:ext cx="3088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8" name=""/>
          <p:cNvSpPr/>
          <p:nvPr/>
        </p:nvSpPr>
        <p:spPr>
          <a:xfrm>
            <a:off x="263664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6783480" y="22114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4878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8002440" y="3125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268880" y="4268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24996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4" name=""/>
          <p:cNvCxnSpPr>
            <a:stCxn id="2039" idx="3"/>
            <a:endCxn id="2040" idx="7"/>
          </p:cNvCxnSpPr>
          <p:nvPr/>
        </p:nvCxnSpPr>
        <p:spPr>
          <a:xfrm flipH="1">
            <a:off x="5942880" y="2666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5" name=""/>
          <p:cNvCxnSpPr>
            <a:stCxn id="2039" idx="5"/>
            <a:endCxn id="2041" idx="1"/>
          </p:cNvCxnSpPr>
          <p:nvPr/>
        </p:nvCxnSpPr>
        <p:spPr>
          <a:xfrm>
            <a:off x="7238520" y="2666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6" name=""/>
          <p:cNvCxnSpPr>
            <a:stCxn id="2040" idx="3"/>
            <a:endCxn id="2042" idx="7"/>
          </p:cNvCxnSpPr>
          <p:nvPr/>
        </p:nvCxnSpPr>
        <p:spPr>
          <a:xfrm flipH="1">
            <a:off x="4723560" y="3581280"/>
            <a:ext cx="842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7" name=""/>
          <p:cNvCxnSpPr>
            <a:stCxn id="2040" idx="5"/>
            <a:endCxn id="2043" idx="1"/>
          </p:cNvCxnSpPr>
          <p:nvPr/>
        </p:nvCxnSpPr>
        <p:spPr>
          <a:xfrm>
            <a:off x="5943240" y="35812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8" name=""/>
          <p:cNvSpPr/>
          <p:nvPr/>
        </p:nvSpPr>
        <p:spPr>
          <a:xfrm>
            <a:off x="5564160" y="5564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9" name=""/>
          <p:cNvCxnSpPr>
            <a:stCxn id="2043" idx="3"/>
            <a:endCxn id="2048" idx="7"/>
          </p:cNvCxnSpPr>
          <p:nvPr/>
        </p:nvCxnSpPr>
        <p:spPr>
          <a:xfrm flipH="1">
            <a:off x="6019200" y="47239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0" name=""/>
          <p:cNvSpPr/>
          <p:nvPr/>
        </p:nvSpPr>
        <p:spPr>
          <a:xfrm>
            <a:off x="6827760" y="22114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564160" y="3201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251400" y="4268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641920" y="564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268880" y="4344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8080560" y="320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869080" y="280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088040" y="4268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8" name=""/>
          <p:cNvCxnSpPr>
            <a:endCxn id="2057" idx="7"/>
          </p:cNvCxnSpPr>
          <p:nvPr/>
        </p:nvCxnSpPr>
        <p:spPr>
          <a:xfrm flipH="1">
            <a:off x="7543800" y="358128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9" name=""/>
          <p:cNvSpPr/>
          <p:nvPr/>
        </p:nvSpPr>
        <p:spPr>
          <a:xfrm>
            <a:off x="7165800" y="4344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84582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8535960" y="441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838188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640840" y="205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861160" y="231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 rot="1204800">
            <a:off x="6400800" y="1905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 rot="4603800">
            <a:off x="3962160" y="24379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10200" y="838080"/>
            <a:ext cx="271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produc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78952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6" name=""/>
          <p:cNvCxnSpPr>
            <a:stCxn id="2071" idx="3"/>
            <a:endCxn id="2072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7" name=""/>
          <p:cNvCxnSpPr>
            <a:stCxn id="2078" idx="1"/>
            <a:endCxn id="2073" idx="0"/>
          </p:cNvCxnSpPr>
          <p:nvPr/>
        </p:nvCxnSpPr>
        <p:spPr>
          <a:xfrm flipH="1">
            <a:off x="605556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9" name=""/>
          <p:cNvCxnSpPr>
            <a:stCxn id="2072" idx="3"/>
            <a:endCxn id="2074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0" name=""/>
          <p:cNvCxnSpPr>
            <a:stCxn id="2072" idx="5"/>
            <a:endCxn id="2075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1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2" name=""/>
          <p:cNvCxnSpPr>
            <a:stCxn id="2075" idx="3"/>
            <a:endCxn id="2081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3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86764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87512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1" name=""/>
          <p:cNvCxnSpPr>
            <a:endCxn id="2090" idx="7"/>
          </p:cNvCxnSpPr>
          <p:nvPr/>
        </p:nvCxnSpPr>
        <p:spPr>
          <a:xfrm flipH="1">
            <a:off x="533088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2" name=""/>
          <p:cNvSpPr/>
          <p:nvPr/>
        </p:nvSpPr>
        <p:spPr>
          <a:xfrm>
            <a:off x="495288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34196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4" name=""/>
          <p:cNvCxnSpPr>
            <a:stCxn id="2092" idx="2"/>
            <a:endCxn id="2093" idx="7"/>
          </p:cNvCxnSpPr>
          <p:nvPr/>
        </p:nvCxnSpPr>
        <p:spPr>
          <a:xfrm flipH="1">
            <a:off x="479664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5" name=""/>
          <p:cNvSpPr/>
          <p:nvPr/>
        </p:nvSpPr>
        <p:spPr>
          <a:xfrm>
            <a:off x="441936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510552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8098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63244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57200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0" name=""/>
          <p:cNvCxnSpPr>
            <a:stCxn id="2096" idx="3"/>
            <a:endCxn id="2097" idx="7"/>
          </p:cNvCxnSpPr>
          <p:nvPr/>
        </p:nvCxnSpPr>
        <p:spPr>
          <a:xfrm flipH="1">
            <a:off x="426492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1" name=""/>
          <p:cNvCxnSpPr>
            <a:stCxn id="2096" idx="5"/>
            <a:endCxn id="2098" idx="1"/>
          </p:cNvCxnSpPr>
          <p:nvPr/>
        </p:nvCxnSpPr>
        <p:spPr>
          <a:xfrm>
            <a:off x="556056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2" name=""/>
          <p:cNvCxnSpPr>
            <a:stCxn id="2097" idx="5"/>
            <a:endCxn id="2099" idx="1"/>
          </p:cNvCxnSpPr>
          <p:nvPr/>
        </p:nvCxnSpPr>
        <p:spPr>
          <a:xfrm>
            <a:off x="426528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3" name=""/>
          <p:cNvSpPr/>
          <p:nvPr/>
        </p:nvSpPr>
        <p:spPr>
          <a:xfrm>
            <a:off x="388620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4" name=""/>
          <p:cNvCxnSpPr>
            <a:stCxn id="2099" idx="3"/>
            <a:endCxn id="2103" idx="7"/>
          </p:cNvCxnSpPr>
          <p:nvPr/>
        </p:nvCxnSpPr>
        <p:spPr>
          <a:xfrm flipH="1">
            <a:off x="434124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5" name=""/>
          <p:cNvSpPr/>
          <p:nvPr/>
        </p:nvSpPr>
        <p:spPr>
          <a:xfrm>
            <a:off x="514980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8620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57344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96396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40260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19112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93252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1" name=""/>
          <p:cNvCxnSpPr>
            <a:stCxn id="2098" idx="5"/>
          </p:cNvCxnSpPr>
          <p:nvPr/>
        </p:nvCxnSpPr>
        <p:spPr>
          <a:xfrm>
            <a:off x="677988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2" name=""/>
          <p:cNvSpPr/>
          <p:nvPr/>
        </p:nvSpPr>
        <p:spPr>
          <a:xfrm>
            <a:off x="697860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94216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601956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09444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838880" y="2026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0592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12264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20040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 flipH="1">
            <a:off x="335124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352680" y="2362320"/>
            <a:ext cx="1752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610200" y="838080"/>
            <a:ext cx="813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The resulting tree satisfies the heap order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578952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9" name=""/>
          <p:cNvCxnSpPr>
            <a:stCxn id="2124" idx="3"/>
            <a:endCxn id="2125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0" name=""/>
          <p:cNvCxnSpPr>
            <a:stCxn id="2131" idx="1"/>
            <a:endCxn id="2126" idx="0"/>
          </p:cNvCxnSpPr>
          <p:nvPr/>
        </p:nvCxnSpPr>
        <p:spPr>
          <a:xfrm flipH="1">
            <a:off x="605556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2" name=""/>
          <p:cNvCxnSpPr>
            <a:stCxn id="2125" idx="3"/>
            <a:endCxn id="2127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3" name=""/>
          <p:cNvCxnSpPr>
            <a:stCxn id="2125" idx="5"/>
            <a:endCxn id="2128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4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5" name=""/>
          <p:cNvCxnSpPr>
            <a:stCxn id="2128" idx="3"/>
            <a:endCxn id="2134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6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86764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87512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4" name=""/>
          <p:cNvCxnSpPr>
            <a:endCxn id="2143" idx="7"/>
          </p:cNvCxnSpPr>
          <p:nvPr/>
        </p:nvCxnSpPr>
        <p:spPr>
          <a:xfrm flipH="1">
            <a:off x="533088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5" name=""/>
          <p:cNvSpPr/>
          <p:nvPr/>
        </p:nvSpPr>
        <p:spPr>
          <a:xfrm>
            <a:off x="495288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434196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7" name=""/>
          <p:cNvCxnSpPr>
            <a:stCxn id="2145" idx="2"/>
            <a:endCxn id="2146" idx="7"/>
          </p:cNvCxnSpPr>
          <p:nvPr/>
        </p:nvCxnSpPr>
        <p:spPr>
          <a:xfrm flipH="1">
            <a:off x="479664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8" name=""/>
          <p:cNvSpPr/>
          <p:nvPr/>
        </p:nvSpPr>
        <p:spPr>
          <a:xfrm>
            <a:off x="441936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510552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098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63244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457200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3" name=""/>
          <p:cNvCxnSpPr>
            <a:stCxn id="2149" idx="3"/>
            <a:endCxn id="2150" idx="7"/>
          </p:cNvCxnSpPr>
          <p:nvPr/>
        </p:nvCxnSpPr>
        <p:spPr>
          <a:xfrm flipH="1">
            <a:off x="426492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4" name=""/>
          <p:cNvCxnSpPr>
            <a:stCxn id="2149" idx="5"/>
            <a:endCxn id="2151" idx="1"/>
          </p:cNvCxnSpPr>
          <p:nvPr/>
        </p:nvCxnSpPr>
        <p:spPr>
          <a:xfrm>
            <a:off x="556056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5" name=""/>
          <p:cNvCxnSpPr>
            <a:stCxn id="2150" idx="5"/>
            <a:endCxn id="2152" idx="1"/>
          </p:cNvCxnSpPr>
          <p:nvPr/>
        </p:nvCxnSpPr>
        <p:spPr>
          <a:xfrm>
            <a:off x="426528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6" name=""/>
          <p:cNvSpPr/>
          <p:nvPr/>
        </p:nvSpPr>
        <p:spPr>
          <a:xfrm>
            <a:off x="388620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7" name=""/>
          <p:cNvCxnSpPr>
            <a:stCxn id="2152" idx="3"/>
            <a:endCxn id="2156" idx="7"/>
          </p:cNvCxnSpPr>
          <p:nvPr/>
        </p:nvCxnSpPr>
        <p:spPr>
          <a:xfrm flipH="1">
            <a:off x="434124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8" name=""/>
          <p:cNvSpPr/>
          <p:nvPr/>
        </p:nvSpPr>
        <p:spPr>
          <a:xfrm>
            <a:off x="514980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388620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57344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96396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640260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419112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93252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4" name=""/>
          <p:cNvCxnSpPr>
            <a:stCxn id="2151" idx="5"/>
          </p:cNvCxnSpPr>
          <p:nvPr/>
        </p:nvCxnSpPr>
        <p:spPr>
          <a:xfrm>
            <a:off x="677988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5" name=""/>
          <p:cNvSpPr/>
          <p:nvPr/>
        </p:nvSpPr>
        <p:spPr>
          <a:xfrm>
            <a:off x="697860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94216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01956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09444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12264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20040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335124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352680" y="2362320"/>
            <a:ext cx="1752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12360" y="838080"/>
            <a:ext cx="363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but is it leftist?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78952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0" name=""/>
          <p:cNvCxnSpPr>
            <a:stCxn id="2175" idx="3"/>
            <a:endCxn id="2176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1" name=""/>
          <p:cNvCxnSpPr>
            <a:stCxn id="2182" idx="1"/>
            <a:endCxn id="2177" idx="0"/>
          </p:cNvCxnSpPr>
          <p:nvPr/>
        </p:nvCxnSpPr>
        <p:spPr>
          <a:xfrm flipH="1">
            <a:off x="605556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3" name=""/>
          <p:cNvCxnSpPr>
            <a:stCxn id="2176" idx="3"/>
            <a:endCxn id="2178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4" name=""/>
          <p:cNvCxnSpPr>
            <a:stCxn id="2176" idx="5"/>
            <a:endCxn id="2179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5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6" name=""/>
          <p:cNvCxnSpPr>
            <a:stCxn id="2179" idx="3"/>
            <a:endCxn id="2185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7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586764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87512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5" name=""/>
          <p:cNvCxnSpPr>
            <a:endCxn id="2194" idx="7"/>
          </p:cNvCxnSpPr>
          <p:nvPr/>
        </p:nvCxnSpPr>
        <p:spPr>
          <a:xfrm flipH="1">
            <a:off x="533088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6" name=""/>
          <p:cNvSpPr/>
          <p:nvPr/>
        </p:nvSpPr>
        <p:spPr>
          <a:xfrm>
            <a:off x="495288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434196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8" name=""/>
          <p:cNvCxnSpPr>
            <a:stCxn id="2196" idx="2"/>
            <a:endCxn id="2197" idx="7"/>
          </p:cNvCxnSpPr>
          <p:nvPr/>
        </p:nvCxnSpPr>
        <p:spPr>
          <a:xfrm flipH="1">
            <a:off x="479664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9" name=""/>
          <p:cNvSpPr/>
          <p:nvPr/>
        </p:nvSpPr>
        <p:spPr>
          <a:xfrm>
            <a:off x="441936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510552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8098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3244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57200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4" name=""/>
          <p:cNvCxnSpPr>
            <a:stCxn id="2200" idx="3"/>
            <a:endCxn id="2201" idx="7"/>
          </p:cNvCxnSpPr>
          <p:nvPr/>
        </p:nvCxnSpPr>
        <p:spPr>
          <a:xfrm flipH="1">
            <a:off x="426492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5" name=""/>
          <p:cNvCxnSpPr>
            <a:stCxn id="2200" idx="5"/>
            <a:endCxn id="2202" idx="1"/>
          </p:cNvCxnSpPr>
          <p:nvPr/>
        </p:nvCxnSpPr>
        <p:spPr>
          <a:xfrm>
            <a:off x="556056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6" name=""/>
          <p:cNvCxnSpPr>
            <a:stCxn id="2201" idx="5"/>
            <a:endCxn id="2203" idx="1"/>
          </p:cNvCxnSpPr>
          <p:nvPr/>
        </p:nvCxnSpPr>
        <p:spPr>
          <a:xfrm>
            <a:off x="426528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7" name=""/>
          <p:cNvSpPr/>
          <p:nvPr/>
        </p:nvSpPr>
        <p:spPr>
          <a:xfrm>
            <a:off x="388620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8" name=""/>
          <p:cNvCxnSpPr>
            <a:stCxn id="2203" idx="3"/>
            <a:endCxn id="2207" idx="7"/>
          </p:cNvCxnSpPr>
          <p:nvPr/>
        </p:nvCxnSpPr>
        <p:spPr>
          <a:xfrm flipH="1">
            <a:off x="434124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9" name=""/>
          <p:cNvSpPr/>
          <p:nvPr/>
        </p:nvSpPr>
        <p:spPr>
          <a:xfrm>
            <a:off x="514980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88620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57344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96396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40260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19112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93252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5" name=""/>
          <p:cNvCxnSpPr>
            <a:stCxn id="2202" idx="5"/>
          </p:cNvCxnSpPr>
          <p:nvPr/>
        </p:nvCxnSpPr>
        <p:spPr>
          <a:xfrm>
            <a:off x="677988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6" name=""/>
          <p:cNvSpPr/>
          <p:nvPr/>
        </p:nvSpPr>
        <p:spPr>
          <a:xfrm>
            <a:off x="697860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94216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01956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09444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12264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320040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flipH="1">
            <a:off x="335124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352680" y="2362320"/>
            <a:ext cx="1752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627480" y="838080"/>
            <a:ext cx="8431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but is it leftist? No, the left subtree has a null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 of 1 whil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subtr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null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 of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8952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1" name=""/>
          <p:cNvCxnSpPr>
            <a:stCxn id="2226" idx="3"/>
            <a:endCxn id="2227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2" name=""/>
          <p:cNvCxnSpPr>
            <a:stCxn id="2233" idx="1"/>
            <a:endCxn id="2228" idx="0"/>
          </p:cNvCxnSpPr>
          <p:nvPr/>
        </p:nvCxnSpPr>
        <p:spPr>
          <a:xfrm flipH="1">
            <a:off x="605556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4" name=""/>
          <p:cNvCxnSpPr>
            <a:stCxn id="2227" idx="3"/>
            <a:endCxn id="2229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5" name=""/>
          <p:cNvCxnSpPr>
            <a:stCxn id="2227" idx="5"/>
            <a:endCxn id="2230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6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7" name=""/>
          <p:cNvCxnSpPr>
            <a:stCxn id="2230" idx="3"/>
            <a:endCxn id="2236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8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86764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487512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6" name=""/>
          <p:cNvCxnSpPr>
            <a:endCxn id="2245" idx="7"/>
          </p:cNvCxnSpPr>
          <p:nvPr/>
        </p:nvCxnSpPr>
        <p:spPr>
          <a:xfrm flipH="1">
            <a:off x="533088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7" name=""/>
          <p:cNvSpPr/>
          <p:nvPr/>
        </p:nvSpPr>
        <p:spPr>
          <a:xfrm>
            <a:off x="495288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434196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9" name=""/>
          <p:cNvCxnSpPr>
            <a:stCxn id="2247" idx="2"/>
            <a:endCxn id="2248" idx="7"/>
          </p:cNvCxnSpPr>
          <p:nvPr/>
        </p:nvCxnSpPr>
        <p:spPr>
          <a:xfrm flipH="1">
            <a:off x="479664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0" name=""/>
          <p:cNvSpPr/>
          <p:nvPr/>
        </p:nvSpPr>
        <p:spPr>
          <a:xfrm>
            <a:off x="441936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510552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8098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3244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457200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5" name=""/>
          <p:cNvCxnSpPr>
            <a:stCxn id="2251" idx="3"/>
            <a:endCxn id="2252" idx="7"/>
          </p:cNvCxnSpPr>
          <p:nvPr/>
        </p:nvCxnSpPr>
        <p:spPr>
          <a:xfrm flipH="1">
            <a:off x="426492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6" name=""/>
          <p:cNvCxnSpPr>
            <a:stCxn id="2251" idx="5"/>
            <a:endCxn id="2253" idx="1"/>
          </p:cNvCxnSpPr>
          <p:nvPr/>
        </p:nvCxnSpPr>
        <p:spPr>
          <a:xfrm>
            <a:off x="556056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7" name=""/>
          <p:cNvCxnSpPr>
            <a:stCxn id="2252" idx="5"/>
            <a:endCxn id="2254" idx="1"/>
          </p:cNvCxnSpPr>
          <p:nvPr/>
        </p:nvCxnSpPr>
        <p:spPr>
          <a:xfrm>
            <a:off x="426528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8" name=""/>
          <p:cNvSpPr/>
          <p:nvPr/>
        </p:nvSpPr>
        <p:spPr>
          <a:xfrm>
            <a:off x="388620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9" name=""/>
          <p:cNvCxnSpPr>
            <a:stCxn id="2254" idx="3"/>
            <a:endCxn id="2258" idx="7"/>
          </p:cNvCxnSpPr>
          <p:nvPr/>
        </p:nvCxnSpPr>
        <p:spPr>
          <a:xfrm flipH="1">
            <a:off x="434124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0" name=""/>
          <p:cNvSpPr/>
          <p:nvPr/>
        </p:nvSpPr>
        <p:spPr>
          <a:xfrm>
            <a:off x="514980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88620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457344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96396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40260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19112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693252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6" name=""/>
          <p:cNvCxnSpPr>
            <a:stCxn id="2253" idx="5"/>
          </p:cNvCxnSpPr>
          <p:nvPr/>
        </p:nvCxnSpPr>
        <p:spPr>
          <a:xfrm>
            <a:off x="677988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7" name=""/>
          <p:cNvSpPr/>
          <p:nvPr/>
        </p:nvSpPr>
        <p:spPr>
          <a:xfrm>
            <a:off x="697860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594216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601956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609444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264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20040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 flipH="1">
            <a:off x="335124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352680" y="2362320"/>
            <a:ext cx="1752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10560" y="838080"/>
            <a:ext cx="777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so the algorithm swaps the left subtree with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28195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523880" y="2971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78952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04920" y="4114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2286000" y="4114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2" name=""/>
          <p:cNvCxnSpPr>
            <a:stCxn id="2277" idx="3"/>
            <a:endCxn id="2278" idx="7"/>
          </p:cNvCxnSpPr>
          <p:nvPr/>
        </p:nvCxnSpPr>
        <p:spPr>
          <a:xfrm flipH="1">
            <a:off x="1978920" y="251316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3" name=""/>
          <p:cNvCxnSpPr>
            <a:stCxn id="2284" idx="1"/>
            <a:endCxn id="2279" idx="0"/>
          </p:cNvCxnSpPr>
          <p:nvPr/>
        </p:nvCxnSpPr>
        <p:spPr>
          <a:xfrm flipH="1">
            <a:off x="605556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5" name=""/>
          <p:cNvCxnSpPr>
            <a:stCxn id="2278" idx="3"/>
            <a:endCxn id="2280" idx="7"/>
          </p:cNvCxnSpPr>
          <p:nvPr/>
        </p:nvCxnSpPr>
        <p:spPr>
          <a:xfrm flipH="1">
            <a:off x="759600" y="34272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6" name=""/>
          <p:cNvCxnSpPr>
            <a:stCxn id="2278" idx="5"/>
            <a:endCxn id="2281" idx="1"/>
          </p:cNvCxnSpPr>
          <p:nvPr/>
        </p:nvCxnSpPr>
        <p:spPr>
          <a:xfrm>
            <a:off x="1979280" y="342720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7" name=""/>
          <p:cNvSpPr/>
          <p:nvPr/>
        </p:nvSpPr>
        <p:spPr>
          <a:xfrm>
            <a:off x="1600200" y="5410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8" name=""/>
          <p:cNvCxnSpPr>
            <a:stCxn id="2281" idx="3"/>
            <a:endCxn id="2287" idx="7"/>
          </p:cNvCxnSpPr>
          <p:nvPr/>
        </p:nvCxnSpPr>
        <p:spPr>
          <a:xfrm flipH="1">
            <a:off x="2055240" y="4570560"/>
            <a:ext cx="30852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9" name=""/>
          <p:cNvSpPr/>
          <p:nvPr/>
        </p:nvSpPr>
        <p:spPr>
          <a:xfrm>
            <a:off x="2863800" y="20574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160020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28744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677960" y="5486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30492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86764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487512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7" name=""/>
          <p:cNvCxnSpPr>
            <a:endCxn id="2296" idx="7"/>
          </p:cNvCxnSpPr>
          <p:nvPr/>
        </p:nvCxnSpPr>
        <p:spPr>
          <a:xfrm flipH="1">
            <a:off x="533088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8" name=""/>
          <p:cNvSpPr/>
          <p:nvPr/>
        </p:nvSpPr>
        <p:spPr>
          <a:xfrm>
            <a:off x="495288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434196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0" name=""/>
          <p:cNvCxnSpPr>
            <a:stCxn id="2298" idx="2"/>
            <a:endCxn id="2299" idx="7"/>
          </p:cNvCxnSpPr>
          <p:nvPr/>
        </p:nvCxnSpPr>
        <p:spPr>
          <a:xfrm flipH="1">
            <a:off x="479664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1" name=""/>
          <p:cNvSpPr/>
          <p:nvPr/>
        </p:nvSpPr>
        <p:spPr>
          <a:xfrm>
            <a:off x="441936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10552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8098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32448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57200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6" name=""/>
          <p:cNvCxnSpPr>
            <a:stCxn id="2302" idx="3"/>
            <a:endCxn id="2303" idx="7"/>
          </p:cNvCxnSpPr>
          <p:nvPr/>
        </p:nvCxnSpPr>
        <p:spPr>
          <a:xfrm flipH="1">
            <a:off x="426492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7" name=""/>
          <p:cNvCxnSpPr>
            <a:stCxn id="2302" idx="5"/>
            <a:endCxn id="2304" idx="1"/>
          </p:cNvCxnSpPr>
          <p:nvPr/>
        </p:nvCxnSpPr>
        <p:spPr>
          <a:xfrm>
            <a:off x="556056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8" name=""/>
          <p:cNvCxnSpPr>
            <a:stCxn id="2303" idx="5"/>
            <a:endCxn id="2305" idx="1"/>
          </p:cNvCxnSpPr>
          <p:nvPr/>
        </p:nvCxnSpPr>
        <p:spPr>
          <a:xfrm>
            <a:off x="426528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9" name=""/>
          <p:cNvSpPr/>
          <p:nvPr/>
        </p:nvSpPr>
        <p:spPr>
          <a:xfrm>
            <a:off x="388620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0" name=""/>
          <p:cNvCxnSpPr>
            <a:stCxn id="2305" idx="3"/>
            <a:endCxn id="2309" idx="7"/>
          </p:cNvCxnSpPr>
          <p:nvPr/>
        </p:nvCxnSpPr>
        <p:spPr>
          <a:xfrm flipH="1">
            <a:off x="434124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1" name=""/>
          <p:cNvSpPr/>
          <p:nvPr/>
        </p:nvSpPr>
        <p:spPr>
          <a:xfrm>
            <a:off x="514980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88620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457344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96396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40260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19112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693252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7" name=""/>
          <p:cNvCxnSpPr>
            <a:stCxn id="2304" idx="5"/>
          </p:cNvCxnSpPr>
          <p:nvPr/>
        </p:nvCxnSpPr>
        <p:spPr>
          <a:xfrm>
            <a:off x="677988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8" name=""/>
          <p:cNvSpPr/>
          <p:nvPr/>
        </p:nvSpPr>
        <p:spPr>
          <a:xfrm>
            <a:off x="697860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94216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601956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609444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12264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320040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 flipH="1">
            <a:off x="335124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3352680" y="2362320"/>
            <a:ext cx="1752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10200" y="838080"/>
            <a:ext cx="271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produc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4267080" y="1905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707160" y="28209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89548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5487840" y="39639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7469280" y="396396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3" name=""/>
          <p:cNvCxnSpPr>
            <a:stCxn id="2328" idx="6"/>
            <a:endCxn id="2329" idx="0"/>
          </p:cNvCxnSpPr>
          <p:nvPr/>
        </p:nvCxnSpPr>
        <p:spPr>
          <a:xfrm>
            <a:off x="4800240" y="2171520"/>
            <a:ext cx="217404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4" name=""/>
          <p:cNvCxnSpPr>
            <a:stCxn id="2335" idx="1"/>
            <a:endCxn id="2330" idx="0"/>
          </p:cNvCxnSpPr>
          <p:nvPr/>
        </p:nvCxnSpPr>
        <p:spPr>
          <a:xfrm flipH="1">
            <a:off x="316152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6" name=""/>
          <p:cNvCxnSpPr>
            <a:stCxn id="2329" idx="3"/>
            <a:endCxn id="2331" idx="7"/>
          </p:cNvCxnSpPr>
          <p:nvPr/>
        </p:nvCxnSpPr>
        <p:spPr>
          <a:xfrm flipH="1">
            <a:off x="5942880" y="327636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7" name=""/>
          <p:cNvCxnSpPr>
            <a:stCxn id="2329" idx="5"/>
            <a:endCxn id="2332" idx="1"/>
          </p:cNvCxnSpPr>
          <p:nvPr/>
        </p:nvCxnSpPr>
        <p:spPr>
          <a:xfrm>
            <a:off x="7162560" y="327636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8" name=""/>
          <p:cNvSpPr/>
          <p:nvPr/>
        </p:nvSpPr>
        <p:spPr>
          <a:xfrm>
            <a:off x="6783480" y="525924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9" name=""/>
          <p:cNvCxnSpPr>
            <a:stCxn id="2332" idx="3"/>
            <a:endCxn id="2338" idx="7"/>
          </p:cNvCxnSpPr>
          <p:nvPr/>
        </p:nvCxnSpPr>
        <p:spPr>
          <a:xfrm flipH="1">
            <a:off x="7238520" y="4419720"/>
            <a:ext cx="30888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0" name=""/>
          <p:cNvSpPr/>
          <p:nvPr/>
        </p:nvSpPr>
        <p:spPr>
          <a:xfrm>
            <a:off x="4311720" y="190512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783480" y="2897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7470720" y="3963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861240" y="5335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5487840" y="4040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9736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198108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8" name=""/>
          <p:cNvCxnSpPr>
            <a:endCxn id="2347" idx="7"/>
          </p:cNvCxnSpPr>
          <p:nvPr/>
        </p:nvCxnSpPr>
        <p:spPr>
          <a:xfrm flipH="1">
            <a:off x="243684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9" name=""/>
          <p:cNvSpPr/>
          <p:nvPr/>
        </p:nvSpPr>
        <p:spPr>
          <a:xfrm>
            <a:off x="205884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44792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1" name=""/>
          <p:cNvCxnSpPr>
            <a:stCxn id="2349" idx="2"/>
            <a:endCxn id="2350" idx="7"/>
          </p:cNvCxnSpPr>
          <p:nvPr/>
        </p:nvCxnSpPr>
        <p:spPr>
          <a:xfrm flipH="1">
            <a:off x="190260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2" name=""/>
          <p:cNvSpPr/>
          <p:nvPr/>
        </p:nvSpPr>
        <p:spPr>
          <a:xfrm>
            <a:off x="152568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221148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91584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343044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67796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7" name=""/>
          <p:cNvCxnSpPr>
            <a:stCxn id="2353" idx="3"/>
            <a:endCxn id="2354" idx="7"/>
          </p:cNvCxnSpPr>
          <p:nvPr/>
        </p:nvCxnSpPr>
        <p:spPr>
          <a:xfrm flipH="1">
            <a:off x="137088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8" name=""/>
          <p:cNvCxnSpPr>
            <a:stCxn id="2353" idx="5"/>
            <a:endCxn id="2355" idx="1"/>
          </p:cNvCxnSpPr>
          <p:nvPr/>
        </p:nvCxnSpPr>
        <p:spPr>
          <a:xfrm>
            <a:off x="266652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9" name=""/>
          <p:cNvCxnSpPr>
            <a:stCxn id="2354" idx="5"/>
            <a:endCxn id="2356" idx="1"/>
          </p:cNvCxnSpPr>
          <p:nvPr/>
        </p:nvCxnSpPr>
        <p:spPr>
          <a:xfrm>
            <a:off x="137124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0" name=""/>
          <p:cNvSpPr/>
          <p:nvPr/>
        </p:nvSpPr>
        <p:spPr>
          <a:xfrm>
            <a:off x="99216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1" name=""/>
          <p:cNvCxnSpPr>
            <a:stCxn id="2356" idx="3"/>
            <a:endCxn id="2360" idx="7"/>
          </p:cNvCxnSpPr>
          <p:nvPr/>
        </p:nvCxnSpPr>
        <p:spPr>
          <a:xfrm flipH="1">
            <a:off x="144720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2" name=""/>
          <p:cNvSpPr/>
          <p:nvPr/>
        </p:nvSpPr>
        <p:spPr>
          <a:xfrm>
            <a:off x="225576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99216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167940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106992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50856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129708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03848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8" name=""/>
          <p:cNvCxnSpPr>
            <a:stCxn id="2355" idx="5"/>
          </p:cNvCxnSpPr>
          <p:nvPr/>
        </p:nvCxnSpPr>
        <p:spPr>
          <a:xfrm>
            <a:off x="388584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9" name=""/>
          <p:cNvSpPr/>
          <p:nvPr/>
        </p:nvSpPr>
        <p:spPr>
          <a:xfrm>
            <a:off x="408456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04812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312588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20040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2860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0636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 flipH="1">
            <a:off x="45720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flipH="1">
            <a:off x="2742840" y="228600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11640" y="838080"/>
            <a:ext cx="663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e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The result is then a leftist heap,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term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4267080" y="1905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707160" y="28209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2895480" y="4038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487840" y="39639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7469280" y="396396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4" name=""/>
          <p:cNvCxnSpPr>
            <a:stCxn id="2385" idx="1"/>
            <a:endCxn id="2381" idx="0"/>
          </p:cNvCxnSpPr>
          <p:nvPr/>
        </p:nvCxnSpPr>
        <p:spPr>
          <a:xfrm flipH="1">
            <a:off x="3161520" y="3659040"/>
            <a:ext cx="345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6" name=""/>
          <p:cNvCxnSpPr>
            <a:stCxn id="2380" idx="3"/>
            <a:endCxn id="2382" idx="7"/>
          </p:cNvCxnSpPr>
          <p:nvPr/>
        </p:nvCxnSpPr>
        <p:spPr>
          <a:xfrm flipH="1">
            <a:off x="5942880" y="327636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7" name=""/>
          <p:cNvCxnSpPr>
            <a:stCxn id="2380" idx="5"/>
            <a:endCxn id="2383" idx="1"/>
          </p:cNvCxnSpPr>
          <p:nvPr/>
        </p:nvCxnSpPr>
        <p:spPr>
          <a:xfrm>
            <a:off x="7162560" y="3276360"/>
            <a:ext cx="3848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8" name=""/>
          <p:cNvSpPr/>
          <p:nvPr/>
        </p:nvSpPr>
        <p:spPr>
          <a:xfrm>
            <a:off x="6783480" y="525924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9" name=""/>
          <p:cNvCxnSpPr>
            <a:stCxn id="2383" idx="3"/>
            <a:endCxn id="2388" idx="7"/>
          </p:cNvCxnSpPr>
          <p:nvPr/>
        </p:nvCxnSpPr>
        <p:spPr>
          <a:xfrm flipH="1">
            <a:off x="7238520" y="4419720"/>
            <a:ext cx="30888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0" name=""/>
          <p:cNvSpPr/>
          <p:nvPr/>
        </p:nvSpPr>
        <p:spPr>
          <a:xfrm>
            <a:off x="4311720" y="190512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783480" y="2897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7470720" y="3963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6861240" y="5335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5487840" y="4040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9736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905120" y="264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81080" y="5181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8" name=""/>
          <p:cNvCxnSpPr>
            <a:endCxn id="2397" idx="7"/>
          </p:cNvCxnSpPr>
          <p:nvPr/>
        </p:nvCxnSpPr>
        <p:spPr>
          <a:xfrm flipH="1">
            <a:off x="2436840" y="449388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9" name=""/>
          <p:cNvSpPr/>
          <p:nvPr/>
        </p:nvSpPr>
        <p:spPr>
          <a:xfrm>
            <a:off x="2058840" y="5257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1447920" y="6324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1" name=""/>
          <p:cNvCxnSpPr>
            <a:stCxn id="2399" idx="2"/>
            <a:endCxn id="2400" idx="7"/>
          </p:cNvCxnSpPr>
          <p:nvPr/>
        </p:nvCxnSpPr>
        <p:spPr>
          <a:xfrm flipH="1">
            <a:off x="1902600" y="5714640"/>
            <a:ext cx="39924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2" name=""/>
          <p:cNvSpPr/>
          <p:nvPr/>
        </p:nvSpPr>
        <p:spPr>
          <a:xfrm>
            <a:off x="1525680" y="6400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211480" y="2440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91584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343044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1677960" y="4497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7" name=""/>
          <p:cNvCxnSpPr>
            <a:stCxn id="2403" idx="3"/>
            <a:endCxn id="2404" idx="7"/>
          </p:cNvCxnSpPr>
          <p:nvPr/>
        </p:nvCxnSpPr>
        <p:spPr>
          <a:xfrm flipH="1">
            <a:off x="1370880" y="28951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8" name=""/>
          <p:cNvCxnSpPr>
            <a:stCxn id="2403" idx="5"/>
            <a:endCxn id="2405" idx="1"/>
          </p:cNvCxnSpPr>
          <p:nvPr/>
        </p:nvCxnSpPr>
        <p:spPr>
          <a:xfrm>
            <a:off x="2666520" y="28951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9" name=""/>
          <p:cNvCxnSpPr>
            <a:stCxn id="2404" idx="5"/>
            <a:endCxn id="2406" idx="1"/>
          </p:cNvCxnSpPr>
          <p:nvPr/>
        </p:nvCxnSpPr>
        <p:spPr>
          <a:xfrm>
            <a:off x="1371240" y="380988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0" name=""/>
          <p:cNvSpPr/>
          <p:nvPr/>
        </p:nvSpPr>
        <p:spPr>
          <a:xfrm>
            <a:off x="992160" y="57927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1" name=""/>
          <p:cNvCxnSpPr>
            <a:stCxn id="2406" idx="3"/>
            <a:endCxn id="2410" idx="7"/>
          </p:cNvCxnSpPr>
          <p:nvPr/>
        </p:nvCxnSpPr>
        <p:spPr>
          <a:xfrm flipH="1">
            <a:off x="1447200" y="4952520"/>
            <a:ext cx="3085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2" name=""/>
          <p:cNvSpPr/>
          <p:nvPr/>
        </p:nvSpPr>
        <p:spPr>
          <a:xfrm>
            <a:off x="2255760" y="244008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992160" y="3430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679400" y="449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069920" y="586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50856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297080" y="303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038480" y="47242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8" name=""/>
          <p:cNvCxnSpPr>
            <a:stCxn id="2405" idx="5"/>
          </p:cNvCxnSpPr>
          <p:nvPr/>
        </p:nvCxnSpPr>
        <p:spPr>
          <a:xfrm>
            <a:off x="3885840" y="3809520"/>
            <a:ext cx="30564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9" name=""/>
          <p:cNvSpPr/>
          <p:nvPr/>
        </p:nvSpPr>
        <p:spPr>
          <a:xfrm>
            <a:off x="408456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048120" y="5257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125880" y="533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200400" y="45720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28600" y="4495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30636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 flipH="1">
            <a:off x="457200" y="3809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 flipH="1">
            <a:off x="2742840" y="228600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7" name=""/>
          <p:cNvCxnSpPr/>
          <p:nvPr/>
        </p:nvCxnSpPr>
        <p:spPr>
          <a:xfrm>
            <a:off x="4800240" y="2171520"/>
            <a:ext cx="217404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/>
          <p:nvPr/>
        </p:nvSpPr>
        <p:spPr>
          <a:xfrm>
            <a:off x="236160" y="2057400"/>
            <a:ext cx="274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0" name=""/>
          <p:cNvGrpSpPr/>
          <p:nvPr/>
        </p:nvGrpSpPr>
        <p:grpSpPr>
          <a:xfrm>
            <a:off x="3048120" y="990000"/>
            <a:ext cx="4449600" cy="4304160"/>
            <a:chOff x="3048120" y="990000"/>
            <a:chExt cx="4449600" cy="4304160"/>
          </a:xfrm>
        </p:grpSpPr>
        <p:sp>
          <p:nvSpPr>
            <p:cNvPr id="2431" name=""/>
            <p:cNvSpPr/>
            <p:nvPr/>
          </p:nvSpPr>
          <p:spPr>
            <a:xfrm>
              <a:off x="5105520" y="175248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048120" y="1600200"/>
              <a:ext cx="2514600" cy="28954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rot="7599000">
              <a:off x="5471280" y="13104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rot="7599000">
              <a:off x="6995160" y="146268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348800" y="3002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573800" y="312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796360" y="4069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021720" y="4190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554440" y="9900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640480" y="1218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002360" y="11422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164720" y="1370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3" name=""/>
          <p:cNvGrpSpPr/>
          <p:nvPr/>
        </p:nvGrpSpPr>
        <p:grpSpPr>
          <a:xfrm>
            <a:off x="232200" y="4647600"/>
            <a:ext cx="2494080" cy="611640"/>
            <a:chOff x="232200" y="4647600"/>
            <a:chExt cx="2494080" cy="611640"/>
          </a:xfrm>
        </p:grpSpPr>
        <p:sp>
          <p:nvSpPr>
            <p:cNvPr id="2444" name=""/>
            <p:cNvSpPr/>
            <p:nvPr/>
          </p:nvSpPr>
          <p:spPr>
            <a:xfrm>
              <a:off x="232200" y="4647600"/>
              <a:ext cx="249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=  rp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) +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1735920" y="4799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64320" y="4799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7" name=""/>
          <p:cNvSpPr/>
          <p:nvPr/>
        </p:nvSpPr>
        <p:spPr>
          <a:xfrm>
            <a:off x="457200" y="2284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1754280" y="312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287800" y="312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1602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21148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30760" y="373320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230400" y="1218600"/>
            <a:ext cx="113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95200" y="5637960"/>
            <a:ext cx="75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an be proved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783480" y="586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7317000" y="586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"/>
          <p:cNvSpPr/>
          <p:nvPr/>
        </p:nvSpPr>
        <p:spPr>
          <a:xfrm>
            <a:off x="236160" y="2057400"/>
            <a:ext cx="274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lo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9" name=""/>
          <p:cNvGrpSpPr/>
          <p:nvPr/>
        </p:nvGrpSpPr>
        <p:grpSpPr>
          <a:xfrm>
            <a:off x="3048120" y="990000"/>
            <a:ext cx="4449600" cy="4304160"/>
            <a:chOff x="3048120" y="990000"/>
            <a:chExt cx="4449600" cy="4304160"/>
          </a:xfrm>
        </p:grpSpPr>
        <p:sp>
          <p:nvSpPr>
            <p:cNvPr id="2460" name=""/>
            <p:cNvSpPr/>
            <p:nvPr/>
          </p:nvSpPr>
          <p:spPr>
            <a:xfrm>
              <a:off x="5105520" y="1752480"/>
              <a:ext cx="1974600" cy="35416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48120" y="1600200"/>
              <a:ext cx="2514600" cy="2895480"/>
            </a:xfrm>
            <a:custGeom>
              <a:avLst/>
              <a:gdLst/>
              <a:ahLst/>
              <a:rect l="l" t="t" r="r" b="b"/>
              <a:pathLst>
                <a:path w="1244" h="2231">
                  <a:moveTo>
                    <a:pt x="1066" y="0"/>
                  </a:moveTo>
                  <a:cubicBezTo>
                    <a:pt x="1077" y="30"/>
                    <a:pt x="1076" y="42"/>
                    <a:pt x="1103" y="60"/>
                  </a:cubicBezTo>
                  <a:cubicBezTo>
                    <a:pt x="1119" y="103"/>
                    <a:pt x="1099" y="63"/>
                    <a:pt x="1133" y="97"/>
                  </a:cubicBezTo>
                  <a:cubicBezTo>
                    <a:pt x="1160" y="124"/>
                    <a:pt x="1175" y="156"/>
                    <a:pt x="1207" y="178"/>
                  </a:cubicBezTo>
                  <a:cubicBezTo>
                    <a:pt x="1238" y="224"/>
                    <a:pt x="1219" y="222"/>
                    <a:pt x="1244" y="222"/>
                  </a:cubicBezTo>
                  <a:lnTo>
                    <a:pt x="934" y="2231"/>
                  </a:lnTo>
                  <a:cubicBezTo>
                    <a:pt x="623" y="2228"/>
                    <a:pt x="311" y="2226"/>
                    <a:pt x="0" y="2223"/>
                  </a:cubicBezTo>
                  <a:lnTo>
                    <a:pt x="1066" y="0"/>
                  </a:lnTo>
                  <a:cubicBezTo>
                    <a:pt x="1066" y="0"/>
                    <a:pt x="1066" y="0"/>
                    <a:pt x="1066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rot="7599000">
              <a:off x="5471280" y="131040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rot="7599000">
              <a:off x="6995160" y="1462680"/>
              <a:ext cx="152280" cy="4269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0800 h 426960"/>
                <a:gd name="textAreaBottom" fmla="*/ 416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348800" y="3002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573800" y="312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796360" y="4069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021720" y="4190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554440" y="9900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640480" y="1218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002360" y="114228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164720" y="1370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2" name=""/>
          <p:cNvSpPr/>
          <p:nvPr/>
        </p:nvSpPr>
        <p:spPr>
          <a:xfrm>
            <a:off x="457200" y="22849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036880" y="463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646360" y="463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60200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21148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30760" y="373320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52280" y="114228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heorem and its corollar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61880" y="4494960"/>
            <a:ext cx="26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3219840" y="2483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7021800" y="4114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430800" y="274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7240680" y="426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6" idx="3"/>
            <a:endCxn id="277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6" idx="5"/>
            <a:endCxn id="278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7" idx="3"/>
            <a:endCxn id="279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7" idx="5"/>
            <a:endCxn id="280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80" idx="3"/>
            <a:endCxn id="285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78" idx="5"/>
            <a:endCxn id="296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endCxn id="298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279" idx="5"/>
            <a:endCxn id="302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94800" y="3724200"/>
            <a:ext cx="2020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no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561960" y="250668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862640" y="390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50840" y="1142280"/>
            <a:ext cx="51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insert and delete_m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686520" y="266616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3278880" y="27424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4042080" y="2666160"/>
            <a:ext cx="10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=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279600" y="2742480"/>
            <a:ext cx="7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561960" y="250668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862640" y="390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686520" y="266616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279600" y="2742480"/>
            <a:ext cx="7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4041360" y="266616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4572000" y="250668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5872680" y="390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4650120" y="266616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7288920" y="27424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7667640" y="2590920"/>
            <a:ext cx="6858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8460000" y="26582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850520" y="26661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 rot="5400000">
            <a:off x="7810560" y="1790640"/>
            <a:ext cx="380880" cy="914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6132600" y="137088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one element h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561960" y="250668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1862640" y="390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686520" y="266616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279600" y="2742480"/>
            <a:ext cx="7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4041360" y="266616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4572000" y="250668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5872680" y="390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4650120" y="266616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288920" y="27424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7667640" y="2590920"/>
            <a:ext cx="6858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8460000" y="26582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850520" y="26661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 rot="5400000">
            <a:off x="7810560" y="1790640"/>
            <a:ext cx="380880" cy="914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6132600" y="137088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one element h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543600" y="5790600"/>
            <a:ext cx="73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O(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)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ize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838080" y="60188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914760" y="2056680"/>
            <a:ext cx="18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_min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267080" y="2056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514600" y="3124080"/>
            <a:ext cx="1974960" cy="35416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57200" y="297180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757880" y="4374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1982880" y="449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205800" y="5441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430800" y="556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3200400" y="205740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H="1">
            <a:off x="2590560" y="25146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3733920" y="25146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"/>
          <p:cNvSpPr/>
          <p:nvPr/>
        </p:nvSpPr>
        <p:spPr>
          <a:xfrm>
            <a:off x="175248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ist Heaps: Easily Mergeabl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914760" y="2056680"/>
            <a:ext cx="18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_min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267080" y="2056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merge(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2514600" y="3124080"/>
            <a:ext cx="1974960" cy="35416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457200" y="297180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757880" y="4374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982880" y="449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205800" y="5441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430800" y="556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200400" y="205740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flipH="1">
            <a:off x="2590560" y="25146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733920" y="25146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6705720" y="2438280"/>
            <a:ext cx="1974600" cy="35416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4648320" y="2286000"/>
            <a:ext cx="2514600" cy="2895480"/>
          </a:xfrm>
          <a:custGeom>
            <a:avLst/>
            <a:gdLst/>
            <a:ahLst/>
            <a:rect l="l" t="t" r="r" b="b"/>
            <a:pathLst>
              <a:path w="1244" h="2231">
                <a:moveTo>
                  <a:pt x="1066" y="0"/>
                </a:moveTo>
                <a:cubicBezTo>
                  <a:pt x="1077" y="30"/>
                  <a:pt x="1076" y="42"/>
                  <a:pt x="1103" y="60"/>
                </a:cubicBezTo>
                <a:cubicBezTo>
                  <a:pt x="1119" y="103"/>
                  <a:pt x="1099" y="63"/>
                  <a:pt x="1133" y="97"/>
                </a:cubicBezTo>
                <a:cubicBezTo>
                  <a:pt x="1160" y="124"/>
                  <a:pt x="1175" y="156"/>
                  <a:pt x="1207" y="178"/>
                </a:cubicBezTo>
                <a:cubicBezTo>
                  <a:pt x="1238" y="224"/>
                  <a:pt x="1219" y="222"/>
                  <a:pt x="1244" y="222"/>
                </a:cubicBezTo>
                <a:lnTo>
                  <a:pt x="934" y="2231"/>
                </a:lnTo>
                <a:cubicBezTo>
                  <a:pt x="623" y="2228"/>
                  <a:pt x="311" y="2226"/>
                  <a:pt x="0" y="2223"/>
                </a:cubicBezTo>
                <a:lnTo>
                  <a:pt x="1066" y="0"/>
                </a:lnTo>
                <a:cubicBezTo>
                  <a:pt x="1066" y="0"/>
                  <a:pt x="1066" y="0"/>
                  <a:pt x="1066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949000" y="3688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174000" y="380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7396560" y="475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7621920" y="4875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7393320" y="213300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8612280" y="2056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581360" y="601920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?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4798800" y="61711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_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307" idx="3"/>
            <a:endCxn id="308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7" idx="5"/>
            <a:endCxn id="309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08" idx="3"/>
            <a:endCxn id="310" idx="7"/>
          </p:cNvCxnSpPr>
          <p:nvPr/>
        </p:nvCxnSpPr>
        <p:spPr>
          <a:xfrm flipH="1">
            <a:off x="2207520" y="4113000"/>
            <a:ext cx="84204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308" idx="5"/>
            <a:endCxn id="311" idx="1"/>
          </p:cNvCxnSpPr>
          <p:nvPr/>
        </p:nvCxnSpPr>
        <p:spPr>
          <a:xfrm>
            <a:off x="34275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1" idx="3"/>
            <a:endCxn id="316" idx="7"/>
          </p:cNvCxnSpPr>
          <p:nvPr/>
        </p:nvCxnSpPr>
        <p:spPr>
          <a:xfrm flipH="1">
            <a:off x="3502800" y="5256360"/>
            <a:ext cx="46116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64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5880" y="6172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41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7960" y="990720"/>
            <a:ext cx="346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Order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ubtre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greater than or equ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008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45080" y="480060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09" idx="5"/>
            <a:endCxn id="327" idx="0"/>
          </p:cNvCxnSpPr>
          <p:nvPr/>
        </p:nvCxnSpPr>
        <p:spPr>
          <a:xfrm>
            <a:off x="5942160" y="4113000"/>
            <a:ext cx="8244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457200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endCxn id="329" idx="7"/>
          </p:cNvCxnSpPr>
          <p:nvPr/>
        </p:nvCxnSpPr>
        <p:spPr>
          <a:xfrm flipH="1">
            <a:off x="5027760" y="4113000"/>
            <a:ext cx="53676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464976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417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609588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10" idx="5"/>
            <a:endCxn id="333" idx="0"/>
          </p:cNvCxnSpPr>
          <p:nvPr/>
        </p:nvCxnSpPr>
        <p:spPr>
          <a:xfrm>
            <a:off x="2207880" y="5256360"/>
            <a:ext cx="3229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4946400" y="914400"/>
            <a:ext cx="420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p Structur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ap is als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“Complete” me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filled, ex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for the bottom row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filled from left to rig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94800" y="3724200"/>
            <a:ext cx="2020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is not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ary 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38280" y="228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: A Special Kind of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40" y="5484960"/>
            <a:ext cx="188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f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-to-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8T02:23:48Z</dcterms:created>
  <dc:creator>David R. Musser</dc:creator>
  <dc:description/>
  <dc:language>en-US</dc:language>
  <cp:lastModifiedBy>David R. Musser</cp:lastModifiedBy>
  <dcterms:modified xsi:type="dcterms:W3CDTF">1999-04-15T12:07:05Z</dcterms:modified>
  <cp:revision>30</cp:revision>
  <dc:subject/>
  <dc:title>No Slide Title</dc:title>
</cp:coreProperties>
</file>