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FF9-28B2-49B4-AC05-ADA99989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C3B-1AA7-4A56-8524-88728D60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706-E60B-4D71-8B43-612B48B9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A86-11FA-4DB9-A2AF-8341821F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15B-1D19-4D47-A150-A5D82E89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5EE-F1CB-429B-B648-A0D79AF5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696-FC97-40C4-BC22-4D06846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DC1-A27A-4FED-A728-388279F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FB4-A5C2-4F8E-8CA8-DA9BA51B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093-58C1-47F9-A497-7FB3A43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323-B723-4F79-99F0-0A1A6D8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D5E-1AC9-447B-8D82-1BFA02A0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69C2-3144-4057-A64A-48D54A55E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2" idx="7"/>
          </p:cNvCxnSpPr>
          <p:nvPr/>
        </p:nvCxnSpPr>
        <p:spPr>
          <a:xfrm flipH="1">
            <a:off x="3427200" y="319860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5"/>
            <a:endCxn id="43" idx="1"/>
          </p:cNvCxnSpPr>
          <p:nvPr/>
        </p:nvCxnSpPr>
        <p:spPr>
          <a:xfrm>
            <a:off x="4722480" y="3198600"/>
            <a:ext cx="84240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7"/>
          </p:cNvCxnSpPr>
          <p:nvPr/>
        </p:nvCxnSpPr>
        <p:spPr>
          <a:xfrm flipH="1">
            <a:off x="2207880" y="4113000"/>
            <a:ext cx="8424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5"/>
            <a:endCxn id="45" idx="1"/>
          </p:cNvCxnSpPr>
          <p:nvPr/>
        </p:nvCxnSpPr>
        <p:spPr>
          <a:xfrm>
            <a:off x="3427200" y="4113000"/>
            <a:ext cx="53748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3"/>
            <a:endCxn id="50" idx="7"/>
          </p:cNvCxnSpPr>
          <p:nvPr/>
        </p:nvCxnSpPr>
        <p:spPr>
          <a:xfrm flipH="1">
            <a:off x="3503160" y="5256000"/>
            <a:ext cx="461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43" idx="5"/>
            <a:endCxn id="61" idx="0"/>
          </p:cNvCxnSpPr>
          <p:nvPr/>
        </p:nvCxnSpPr>
        <p:spPr>
          <a:xfrm>
            <a:off x="594180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endCxn id="63" idx="7"/>
          </p:cNvCxnSpPr>
          <p:nvPr/>
        </p:nvCxnSpPr>
        <p:spPr>
          <a:xfrm flipH="1">
            <a:off x="5027400" y="4113000"/>
            <a:ext cx="537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4" idx="3"/>
            <a:endCxn id="66" idx="7"/>
          </p:cNvCxnSpPr>
          <p:nvPr/>
        </p:nvCxnSpPr>
        <p:spPr>
          <a:xfrm flipH="1">
            <a:off x="1293480" y="5256000"/>
            <a:ext cx="5374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44" idx="5"/>
            <a:endCxn id="70" idx="0"/>
          </p:cNvCxnSpPr>
          <p:nvPr/>
        </p:nvCxnSpPr>
        <p:spPr>
          <a:xfrm>
            <a:off x="2207880" y="525600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9" idx="3"/>
            <a:endCxn id="34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9" idx="5"/>
            <a:endCxn id="34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0" idx="3"/>
            <a:endCxn id="34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0" idx="5"/>
            <a:endCxn id="34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3" idx="3"/>
            <a:endCxn id="34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41" idx="5"/>
            <a:endCxn id="359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endCxn id="361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42" idx="5"/>
            <a:endCxn id="365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endCxn id="36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2" idx="3"/>
            <a:endCxn id="37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2" idx="5"/>
            <a:endCxn id="37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3" idx="3"/>
            <a:endCxn id="37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3" idx="5"/>
            <a:endCxn id="37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6" idx="3"/>
            <a:endCxn id="38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74" idx="5"/>
            <a:endCxn id="392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75" idx="5"/>
            <a:endCxn id="395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endCxn id="39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94800" y="3724200"/>
            <a:ext cx="2020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3" idx="3"/>
            <a:endCxn id="40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3" idx="5"/>
            <a:endCxn id="40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4" idx="3"/>
            <a:endCxn id="406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4" idx="5"/>
            <a:endCxn id="407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7" idx="3"/>
            <a:endCxn id="412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5" idx="5"/>
            <a:endCxn id="423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6" idx="5"/>
            <a:endCxn id="42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94800" y="3724200"/>
            <a:ext cx="2020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33920" y="4257720"/>
            <a:ext cx="127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5" idx="3"/>
            <a:endCxn id="43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35" idx="5"/>
            <a:endCxn id="43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6" idx="3"/>
            <a:endCxn id="438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"/>
          <p:cNvCxnSpPr>
            <a:stCxn id="436" idx="5"/>
            <a:endCxn id="439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39" idx="3"/>
            <a:endCxn id="444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37" idx="5"/>
            <a:endCxn id="455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38" idx="5"/>
            <a:endCxn id="458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endCxn id="46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94800" y="3724200"/>
            <a:ext cx="197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endCxn id="466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3"/>
            <a:endCxn id="47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69" idx="5"/>
            <a:endCxn id="47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0" idx="3"/>
            <a:endCxn id="47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0" idx="5"/>
            <a:endCxn id="47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3" idx="3"/>
            <a:endCxn id="47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71" idx="5"/>
            <a:endCxn id="489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72" idx="5"/>
            <a:endCxn id="492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endCxn id="49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endCxn id="49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3" idx="3"/>
            <a:endCxn id="50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3" idx="5"/>
            <a:endCxn id="50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4" idx="3"/>
            <a:endCxn id="506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4" idx="5"/>
            <a:endCxn id="507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7" idx="3"/>
            <a:endCxn id="512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05" idx="5"/>
            <a:endCxn id="523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6" idx="5"/>
            <a:endCxn id="52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endCxn id="5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endCxn id="53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2800" y="3495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8" idx="3"/>
            <a:endCxn id="53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8" idx="5"/>
            <a:endCxn id="540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9" idx="3"/>
            <a:endCxn id="54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9" idx="5"/>
            <a:endCxn id="542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2" idx="3"/>
            <a:endCxn id="547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"/>
          <p:cNvCxnSpPr>
            <a:stCxn id="540" idx="5"/>
            <a:endCxn id="55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41" idx="5"/>
            <a:endCxn id="56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endCxn id="56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>
            <a:endCxn id="568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2800" y="3495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06440" y="3429000"/>
            <a:ext cx="20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720" y="3495600"/>
            <a:ext cx="168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06440" y="3429000"/>
            <a:ext cx="20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0" idx="3"/>
            <a:endCxn id="581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0" idx="5"/>
            <a:endCxn id="582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81" idx="3"/>
            <a:endCxn id="583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1" idx="5"/>
            <a:endCxn id="584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4" idx="3"/>
            <a:endCxn id="589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82" idx="5"/>
            <a:endCxn id="599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2" idx="3"/>
            <a:endCxn id="60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602" idx="5"/>
            <a:endCxn id="60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3" idx="3"/>
            <a:endCxn id="60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603" idx="5"/>
            <a:endCxn id="60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"/>
          <p:cNvCxnSpPr>
            <a:stCxn id="606" idx="3"/>
            <a:endCxn id="61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604" idx="5"/>
            <a:endCxn id="62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05" idx="5"/>
            <a:endCxn id="624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endCxn id="62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endCxn id="62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47480" y="91440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node X, th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length of the lef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least as larg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righ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0" name=""/>
          <p:cNvCxnSpPr>
            <a:stCxn id="635" idx="3"/>
            <a:endCxn id="63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35" idx="5"/>
            <a:endCxn id="63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"/>
          <p:cNvCxnSpPr>
            <a:stCxn id="636" idx="3"/>
            <a:endCxn id="638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3" name=""/>
          <p:cNvCxnSpPr>
            <a:stCxn id="636" idx="5"/>
            <a:endCxn id="639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39" idx="3"/>
            <a:endCxn id="644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stCxn id="637" idx="5"/>
            <a:endCxn id="654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8" idx="5"/>
            <a:endCxn id="657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endCxn id="65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endCxn id="662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0120" y="1041480"/>
            <a:ext cx="345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 path 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f an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the shor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nod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or one chi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47480" y="91440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node X, th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length of the lef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least as larg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righ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2" idx="3"/>
            <a:endCxn id="7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2" idx="5"/>
            <a:endCxn id="7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3" idx="3"/>
            <a:endCxn id="7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3" idx="5"/>
            <a:endCxn id="7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6" idx="3"/>
            <a:endCxn id="8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74" idx="5"/>
            <a:endCxn id="92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endCxn id="94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5" idx="3"/>
            <a:endCxn id="97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75" idx="5"/>
            <a:endCxn id="10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8" idx="3"/>
            <a:endCxn id="66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68" idx="5"/>
            <a:endCxn id="670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69" idx="3"/>
            <a:endCxn id="67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69" idx="5"/>
            <a:endCxn id="672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"/>
          <p:cNvCxnSpPr>
            <a:stCxn id="672" idx="3"/>
            <a:endCxn id="677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stCxn id="670" idx="5"/>
            <a:endCxn id="68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"/>
          <p:cNvCxnSpPr>
            <a:stCxn id="671" idx="5"/>
            <a:endCxn id="69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endCxn id="69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endCxn id="695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47480" y="91440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node X, th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length of the lef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least as larg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righ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"/>
          <p:cNvCxnSpPr>
            <a:stCxn id="701" idx="3"/>
            <a:endCxn id="70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701" idx="5"/>
            <a:endCxn id="703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2" idx="3"/>
            <a:endCxn id="704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2" idx="5"/>
            <a:endCxn id="705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3"/>
            <a:endCxn id="710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"/>
          <p:cNvCxnSpPr>
            <a:stCxn id="703" idx="5"/>
            <a:endCxn id="720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4" idx="5"/>
            <a:endCxn id="723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endCxn id="72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endCxn id="728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34" idx="3"/>
            <a:endCxn id="735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0" name=""/>
          <p:cNvCxnSpPr>
            <a:stCxn id="734" idx="5"/>
            <a:endCxn id="736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stCxn id="735" idx="3"/>
            <a:endCxn id="737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5" idx="5"/>
            <a:endCxn id="738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38" idx="3"/>
            <a:endCxn id="743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36" idx="5"/>
            <a:endCxn id="753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37" idx="5"/>
            <a:endCxn id="75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endCxn id="758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0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2" name=""/>
          <p:cNvCxnSpPr>
            <a:endCxn id="761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3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61640" y="2581200"/>
            <a:ext cx="18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3" name=""/>
          <p:cNvCxnSpPr>
            <a:stCxn id="778" idx="3"/>
            <a:endCxn id="77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78" idx="5"/>
            <a:endCxn id="780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79" idx="3"/>
            <a:endCxn id="78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79" idx="5"/>
            <a:endCxn id="782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7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7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80" idx="5"/>
            <a:endCxn id="79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81" idx="5"/>
            <a:endCxn id="80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endCxn id="80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endCxn id="805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461640" y="2581200"/>
            <a:ext cx="18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147080" y="3800520"/>
            <a:ext cx="197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 th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ls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23" idx="3"/>
            <a:endCxn id="82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9" name=""/>
          <p:cNvCxnSpPr>
            <a:stCxn id="823" idx="5"/>
            <a:endCxn id="82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0" name=""/>
          <p:cNvCxnSpPr>
            <a:stCxn id="824" idx="3"/>
            <a:endCxn id="826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1" name=""/>
          <p:cNvCxnSpPr>
            <a:stCxn id="824" idx="5"/>
            <a:endCxn id="827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27" idx="3"/>
            <a:endCxn id="832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3" name=""/>
          <p:cNvCxnSpPr>
            <a:stCxn id="825" idx="5"/>
            <a:endCxn id="842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4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6" name=""/>
          <p:cNvCxnSpPr>
            <a:stCxn id="826" idx="5"/>
            <a:endCxn id="845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8" name=""/>
          <p:cNvCxnSpPr>
            <a:endCxn id="847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endCxn id="850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61640" y="2581200"/>
            <a:ext cx="18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3480" y="3038400"/>
            <a:ext cx="184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os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move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4633800">
            <a:off x="42840" y="5006880"/>
            <a:ext cx="1333440" cy="304560"/>
          </a:xfrm>
          <a:custGeom>
            <a:avLst/>
            <a:gdLst>
              <a:gd name="textAreaLeft" fmla="*/ 166680 w 1333440"/>
              <a:gd name="textAreaRight" fmla="*/ 1166760 w 13334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7080" y="3800520"/>
            <a:ext cx="197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 th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ls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0" idx="3"/>
            <a:endCxn id="871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70" idx="5"/>
            <a:endCxn id="872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71" idx="3"/>
            <a:endCxn id="873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1" idx="5"/>
            <a:endCxn id="874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74" idx="3"/>
            <a:endCxn id="879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72" idx="5"/>
            <a:endCxn id="889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1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"/>
          <p:cNvCxnSpPr>
            <a:stCxn id="873" idx="5"/>
            <a:endCxn id="892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4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endCxn id="894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6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909" idx="3"/>
            <a:endCxn id="91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5" name=""/>
          <p:cNvCxnSpPr>
            <a:stCxn id="909" idx="5"/>
            <a:endCxn id="91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910" idx="3"/>
            <a:endCxn id="91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"/>
          <p:cNvCxnSpPr>
            <a:stCxn id="910" idx="5"/>
            <a:endCxn id="91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3" idx="3"/>
            <a:endCxn id="91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9" name=""/>
          <p:cNvCxnSpPr>
            <a:stCxn id="911" idx="5"/>
            <a:endCxn id="92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2" name=""/>
          <p:cNvCxnSpPr>
            <a:stCxn id="912" idx="5"/>
            <a:endCxn id="93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endCxn id="93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9440" y="5019840"/>
            <a:ext cx="13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49" idx="3"/>
            <a:endCxn id="95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"/>
          <p:cNvCxnSpPr>
            <a:stCxn id="949" idx="5"/>
            <a:endCxn id="95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"/>
          <p:cNvCxnSpPr>
            <a:stCxn id="950" idx="3"/>
            <a:endCxn id="95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50" idx="5"/>
            <a:endCxn id="95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53" idx="3"/>
            <a:endCxn id="95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9" name=""/>
          <p:cNvCxnSpPr>
            <a:stCxn id="951" idx="5"/>
            <a:endCxn id="96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52" idx="5"/>
            <a:endCxn id="97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4" name=""/>
          <p:cNvCxnSpPr>
            <a:endCxn id="97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3040" y="5791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89" idx="3"/>
            <a:endCxn id="99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"/>
          <p:cNvCxnSpPr>
            <a:stCxn id="989" idx="5"/>
            <a:endCxn id="99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"/>
          <p:cNvCxnSpPr>
            <a:stCxn id="990" idx="3"/>
            <a:endCxn id="99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90" idx="5"/>
            <a:endCxn id="99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9" name=""/>
          <p:cNvCxnSpPr>
            <a:stCxn id="993" idx="3"/>
            <a:endCxn id="99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stCxn id="991" idx="5"/>
            <a:endCxn id="100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2" name=""/>
          <p:cNvCxnSpPr>
            <a:stCxn id="992" idx="5"/>
            <a:endCxn id="101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endCxn id="101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4920" y="4952880"/>
            <a:ext cx="152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29" idx="3"/>
            <a:endCxn id="103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stCxn id="1029" idx="5"/>
            <a:endCxn id="103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6" name=""/>
          <p:cNvCxnSpPr>
            <a:stCxn id="1030" idx="3"/>
            <a:endCxn id="103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7" name=""/>
          <p:cNvCxnSpPr>
            <a:stCxn id="1030" idx="5"/>
            <a:endCxn id="103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9" name=""/>
          <p:cNvCxnSpPr>
            <a:stCxn id="1033" idx="3"/>
            <a:endCxn id="103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9" name=""/>
          <p:cNvCxnSpPr>
            <a:stCxn id="1031" idx="5"/>
            <a:endCxn id="104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2" name=""/>
          <p:cNvCxnSpPr>
            <a:stCxn id="1032" idx="5"/>
            <a:endCxn id="105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4" name=""/>
          <p:cNvCxnSpPr>
            <a:endCxn id="105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9800" y="4714920"/>
            <a:ext cx="132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4" idx="3"/>
            <a:endCxn id="105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4" idx="5"/>
            <a:endCxn id="106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5" idx="3"/>
            <a:endCxn id="107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5"/>
            <a:endCxn id="108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8" idx="3"/>
            <a:endCxn id="113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06" idx="5"/>
            <a:endCxn id="124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endCxn id="126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07" idx="3"/>
            <a:endCxn id="12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07" idx="5"/>
            <a:endCxn id="133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4" name=""/>
          <p:cNvCxnSpPr>
            <a:stCxn id="1069" idx="3"/>
            <a:endCxn id="107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1069" idx="5"/>
            <a:endCxn id="107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70" idx="3"/>
            <a:endCxn id="107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7" name=""/>
          <p:cNvCxnSpPr>
            <a:stCxn id="1070" idx="5"/>
            <a:endCxn id="107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9" name=""/>
          <p:cNvCxnSpPr>
            <a:stCxn id="1073" idx="3"/>
            <a:endCxn id="107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9" name=""/>
          <p:cNvCxnSpPr>
            <a:stCxn id="1071" idx="5"/>
            <a:endCxn id="108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2" name=""/>
          <p:cNvCxnSpPr>
            <a:stCxn id="1072" idx="5"/>
            <a:endCxn id="109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4" name=""/>
          <p:cNvCxnSpPr>
            <a:endCxn id="109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0520" y="4714920"/>
            <a:ext cx="155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i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4" name=""/>
          <p:cNvCxnSpPr>
            <a:stCxn id="1109" idx="3"/>
            <a:endCxn id="111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09" idx="5"/>
            <a:endCxn id="111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6" name=""/>
          <p:cNvCxnSpPr>
            <a:stCxn id="1110" idx="3"/>
            <a:endCxn id="111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7" name=""/>
          <p:cNvCxnSpPr>
            <a:stCxn id="1110" idx="5"/>
            <a:endCxn id="111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9" name=""/>
          <p:cNvCxnSpPr>
            <a:stCxn id="1113" idx="3"/>
            <a:endCxn id="111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9" name=""/>
          <p:cNvCxnSpPr>
            <a:stCxn id="1111" idx="5"/>
            <a:endCxn id="112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2" name=""/>
          <p:cNvCxnSpPr>
            <a:stCxn id="1112" idx="5"/>
            <a:endCxn id="113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endCxn id="113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>
            <a:endCxn id="114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81080" y="1143000"/>
            <a:ext cx="514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rees have good bala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stCxn id="1151" idx="3"/>
            <a:endCxn id="115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5" name=""/>
          <p:cNvCxnSpPr>
            <a:stCxn id="1152" idx="3"/>
            <a:endCxn id="1153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4" name=""/>
          <p:cNvCxnSpPr>
            <a:endCxn id="1163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5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80360" y="1143000"/>
            <a:ext cx="58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rees have good bala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leftist trees can be very unbalan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2" name=""/>
          <p:cNvCxnSpPr>
            <a:stCxn id="1169" idx="3"/>
            <a:endCxn id="117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3" name=""/>
          <p:cNvCxnSpPr>
            <a:stCxn id="1170" idx="3"/>
            <a:endCxn id="117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2" name=""/>
          <p:cNvCxnSpPr>
            <a:endCxn id="1181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3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365040" y="2352600"/>
            <a:ext cx="318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rivial ca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enti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ea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1" name=""/>
          <p:cNvCxnSpPr>
            <a:stCxn id="1188" idx="3"/>
            <a:endCxn id="118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2" name=""/>
          <p:cNvCxnSpPr>
            <a:stCxn id="1189" idx="3"/>
            <a:endCxn id="119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1" name=""/>
          <p:cNvCxnSpPr>
            <a:endCxn id="120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8" name=""/>
          <p:cNvCxnSpPr>
            <a:stCxn id="1205" idx="3"/>
            <a:endCxn id="1206" idx="7"/>
          </p:cNvCxnSpPr>
          <p:nvPr/>
        </p:nvCxnSpPr>
        <p:spPr>
          <a:xfrm flipH="1">
            <a:off x="5560200" y="31989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9" name=""/>
          <p:cNvCxnSpPr>
            <a:stCxn id="1206" idx="3"/>
            <a:endCxn id="1207" idx="7"/>
          </p:cNvCxnSpPr>
          <p:nvPr/>
        </p:nvCxnSpPr>
        <p:spPr>
          <a:xfrm flipH="1">
            <a:off x="434124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0" name=""/>
          <p:cNvSpPr/>
          <p:nvPr/>
        </p:nvSpPr>
        <p:spPr>
          <a:xfrm>
            <a:off x="6445080" y="27432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8620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6252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1" name=""/>
          <p:cNvCxnSpPr>
            <a:stCxn id="1218" idx="3"/>
            <a:endCxn id="121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19" idx="3"/>
            <a:endCxn id="122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endCxn id="12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67560" y="2352600"/>
            <a:ext cx="243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rge th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3886200" y="2743200"/>
            <a:ext cx="3048120" cy="2593440"/>
            <a:chOff x="3886200" y="2743200"/>
            <a:chExt cx="3048120" cy="2593440"/>
          </a:xfrm>
        </p:grpSpPr>
        <p:grpSp>
          <p:nvGrpSpPr>
            <p:cNvPr id="1237" name=""/>
            <p:cNvGrpSpPr/>
            <p:nvPr/>
          </p:nvGrpSpPr>
          <p:grpSpPr>
            <a:xfrm>
              <a:off x="5560200" y="2743200"/>
              <a:ext cx="1374120" cy="992160"/>
              <a:chOff x="5560200" y="2743200"/>
              <a:chExt cx="1374120" cy="992160"/>
            </a:xfrm>
          </p:grpSpPr>
          <p:sp>
            <p:nvSpPr>
              <p:cNvPr id="1238" name=""/>
              <p:cNvSpPr/>
              <p:nvPr/>
            </p:nvSpPr>
            <p:spPr>
              <a:xfrm>
                <a:off x="6400800" y="27432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9" name=""/>
              <p:cNvCxnSpPr>
                <a:stCxn id="1238" idx="3"/>
                <a:endCxn id="1240" idx="7"/>
              </p:cNvCxnSpPr>
              <p:nvPr/>
            </p:nvCxnSpPr>
            <p:spPr>
              <a:xfrm flipH="1">
                <a:off x="5560200" y="3198960"/>
                <a:ext cx="91836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41" name=""/>
              <p:cNvSpPr/>
              <p:nvPr/>
            </p:nvSpPr>
            <p:spPr>
              <a:xfrm>
                <a:off x="6445080" y="2743200"/>
                <a:ext cx="41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3886200" y="3124080"/>
              <a:ext cx="1784520" cy="2212560"/>
              <a:chOff x="3886200" y="3124080"/>
              <a:chExt cx="1784520" cy="2212560"/>
            </a:xfrm>
          </p:grpSpPr>
          <p:sp>
            <p:nvSpPr>
              <p:cNvPr id="1240" name=""/>
              <p:cNvSpPr/>
              <p:nvPr/>
            </p:nvSpPr>
            <p:spPr>
              <a:xfrm>
                <a:off x="5105520" y="3657600"/>
                <a:ext cx="53316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86200" y="48006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44" name=""/>
              <p:cNvCxnSpPr>
                <a:stCxn id="1240" idx="3"/>
                <a:endCxn id="1243" idx="7"/>
              </p:cNvCxnSpPr>
              <p:nvPr/>
            </p:nvCxnSpPr>
            <p:spPr>
              <a:xfrm flipH="1">
                <a:off x="4341240" y="4113000"/>
                <a:ext cx="84204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45" name=""/>
              <p:cNvSpPr/>
              <p:nvPr/>
            </p:nvSpPr>
            <p:spPr>
              <a:xfrm>
                <a:off x="5257800" y="3733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886200" y="4876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486400" y="33336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962520" y="4267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1055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0" name=""/>
          <p:cNvSpPr/>
          <p:nvPr/>
        </p:nvSpPr>
        <p:spPr>
          <a:xfrm>
            <a:off x="68580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229680" y="2057400"/>
            <a:ext cx="273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rge th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ake th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nod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stCxn id="1253" idx="3"/>
            <a:endCxn id="125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"/>
          <p:cNvCxnSpPr>
            <a:stCxn id="1254" idx="3"/>
            <a:endCxn id="125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6" name=""/>
          <p:cNvCxnSpPr>
            <a:endCxn id="126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5627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006800" y="4878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87480" y="6021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3" name=""/>
          <p:cNvCxnSpPr>
            <a:stCxn id="1270" idx="3"/>
            <a:endCxn id="1271" idx="7"/>
          </p:cNvCxnSpPr>
          <p:nvPr/>
        </p:nvCxnSpPr>
        <p:spPr>
          <a:xfrm flipH="1">
            <a:off x="4462200" y="4113000"/>
            <a:ext cx="117864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stCxn id="1271" idx="3"/>
            <a:endCxn id="1272" idx="7"/>
          </p:cNvCxnSpPr>
          <p:nvPr/>
        </p:nvCxnSpPr>
        <p:spPr>
          <a:xfrm flipH="1">
            <a:off x="3242520" y="53337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5607000" y="36576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159080" y="4954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787480" y="609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387680" y="455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63800" y="5487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06800" y="4344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019920" y="3276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2" name=""/>
          <p:cNvCxnSpPr>
            <a:stCxn id="1253" idx="5"/>
            <a:endCxn id="1275" idx="1"/>
          </p:cNvCxnSpPr>
          <p:nvPr/>
        </p:nvCxnSpPr>
        <p:spPr>
          <a:xfrm>
            <a:off x="4722840" y="3198600"/>
            <a:ext cx="8848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228600" y="2057400"/>
            <a:ext cx="29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case show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 is al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ftist heap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8" name=""/>
          <p:cNvCxnSpPr>
            <a:stCxn id="1285" idx="3"/>
            <a:endCxn id="128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9" name=""/>
          <p:cNvCxnSpPr>
            <a:stCxn id="1286" idx="3"/>
            <a:endCxn id="1287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8" name=""/>
          <p:cNvCxnSpPr>
            <a:endCxn id="1297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9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5627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06800" y="4878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787480" y="6021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5" name=""/>
          <p:cNvCxnSpPr>
            <a:stCxn id="1302" idx="3"/>
            <a:endCxn id="1303" idx="7"/>
          </p:cNvCxnSpPr>
          <p:nvPr/>
        </p:nvCxnSpPr>
        <p:spPr>
          <a:xfrm flipH="1">
            <a:off x="4462200" y="4113000"/>
            <a:ext cx="117864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"/>
          <p:cNvCxnSpPr>
            <a:stCxn id="1303" idx="3"/>
            <a:endCxn id="1304" idx="7"/>
          </p:cNvCxnSpPr>
          <p:nvPr/>
        </p:nvCxnSpPr>
        <p:spPr>
          <a:xfrm flipH="1">
            <a:off x="3242520" y="53337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7" name=""/>
          <p:cNvSpPr/>
          <p:nvPr/>
        </p:nvSpPr>
        <p:spPr>
          <a:xfrm>
            <a:off x="5607000" y="36576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59080" y="4954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787480" y="609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387680" y="455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63800" y="5487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006800" y="4344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19920" y="3276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4" name=""/>
          <p:cNvCxnSpPr>
            <a:stCxn id="1285" idx="5"/>
            <a:endCxn id="1307" idx="1"/>
          </p:cNvCxnSpPr>
          <p:nvPr/>
        </p:nvCxnSpPr>
        <p:spPr>
          <a:xfrm>
            <a:off x="4722840" y="3198600"/>
            <a:ext cx="8848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67200" y="2352600"/>
            <a:ext cx="32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had start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3886200" y="2743200"/>
            <a:ext cx="3048120" cy="2593440"/>
            <a:chOff x="3886200" y="2743200"/>
            <a:chExt cx="3048120" cy="2593440"/>
          </a:xfrm>
        </p:grpSpPr>
        <p:grpSp>
          <p:nvGrpSpPr>
            <p:cNvPr id="1322" name=""/>
            <p:cNvGrpSpPr/>
            <p:nvPr/>
          </p:nvGrpSpPr>
          <p:grpSpPr>
            <a:xfrm>
              <a:off x="5560200" y="2743200"/>
              <a:ext cx="1374120" cy="992160"/>
              <a:chOff x="5560200" y="2743200"/>
              <a:chExt cx="1374120" cy="992160"/>
            </a:xfrm>
          </p:grpSpPr>
          <p:sp>
            <p:nvSpPr>
              <p:cNvPr id="1323" name=""/>
              <p:cNvSpPr/>
              <p:nvPr/>
            </p:nvSpPr>
            <p:spPr>
              <a:xfrm>
                <a:off x="6400800" y="27432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24" name=""/>
              <p:cNvCxnSpPr>
                <a:stCxn id="1323" idx="3"/>
                <a:endCxn id="1325" idx="7"/>
              </p:cNvCxnSpPr>
              <p:nvPr/>
            </p:nvCxnSpPr>
            <p:spPr>
              <a:xfrm flipH="1">
                <a:off x="5560200" y="3198960"/>
                <a:ext cx="91836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26" name=""/>
              <p:cNvSpPr/>
              <p:nvPr/>
            </p:nvSpPr>
            <p:spPr>
              <a:xfrm>
                <a:off x="6445080" y="2743200"/>
                <a:ext cx="41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3886200" y="3124080"/>
              <a:ext cx="1784520" cy="2212560"/>
              <a:chOff x="3886200" y="3124080"/>
              <a:chExt cx="1784520" cy="2212560"/>
            </a:xfrm>
          </p:grpSpPr>
          <p:sp>
            <p:nvSpPr>
              <p:cNvPr id="1325" name=""/>
              <p:cNvSpPr/>
              <p:nvPr/>
            </p:nvSpPr>
            <p:spPr>
              <a:xfrm>
                <a:off x="5105520" y="3657600"/>
                <a:ext cx="53316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886200" y="48006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29" name=""/>
              <p:cNvCxnSpPr>
                <a:stCxn id="1325" idx="3"/>
                <a:endCxn id="1328" idx="7"/>
              </p:cNvCxnSpPr>
              <p:nvPr/>
            </p:nvCxnSpPr>
            <p:spPr>
              <a:xfrm flipH="1">
                <a:off x="4341240" y="4113000"/>
                <a:ext cx="84204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30" name=""/>
              <p:cNvSpPr/>
              <p:nvPr/>
            </p:nvSpPr>
            <p:spPr>
              <a:xfrm>
                <a:off x="5257800" y="3733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886200" y="4876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486400" y="33336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962520" y="4267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055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5" name=""/>
          <p:cNvSpPr/>
          <p:nvPr/>
        </p:nvSpPr>
        <p:spPr>
          <a:xfrm>
            <a:off x="68580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5627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006800" y="4878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787480" y="6021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4" name=""/>
          <p:cNvCxnSpPr>
            <a:stCxn id="1341" idx="3"/>
            <a:endCxn id="1342" idx="7"/>
          </p:cNvCxnSpPr>
          <p:nvPr/>
        </p:nvCxnSpPr>
        <p:spPr>
          <a:xfrm flipH="1">
            <a:off x="4462200" y="4113000"/>
            <a:ext cx="117864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5" name=""/>
          <p:cNvCxnSpPr>
            <a:stCxn id="1342" idx="3"/>
            <a:endCxn id="1343" idx="7"/>
          </p:cNvCxnSpPr>
          <p:nvPr/>
        </p:nvCxnSpPr>
        <p:spPr>
          <a:xfrm flipH="1">
            <a:off x="3242520" y="53337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6" name=""/>
          <p:cNvSpPr/>
          <p:nvPr/>
        </p:nvSpPr>
        <p:spPr>
          <a:xfrm>
            <a:off x="5607000" y="36576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59080" y="4954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87480" y="609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87680" y="455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63800" y="5487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006800" y="4344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019920" y="3276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"/>
          <p:cNvCxnSpPr>
            <a:stCxn id="1338" idx="5"/>
            <a:endCxn id="1346" idx="1"/>
          </p:cNvCxnSpPr>
          <p:nvPr/>
        </p:nvCxnSpPr>
        <p:spPr>
          <a:xfrm>
            <a:off x="4722840" y="3198600"/>
            <a:ext cx="8848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4" name=""/>
          <p:cNvSpPr/>
          <p:nvPr/>
        </p:nvSpPr>
        <p:spPr>
          <a:xfrm>
            <a:off x="367200" y="2352600"/>
            <a:ext cx="32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then after th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the tree is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, sinc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chil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ot 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path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which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3580920" y="32004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352680" y="388548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124080" y="3429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7" idx="3"/>
            <a:endCxn id="138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7" idx="5"/>
            <a:endCxn id="139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8" idx="3"/>
            <a:endCxn id="14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5"/>
            <a:endCxn id="141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1" idx="3"/>
            <a:endCxn id="146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9" idx="5"/>
            <a:endCxn id="15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5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0" idx="3"/>
            <a:endCxn id="16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40" idx="5"/>
            <a:endCxn id="16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95520" y="3724200"/>
            <a:ext cx="193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366480" y="2352600"/>
            <a:ext cx="336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sw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ft and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ees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156120" y="37339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600200" y="4954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80880" y="6097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7" name=""/>
          <p:cNvCxnSpPr>
            <a:stCxn id="1364" idx="3"/>
            <a:endCxn id="1365" idx="7"/>
          </p:cNvCxnSpPr>
          <p:nvPr/>
        </p:nvCxnSpPr>
        <p:spPr>
          <a:xfrm flipH="1">
            <a:off x="2055600" y="4189320"/>
            <a:ext cx="11786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8" name=""/>
          <p:cNvCxnSpPr>
            <a:stCxn id="1365" idx="3"/>
            <a:endCxn id="1366" idx="7"/>
          </p:cNvCxnSpPr>
          <p:nvPr/>
        </p:nvCxnSpPr>
        <p:spPr>
          <a:xfrm flipH="1">
            <a:off x="835920" y="54100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9" name=""/>
          <p:cNvSpPr/>
          <p:nvPr/>
        </p:nvSpPr>
        <p:spPr>
          <a:xfrm>
            <a:off x="320040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5030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880" y="6173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3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7200" y="5564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00200" y="4421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526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62" idx="2"/>
          </p:cNvCxnSpPr>
          <p:nvPr/>
        </p:nvCxnSpPr>
        <p:spPr>
          <a:xfrm flipH="1">
            <a:off x="3656880" y="3200040"/>
            <a:ext cx="747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7" name=""/>
          <p:cNvSpPr/>
          <p:nvPr/>
        </p:nvSpPr>
        <p:spPr>
          <a:xfrm>
            <a:off x="4724280" y="32004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410080" y="388548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562720" y="3429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366840" y="2352600"/>
            <a:ext cx="366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on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i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156120" y="37339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00200" y="4954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0880" y="6097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9" name=""/>
          <p:cNvCxnSpPr>
            <a:stCxn id="1386" idx="3"/>
            <a:endCxn id="1387" idx="7"/>
          </p:cNvCxnSpPr>
          <p:nvPr/>
        </p:nvCxnSpPr>
        <p:spPr>
          <a:xfrm flipH="1">
            <a:off x="2055600" y="4189320"/>
            <a:ext cx="11786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0" name=""/>
          <p:cNvCxnSpPr>
            <a:stCxn id="1387" idx="3"/>
            <a:endCxn id="1388" idx="7"/>
          </p:cNvCxnSpPr>
          <p:nvPr/>
        </p:nvCxnSpPr>
        <p:spPr>
          <a:xfrm flipH="1">
            <a:off x="835920" y="54100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1" name=""/>
          <p:cNvSpPr/>
          <p:nvPr/>
        </p:nvSpPr>
        <p:spPr>
          <a:xfrm>
            <a:off x="320040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52480" y="5030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0880" y="6173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981080" y="463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7200" y="5564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4421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3526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8" name=""/>
          <p:cNvCxnSpPr>
            <a:stCxn id="1384" idx="2"/>
          </p:cNvCxnSpPr>
          <p:nvPr/>
        </p:nvCxnSpPr>
        <p:spPr>
          <a:xfrm flipH="1">
            <a:off x="3656880" y="3200040"/>
            <a:ext cx="747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229680" y="2055960"/>
            <a:ext cx="381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ough,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tir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4" name=""/>
          <p:cNvCxnSpPr>
            <a:stCxn id="1401" idx="3"/>
            <a:endCxn id="140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05" name=""/>
          <p:cNvCxnSpPr>
            <a:stCxn id="1402" idx="3"/>
            <a:endCxn id="1403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0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34800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1" name=""/>
          <p:cNvCxnSpPr>
            <a:endCxn id="141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1412" name=""/>
          <p:cNvGrpSpPr/>
          <p:nvPr/>
        </p:nvGrpSpPr>
        <p:grpSpPr>
          <a:xfrm>
            <a:off x="5560200" y="2743200"/>
            <a:ext cx="1374120" cy="992160"/>
            <a:chOff x="5560200" y="2743200"/>
            <a:chExt cx="1374120" cy="992160"/>
          </a:xfrm>
        </p:grpSpPr>
        <p:sp>
          <p:nvSpPr>
            <p:cNvPr id="1413" name=""/>
            <p:cNvSpPr/>
            <p:nvPr/>
          </p:nvSpPr>
          <p:spPr>
            <a:xfrm>
              <a:off x="6400800" y="27432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4" name=""/>
            <p:cNvCxnSpPr>
              <a:stCxn id="1413" idx="3"/>
              <a:endCxn id="1415" idx="7"/>
            </p:cNvCxnSpPr>
            <p:nvPr/>
          </p:nvCxnSpPr>
          <p:spPr>
            <a:xfrm flipH="1">
              <a:off x="5560200" y="3198960"/>
              <a:ext cx="918360" cy="53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6" name=""/>
            <p:cNvSpPr/>
            <p:nvPr/>
          </p:nvSpPr>
          <p:spPr>
            <a:xfrm>
              <a:off x="6445080" y="274320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8" name=""/>
          <p:cNvCxnSpPr>
            <a:stCxn id="1415" idx="3"/>
            <a:endCxn id="1417" idx="7"/>
          </p:cNvCxnSpPr>
          <p:nvPr/>
        </p:nvCxnSpPr>
        <p:spPr>
          <a:xfrm flipH="1">
            <a:off x="434124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9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8620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48640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230400" y="2057400"/>
            <a:ext cx="319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be don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30400" y="2057400"/>
            <a:ext cx="3198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be don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can b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i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 of the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05520" y="1752480"/>
            <a:ext cx="197460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048120" y="16002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rot="7599000">
            <a:off x="5471280" y="1310400"/>
            <a:ext cx="152280" cy="426960"/>
          </a:xfrm>
          <a:custGeom>
            <a:avLst/>
            <a:gdLst>
              <a:gd name="textAreaLeft" fmla="*/ 97200 w 152280"/>
              <a:gd name="textAreaRight" fmla="*/ 152640 w 152280"/>
              <a:gd name="textAreaTop" fmla="*/ 10800 h 426960"/>
              <a:gd name="textAreaBottom" fmla="*/ 416160 h 4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rot="7599000">
            <a:off x="6995160" y="1462680"/>
            <a:ext cx="152280" cy="426960"/>
          </a:xfrm>
          <a:custGeom>
            <a:avLst/>
            <a:gdLst>
              <a:gd name="textAreaLeft" fmla="*/ 97200 w 152280"/>
              <a:gd name="textAreaRight" fmla="*/ 152640 w 152280"/>
              <a:gd name="textAreaTop" fmla="*/ 10800 h 426960"/>
              <a:gd name="textAreaBottom" fmla="*/ 416160 h 4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348800" y="300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7380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796360" y="406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21720" y="419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554440" y="990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640480" y="121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02360" y="11422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164720" y="137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236160" y="2057400"/>
            <a:ext cx="274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3048120" y="990000"/>
            <a:ext cx="4449600" cy="4304160"/>
            <a:chOff x="3048120" y="990000"/>
            <a:chExt cx="4449600" cy="4304160"/>
          </a:xfrm>
        </p:grpSpPr>
        <p:sp>
          <p:nvSpPr>
            <p:cNvPr id="1442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048120" y="1600200"/>
              <a:ext cx="2514600" cy="28954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7599000">
              <a:off x="5471280" y="13104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48800" y="300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738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021720" y="419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54440" y="990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640480" y="121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64720" y="137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232200" y="4647600"/>
            <a:ext cx="2494080" cy="611640"/>
            <a:chOff x="232200" y="4647600"/>
            <a:chExt cx="2494080" cy="611640"/>
          </a:xfrm>
        </p:grpSpPr>
        <p:sp>
          <p:nvSpPr>
            <p:cNvPr id="1455" name=""/>
            <p:cNvSpPr/>
            <p:nvPr/>
          </p:nvSpPr>
          <p:spPr>
            <a:xfrm>
              <a:off x="232200" y="4647600"/>
              <a:ext cx="249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) +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7359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643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" name=""/>
          <p:cNvSpPr/>
          <p:nvPr/>
        </p:nvSpPr>
        <p:spPr>
          <a:xfrm>
            <a:off x="457200" y="228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5428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28780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602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21148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0760" y="37332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5105520" y="1142280"/>
            <a:ext cx="2216160" cy="4151880"/>
            <a:chOff x="5105520" y="1142280"/>
            <a:chExt cx="2216160" cy="4151880"/>
          </a:xfrm>
        </p:grpSpPr>
        <p:sp>
          <p:nvSpPr>
            <p:cNvPr id="1466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456840" y="1066680"/>
            <a:ext cx="530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path length, r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s the length of th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right links to a lea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7" name=""/>
          <p:cNvCxnSpPr>
            <a:stCxn id="1472" idx="3"/>
            <a:endCxn id="147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8" name=""/>
          <p:cNvCxnSpPr>
            <a:stCxn id="1472" idx="5"/>
            <a:endCxn id="147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9" name=""/>
          <p:cNvCxnSpPr>
            <a:stCxn id="1473" idx="3"/>
            <a:endCxn id="147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0" name=""/>
          <p:cNvCxnSpPr>
            <a:stCxn id="1473" idx="5"/>
            <a:endCxn id="147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2" name=""/>
          <p:cNvCxnSpPr>
            <a:stCxn id="1476" idx="3"/>
            <a:endCxn id="148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2" name=""/>
          <p:cNvCxnSpPr>
            <a:stCxn id="1474" idx="5"/>
            <a:endCxn id="149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3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5" name=""/>
          <p:cNvCxnSpPr>
            <a:stCxn id="1475" idx="5"/>
            <a:endCxn id="1494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7" name=""/>
          <p:cNvCxnSpPr>
            <a:endCxn id="149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0" name=""/>
          <p:cNvCxnSpPr>
            <a:endCxn id="149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55880" y="990720"/>
            <a:ext cx="332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rot="7657800">
            <a:off x="5853240" y="1432440"/>
            <a:ext cx="685800" cy="3535560"/>
          </a:xfrm>
          <a:custGeom>
            <a:avLst/>
            <a:gdLst>
              <a:gd name="textAreaLeft" fmla="*/ 438120 w 685800"/>
              <a:gd name="textAreaRight" fmla="*/ 686160 w 685800"/>
              <a:gd name="textAreaTop" fmla="*/ 92160 h 3535560"/>
              <a:gd name="textAreaBottom" fmla="*/ 3443400 h 353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513600" y="248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717520" y="228528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08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11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17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20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1" idx="3"/>
            <a:endCxn id="17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1" idx="5"/>
            <a:endCxn id="173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2" idx="3"/>
            <a:endCxn id="174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5"/>
            <a:endCxn id="175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0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73" idx="5"/>
            <a:endCxn id="19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endCxn id="19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74" idx="3"/>
            <a:endCxn id="19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4" idx="5"/>
            <a:endCxn id="20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94800" y="3724200"/>
            <a:ext cx="20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28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31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410440" y="2514600"/>
            <a:ext cx="343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011720" y="31996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41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44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410440" y="2514600"/>
            <a:ext cx="3432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55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58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410440" y="2514600"/>
            <a:ext cx="3432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69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72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410440" y="2514600"/>
            <a:ext cx="343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83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86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410440" y="2514600"/>
            <a:ext cx="343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97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1142280" y="2666160"/>
            <a:ext cx="59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602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4" name=""/>
          <p:cNvSpPr/>
          <p:nvPr/>
        </p:nvSpPr>
        <p:spPr>
          <a:xfrm>
            <a:off x="1145160" y="2666880"/>
            <a:ext cx="65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case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 In this case the tree has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one node; i.e.,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= 2  –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167520" y="3839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608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1143000" y="2666880"/>
            <a:ext cx="664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613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5" name=""/>
          <p:cNvSpPr/>
          <p:nvPr/>
        </p:nvSpPr>
        <p:spPr>
          <a:xfrm>
            <a:off x="1143000" y="2666880"/>
            <a:ext cx="664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(We will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     – 1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506760" y="426600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43000" y="2666880"/>
            <a:ext cx="664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Then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right sub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, and a left subtree wi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s right path —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5" idx="3"/>
            <a:endCxn id="20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5" idx="5"/>
            <a:endCxn id="20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6" idx="3"/>
            <a:endCxn id="208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6" idx="5"/>
            <a:endCxn id="209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9" idx="3"/>
            <a:endCxn id="214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07" idx="5"/>
            <a:endCxn id="225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endCxn id="227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08" idx="3"/>
            <a:endCxn id="2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8" idx="5"/>
            <a:endCxn id="234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94800" y="3724200"/>
            <a:ext cx="20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2080200">
            <a:off x="761760" y="4343040"/>
            <a:ext cx="609480" cy="1981080"/>
          </a:xfrm>
          <a:custGeom>
            <a:avLst/>
            <a:gdLst>
              <a:gd name="textAreaLeft" fmla="*/ 389520 w 609480"/>
              <a:gd name="textAreaRight" fmla="*/ 609840 w 6094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60" y="403848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141560" y="26668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Then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right sub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, and a left subtree wi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s right path (otherwi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not be lefti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138320" y="2666880"/>
            <a:ext cx="71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138320" y="2666880"/>
            <a:ext cx="714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215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335920" y="5104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335920" y="4647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138320" y="2666880"/>
            <a:ext cx="714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     – 1.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215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335920" y="5104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335920" y="4647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488560" y="59425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174680" y="2666880"/>
            <a:ext cx="714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     – 1.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4215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335920" y="5104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335920" y="4647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488560" y="59425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09120" y="83736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algorithm, appli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9" name=""/>
          <p:cNvCxnSpPr>
            <a:stCxn id="1744" idx="3"/>
            <a:endCxn id="1745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"/>
          <p:cNvCxnSpPr>
            <a:stCxn id="1744" idx="5"/>
            <a:endCxn id="1746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1" name=""/>
          <p:cNvCxnSpPr>
            <a:stCxn id="1745" idx="3"/>
            <a:endCxn id="1747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2" name=""/>
          <p:cNvCxnSpPr>
            <a:stCxn id="1745" idx="5"/>
            <a:endCxn id="1748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3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"/>
          <p:cNvCxnSpPr>
            <a:stCxn id="1748" idx="3"/>
            <a:endCxn id="1753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5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3" name=""/>
          <p:cNvCxnSpPr>
            <a:endCxn id="1762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4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6" name=""/>
          <p:cNvCxnSpPr>
            <a:endCxn id="1765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7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3" name=""/>
          <p:cNvCxnSpPr>
            <a:stCxn id="1768" idx="3"/>
            <a:endCxn id="1769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4" name=""/>
          <p:cNvCxnSpPr>
            <a:stCxn id="1768" idx="5"/>
            <a:endCxn id="1770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5" name=""/>
          <p:cNvCxnSpPr>
            <a:stCxn id="1769" idx="3"/>
            <a:endCxn id="1771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6" name=""/>
          <p:cNvCxnSpPr>
            <a:stCxn id="1769" idx="5"/>
            <a:endCxn id="1772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7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8" name=""/>
          <p:cNvCxnSpPr>
            <a:stCxn id="1772" idx="3"/>
            <a:endCxn id="1777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9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7" name=""/>
          <p:cNvCxnSpPr>
            <a:endCxn id="1786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8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2000" y="838080"/>
            <a:ext cx="803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ither of the two heaps is empty, we can retur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3" name=""/>
          <p:cNvCxnSpPr>
            <a:stCxn id="1798" idx="3"/>
            <a:endCxn id="1799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4" name=""/>
          <p:cNvCxnSpPr>
            <a:stCxn id="1798" idx="5"/>
            <a:endCxn id="1800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5" name=""/>
          <p:cNvCxnSpPr>
            <a:stCxn id="1799" idx="3"/>
            <a:endCxn id="1801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6" name=""/>
          <p:cNvCxnSpPr>
            <a:stCxn id="1799" idx="5"/>
            <a:endCxn id="1802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7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8" name=""/>
          <p:cNvCxnSpPr>
            <a:stCxn id="1802" idx="3"/>
            <a:endCxn id="1807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9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7" name=""/>
          <p:cNvCxnSpPr>
            <a:endCxn id="1816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8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0" name=""/>
          <p:cNvCxnSpPr>
            <a:endCxn id="1819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1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7" name=""/>
          <p:cNvCxnSpPr>
            <a:stCxn id="1822" idx="3"/>
            <a:endCxn id="1823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8" name=""/>
          <p:cNvCxnSpPr>
            <a:stCxn id="1822" idx="5"/>
            <a:endCxn id="1824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9" name=""/>
          <p:cNvCxnSpPr>
            <a:stCxn id="1823" idx="3"/>
            <a:endCxn id="1825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0" name=""/>
          <p:cNvCxnSpPr>
            <a:stCxn id="1823" idx="5"/>
            <a:endCxn id="1826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1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2" name=""/>
          <p:cNvCxnSpPr>
            <a:stCxn id="1826" idx="3"/>
            <a:endCxn id="1831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3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1" name=""/>
          <p:cNvCxnSpPr>
            <a:endCxn id="1840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2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10200" y="838080"/>
            <a:ext cx="46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neither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"/>
          <p:cNvCxnSpPr>
            <a:stCxn id="1852" idx="3"/>
            <a:endCxn id="1853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8" name=""/>
          <p:cNvCxnSpPr>
            <a:stCxn id="1852" idx="5"/>
            <a:endCxn id="1854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9" name=""/>
          <p:cNvCxnSpPr>
            <a:stCxn id="1853" idx="3"/>
            <a:endCxn id="1855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0" name=""/>
          <p:cNvCxnSpPr>
            <a:stCxn id="1853" idx="5"/>
            <a:endCxn id="1856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1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2" name=""/>
          <p:cNvCxnSpPr>
            <a:stCxn id="1856" idx="3"/>
            <a:endCxn id="1861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3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1" name=""/>
          <p:cNvCxnSpPr>
            <a:endCxn id="1870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2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4" name=""/>
          <p:cNvCxnSpPr>
            <a:endCxn id="1873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5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76" idx="3"/>
            <a:endCxn id="1877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2" name=""/>
          <p:cNvCxnSpPr>
            <a:stCxn id="1876" idx="5"/>
            <a:endCxn id="1878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3" name=""/>
          <p:cNvCxnSpPr>
            <a:stCxn id="1877" idx="3"/>
            <a:endCxn id="1879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4" name=""/>
          <p:cNvCxnSpPr>
            <a:stCxn id="1877" idx="5"/>
            <a:endCxn id="1880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5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6" name=""/>
          <p:cNvCxnSpPr>
            <a:stCxn id="1880" idx="3"/>
            <a:endCxn id="1885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7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5" name=""/>
          <p:cNvCxnSpPr>
            <a:endCxn id="1894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6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10920" y="838080"/>
            <a:ext cx="764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neither is empty, so we compare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s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1" name=""/>
          <p:cNvCxnSpPr>
            <a:stCxn id="1906" idx="3"/>
            <a:endCxn id="1907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2" name=""/>
          <p:cNvCxnSpPr>
            <a:stCxn id="1906" idx="5"/>
            <a:endCxn id="1908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3" name=""/>
          <p:cNvCxnSpPr>
            <a:stCxn id="1907" idx="3"/>
            <a:endCxn id="1909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4" name=""/>
          <p:cNvCxnSpPr>
            <a:stCxn id="1907" idx="5"/>
            <a:endCxn id="1910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5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6" name=""/>
          <p:cNvCxnSpPr>
            <a:stCxn id="1910" idx="3"/>
            <a:endCxn id="1915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7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5" name=""/>
          <p:cNvCxnSpPr>
            <a:endCxn id="1924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6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8" name=""/>
          <p:cNvCxnSpPr>
            <a:endCxn id="1927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9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5" name=""/>
          <p:cNvCxnSpPr>
            <a:stCxn id="1930" idx="3"/>
            <a:endCxn id="1931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6" name=""/>
          <p:cNvCxnSpPr>
            <a:stCxn id="1930" idx="5"/>
            <a:endCxn id="1932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7" name=""/>
          <p:cNvCxnSpPr>
            <a:stCxn id="1931" idx="3"/>
            <a:endCxn id="1933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8" name=""/>
          <p:cNvCxnSpPr>
            <a:stCxn id="1931" idx="5"/>
            <a:endCxn id="1934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9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0" name=""/>
          <p:cNvCxnSpPr>
            <a:stCxn id="1934" idx="3"/>
            <a:endCxn id="1939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1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9" name=""/>
          <p:cNvCxnSpPr>
            <a:endCxn id="1948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0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12000" y="838080"/>
            <a:ext cx="75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and recursively merge the heap with the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5" name=""/>
          <p:cNvCxnSpPr>
            <a:stCxn id="1960" idx="3"/>
            <a:endCxn id="1961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6" name=""/>
          <p:cNvCxnSpPr>
            <a:stCxn id="1960" idx="5"/>
            <a:endCxn id="1962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7" name=""/>
          <p:cNvCxnSpPr>
            <a:stCxn id="1961" idx="3"/>
            <a:endCxn id="1963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8" name=""/>
          <p:cNvCxnSpPr>
            <a:stCxn id="1961" idx="5"/>
            <a:endCxn id="1964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9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0" name=""/>
          <p:cNvCxnSpPr>
            <a:stCxn id="1964" idx="3"/>
            <a:endCxn id="1969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1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9" name=""/>
          <p:cNvCxnSpPr>
            <a:endCxn id="1978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0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2" name=""/>
          <p:cNvCxnSpPr>
            <a:endCxn id="1981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3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8001000" y="3124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9" name=""/>
          <p:cNvCxnSpPr>
            <a:stCxn id="1984" idx="3"/>
            <a:endCxn id="1985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0" name=""/>
          <p:cNvCxnSpPr>
            <a:stCxn id="1984" idx="5"/>
            <a:endCxn id="1986" idx="1"/>
          </p:cNvCxnSpPr>
          <p:nvPr/>
        </p:nvCxnSpPr>
        <p:spPr>
          <a:xfrm>
            <a:off x="7238520" y="2666880"/>
            <a:ext cx="8406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1" name=""/>
          <p:cNvCxnSpPr>
            <a:stCxn id="1985" idx="3"/>
            <a:endCxn id="1987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2" name=""/>
          <p:cNvCxnSpPr>
            <a:stCxn id="1985" idx="5"/>
            <a:endCxn id="1988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3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4" name=""/>
          <p:cNvCxnSpPr>
            <a:stCxn id="1988" idx="3"/>
            <a:endCxn id="1993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5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3" name=""/>
          <p:cNvCxnSpPr>
            <a:endCxn id="2002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4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rot="1204800">
            <a:off x="640080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1" idx="3"/>
            <a:endCxn id="24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1" idx="5"/>
            <a:endCxn id="243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2" idx="3"/>
            <a:endCxn id="244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2" idx="5"/>
            <a:endCxn id="245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5" idx="3"/>
            <a:endCxn id="250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43" idx="5"/>
            <a:endCxn id="26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endCxn id="26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44" idx="3"/>
            <a:endCxn id="26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4" idx="5"/>
            <a:endCxn id="27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080200">
            <a:off x="761760" y="4343040"/>
            <a:ext cx="609480" cy="1981080"/>
          </a:xfrm>
          <a:custGeom>
            <a:avLst/>
            <a:gdLst>
              <a:gd name="textAreaLeft" fmla="*/ 389520 w 609480"/>
              <a:gd name="textAreaRight" fmla="*/ 609840 w 6094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0400" y="44956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10920" y="838080"/>
            <a:ext cx="672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with the right subheap of the other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0" name=""/>
          <p:cNvCxnSpPr>
            <a:stCxn id="2015" idx="3"/>
            <a:endCxn id="2016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1" name=""/>
          <p:cNvCxnSpPr>
            <a:stCxn id="2015" idx="5"/>
            <a:endCxn id="2017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2" name=""/>
          <p:cNvCxnSpPr>
            <a:stCxn id="2016" idx="3"/>
            <a:endCxn id="2018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3" name=""/>
          <p:cNvCxnSpPr>
            <a:stCxn id="2016" idx="5"/>
            <a:endCxn id="2019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4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5" name=""/>
          <p:cNvCxnSpPr>
            <a:stCxn id="2019" idx="3"/>
            <a:endCxn id="2024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6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4" name=""/>
          <p:cNvCxnSpPr>
            <a:endCxn id="2033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5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7" name=""/>
          <p:cNvCxnSpPr>
            <a:endCxn id="2036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8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4" name=""/>
          <p:cNvCxnSpPr>
            <a:stCxn id="2039" idx="3"/>
            <a:endCxn id="2040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5" name=""/>
          <p:cNvCxnSpPr>
            <a:stCxn id="2039" idx="5"/>
            <a:endCxn id="2041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6" name=""/>
          <p:cNvCxnSpPr>
            <a:stCxn id="2040" idx="3"/>
            <a:endCxn id="2042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7" name=""/>
          <p:cNvCxnSpPr>
            <a:stCxn id="2040" idx="5"/>
            <a:endCxn id="2043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8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9" name=""/>
          <p:cNvCxnSpPr>
            <a:stCxn id="2043" idx="3"/>
            <a:endCxn id="2048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0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8" name=""/>
          <p:cNvCxnSpPr>
            <a:endCxn id="2057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9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rot="1204800">
            <a:off x="640080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rot="4603800">
            <a:off x="3962160" y="2437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10200" y="838080"/>
            <a:ext cx="27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produ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6" name=""/>
          <p:cNvCxnSpPr>
            <a:stCxn id="2071" idx="3"/>
            <a:endCxn id="2072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7" name=""/>
          <p:cNvCxnSpPr>
            <a:stCxn id="2078" idx="1"/>
            <a:endCxn id="2073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9" name=""/>
          <p:cNvCxnSpPr>
            <a:stCxn id="2072" idx="3"/>
            <a:endCxn id="2074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0" name=""/>
          <p:cNvCxnSpPr>
            <a:stCxn id="2072" idx="5"/>
            <a:endCxn id="2075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1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2" name=""/>
          <p:cNvCxnSpPr>
            <a:stCxn id="2075" idx="3"/>
            <a:endCxn id="2081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3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1" name=""/>
          <p:cNvCxnSpPr>
            <a:endCxn id="2090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2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4" name=""/>
          <p:cNvCxnSpPr>
            <a:stCxn id="2092" idx="2"/>
            <a:endCxn id="2093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5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0" name=""/>
          <p:cNvCxnSpPr>
            <a:stCxn id="2096" idx="3"/>
            <a:endCxn id="2097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1" name=""/>
          <p:cNvCxnSpPr>
            <a:stCxn id="2096" idx="5"/>
            <a:endCxn id="2098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2" name=""/>
          <p:cNvCxnSpPr>
            <a:stCxn id="2097" idx="5"/>
            <a:endCxn id="2099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3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4" name=""/>
          <p:cNvCxnSpPr>
            <a:stCxn id="2099" idx="3"/>
            <a:endCxn id="2103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5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1" name=""/>
          <p:cNvCxnSpPr>
            <a:stCxn id="2098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2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10200" y="83808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The resulting tree satisfies the heap orde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9" name=""/>
          <p:cNvCxnSpPr>
            <a:stCxn id="2124" idx="3"/>
            <a:endCxn id="2125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0" name=""/>
          <p:cNvCxnSpPr>
            <a:stCxn id="2131" idx="1"/>
            <a:endCxn id="2126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2" name=""/>
          <p:cNvCxnSpPr>
            <a:stCxn id="2125" idx="3"/>
            <a:endCxn id="2127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3" name=""/>
          <p:cNvCxnSpPr>
            <a:stCxn id="2125" idx="5"/>
            <a:endCxn id="2128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4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5" name=""/>
          <p:cNvCxnSpPr>
            <a:stCxn id="2128" idx="3"/>
            <a:endCxn id="2134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6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4" name=""/>
          <p:cNvCxnSpPr>
            <a:endCxn id="2143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5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7" name=""/>
          <p:cNvCxnSpPr>
            <a:stCxn id="2145" idx="2"/>
            <a:endCxn id="2146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8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3" name=""/>
          <p:cNvCxnSpPr>
            <a:stCxn id="2149" idx="3"/>
            <a:endCxn id="2150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4" name=""/>
          <p:cNvCxnSpPr>
            <a:stCxn id="2149" idx="5"/>
            <a:endCxn id="2151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5" name=""/>
          <p:cNvCxnSpPr>
            <a:stCxn id="2150" idx="5"/>
            <a:endCxn id="2152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6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7" name=""/>
          <p:cNvCxnSpPr>
            <a:stCxn id="2152" idx="3"/>
            <a:endCxn id="2156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8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4" name=""/>
          <p:cNvCxnSpPr>
            <a:stCxn id="2151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5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12360" y="838080"/>
            <a:ext cx="36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is it leftist?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0" name=""/>
          <p:cNvCxnSpPr>
            <a:stCxn id="2175" idx="3"/>
            <a:endCxn id="2176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1" name=""/>
          <p:cNvCxnSpPr>
            <a:stCxn id="2182" idx="1"/>
            <a:endCxn id="2177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3" name=""/>
          <p:cNvCxnSpPr>
            <a:stCxn id="2176" idx="3"/>
            <a:endCxn id="2178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4" name=""/>
          <p:cNvCxnSpPr>
            <a:stCxn id="2176" idx="5"/>
            <a:endCxn id="2179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5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6" name=""/>
          <p:cNvCxnSpPr>
            <a:stCxn id="2179" idx="3"/>
            <a:endCxn id="2185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7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5" name=""/>
          <p:cNvCxnSpPr>
            <a:endCxn id="2194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6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8" name=""/>
          <p:cNvCxnSpPr>
            <a:stCxn id="2196" idx="2"/>
            <a:endCxn id="2197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9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4" name=""/>
          <p:cNvCxnSpPr>
            <a:stCxn id="2200" idx="3"/>
            <a:endCxn id="2201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5" name=""/>
          <p:cNvCxnSpPr>
            <a:stCxn id="2200" idx="5"/>
            <a:endCxn id="2202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6" name=""/>
          <p:cNvCxnSpPr>
            <a:stCxn id="2201" idx="5"/>
            <a:endCxn id="2203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7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8" name=""/>
          <p:cNvCxnSpPr>
            <a:stCxn id="2203" idx="3"/>
            <a:endCxn id="2207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9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5" name=""/>
          <p:cNvCxnSpPr>
            <a:stCxn id="2202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6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27480" y="838080"/>
            <a:ext cx="8431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is it leftist? No, the left subtree has a null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of 1 whil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null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of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1" name=""/>
          <p:cNvCxnSpPr>
            <a:stCxn id="2226" idx="3"/>
            <a:endCxn id="2227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2" name=""/>
          <p:cNvCxnSpPr>
            <a:stCxn id="2233" idx="1"/>
            <a:endCxn id="2228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4" name=""/>
          <p:cNvCxnSpPr>
            <a:stCxn id="2227" idx="3"/>
            <a:endCxn id="2229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5" name=""/>
          <p:cNvCxnSpPr>
            <a:stCxn id="2227" idx="5"/>
            <a:endCxn id="2230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6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7" name=""/>
          <p:cNvCxnSpPr>
            <a:stCxn id="2230" idx="3"/>
            <a:endCxn id="2236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8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6" name=""/>
          <p:cNvCxnSpPr>
            <a:endCxn id="2245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7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9" name=""/>
          <p:cNvCxnSpPr>
            <a:stCxn id="2247" idx="2"/>
            <a:endCxn id="2248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0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5" name=""/>
          <p:cNvCxnSpPr>
            <a:stCxn id="2251" idx="3"/>
            <a:endCxn id="2252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6" name=""/>
          <p:cNvCxnSpPr>
            <a:stCxn id="2251" idx="5"/>
            <a:endCxn id="2253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7" name=""/>
          <p:cNvCxnSpPr>
            <a:stCxn id="2252" idx="5"/>
            <a:endCxn id="2254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8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9" name=""/>
          <p:cNvCxnSpPr>
            <a:stCxn id="2254" idx="3"/>
            <a:endCxn id="2258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0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6" name=""/>
          <p:cNvCxnSpPr>
            <a:stCxn id="2253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7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10560" y="83808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so the algorithm swaps the left subtree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2" name=""/>
          <p:cNvCxnSpPr>
            <a:stCxn id="2277" idx="3"/>
            <a:endCxn id="2278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3" name=""/>
          <p:cNvCxnSpPr>
            <a:stCxn id="2284" idx="1"/>
            <a:endCxn id="2279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5" name=""/>
          <p:cNvCxnSpPr>
            <a:stCxn id="2278" idx="3"/>
            <a:endCxn id="2280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6" name=""/>
          <p:cNvCxnSpPr>
            <a:stCxn id="2278" idx="5"/>
            <a:endCxn id="2281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7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8" name=""/>
          <p:cNvCxnSpPr>
            <a:stCxn id="2281" idx="3"/>
            <a:endCxn id="2287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9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7" name=""/>
          <p:cNvCxnSpPr>
            <a:endCxn id="2296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8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0" name=""/>
          <p:cNvCxnSpPr>
            <a:stCxn id="2298" idx="2"/>
            <a:endCxn id="2299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1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6" name=""/>
          <p:cNvCxnSpPr>
            <a:stCxn id="2302" idx="3"/>
            <a:endCxn id="2303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7" name=""/>
          <p:cNvCxnSpPr>
            <a:stCxn id="2302" idx="5"/>
            <a:endCxn id="2304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8" name=""/>
          <p:cNvCxnSpPr>
            <a:stCxn id="2303" idx="5"/>
            <a:endCxn id="2305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9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0" name=""/>
          <p:cNvCxnSpPr>
            <a:stCxn id="2305" idx="3"/>
            <a:endCxn id="2309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1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7" name=""/>
          <p:cNvCxnSpPr>
            <a:stCxn id="2304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8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10200" y="838080"/>
            <a:ext cx="27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produ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267080" y="1905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707160" y="2820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89548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487840" y="3963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469280" y="396396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3" name=""/>
          <p:cNvCxnSpPr>
            <a:stCxn id="2328" idx="6"/>
            <a:endCxn id="2329" idx="0"/>
          </p:cNvCxnSpPr>
          <p:nvPr/>
        </p:nvCxnSpPr>
        <p:spPr>
          <a:xfrm>
            <a:off x="4800240" y="2171520"/>
            <a:ext cx="21740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4" name=""/>
          <p:cNvCxnSpPr>
            <a:stCxn id="2335" idx="1"/>
            <a:endCxn id="2330" idx="0"/>
          </p:cNvCxnSpPr>
          <p:nvPr/>
        </p:nvCxnSpPr>
        <p:spPr>
          <a:xfrm flipH="1">
            <a:off x="316152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6" name=""/>
          <p:cNvCxnSpPr>
            <a:stCxn id="2329" idx="3"/>
            <a:endCxn id="2331" idx="7"/>
          </p:cNvCxnSpPr>
          <p:nvPr/>
        </p:nvCxnSpPr>
        <p:spPr>
          <a:xfrm flipH="1">
            <a:off x="5942880" y="32763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7" name=""/>
          <p:cNvCxnSpPr>
            <a:stCxn id="2329" idx="5"/>
            <a:endCxn id="2332" idx="1"/>
          </p:cNvCxnSpPr>
          <p:nvPr/>
        </p:nvCxnSpPr>
        <p:spPr>
          <a:xfrm>
            <a:off x="7162560" y="327636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8" name=""/>
          <p:cNvSpPr/>
          <p:nvPr/>
        </p:nvSpPr>
        <p:spPr>
          <a:xfrm>
            <a:off x="6783480" y="52592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9" name=""/>
          <p:cNvCxnSpPr>
            <a:stCxn id="2332" idx="3"/>
            <a:endCxn id="2338" idx="7"/>
          </p:cNvCxnSpPr>
          <p:nvPr/>
        </p:nvCxnSpPr>
        <p:spPr>
          <a:xfrm flipH="1">
            <a:off x="7238520" y="4419720"/>
            <a:ext cx="30888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0" name=""/>
          <p:cNvSpPr/>
          <p:nvPr/>
        </p:nvSpPr>
        <p:spPr>
          <a:xfrm>
            <a:off x="4311720" y="190512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783480" y="289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470720" y="396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61240" y="5335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487840" y="404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973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98108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8" name=""/>
          <p:cNvCxnSpPr>
            <a:endCxn id="2347" idx="7"/>
          </p:cNvCxnSpPr>
          <p:nvPr/>
        </p:nvCxnSpPr>
        <p:spPr>
          <a:xfrm flipH="1">
            <a:off x="243684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9" name=""/>
          <p:cNvSpPr/>
          <p:nvPr/>
        </p:nvSpPr>
        <p:spPr>
          <a:xfrm>
            <a:off x="205884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44792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1" name=""/>
          <p:cNvCxnSpPr>
            <a:stCxn id="2349" idx="2"/>
            <a:endCxn id="2350" idx="7"/>
          </p:cNvCxnSpPr>
          <p:nvPr/>
        </p:nvCxnSpPr>
        <p:spPr>
          <a:xfrm flipH="1">
            <a:off x="190260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2" name=""/>
          <p:cNvSpPr/>
          <p:nvPr/>
        </p:nvSpPr>
        <p:spPr>
          <a:xfrm>
            <a:off x="152568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21148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9158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4304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67796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7" name=""/>
          <p:cNvCxnSpPr>
            <a:stCxn id="2353" idx="3"/>
            <a:endCxn id="2354" idx="7"/>
          </p:cNvCxnSpPr>
          <p:nvPr/>
        </p:nvCxnSpPr>
        <p:spPr>
          <a:xfrm flipH="1">
            <a:off x="137088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8" name=""/>
          <p:cNvCxnSpPr>
            <a:stCxn id="2353" idx="5"/>
            <a:endCxn id="2355" idx="1"/>
          </p:cNvCxnSpPr>
          <p:nvPr/>
        </p:nvCxnSpPr>
        <p:spPr>
          <a:xfrm>
            <a:off x="266652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9" name=""/>
          <p:cNvCxnSpPr>
            <a:stCxn id="2354" idx="5"/>
            <a:endCxn id="2356" idx="1"/>
          </p:cNvCxnSpPr>
          <p:nvPr/>
        </p:nvCxnSpPr>
        <p:spPr>
          <a:xfrm>
            <a:off x="137124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0" name=""/>
          <p:cNvSpPr/>
          <p:nvPr/>
        </p:nvSpPr>
        <p:spPr>
          <a:xfrm>
            <a:off x="99216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1" name=""/>
          <p:cNvCxnSpPr>
            <a:stCxn id="2356" idx="3"/>
            <a:endCxn id="2360" idx="7"/>
          </p:cNvCxnSpPr>
          <p:nvPr/>
        </p:nvCxnSpPr>
        <p:spPr>
          <a:xfrm flipH="1">
            <a:off x="144720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2" name=""/>
          <p:cNvSpPr/>
          <p:nvPr/>
        </p:nvSpPr>
        <p:spPr>
          <a:xfrm>
            <a:off x="225576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99216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67940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06992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50856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29708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03848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8" name=""/>
          <p:cNvCxnSpPr>
            <a:stCxn id="2355" idx="5"/>
          </p:cNvCxnSpPr>
          <p:nvPr/>
        </p:nvCxnSpPr>
        <p:spPr>
          <a:xfrm>
            <a:off x="388584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9" name=""/>
          <p:cNvSpPr/>
          <p:nvPr/>
        </p:nvSpPr>
        <p:spPr>
          <a:xfrm>
            <a:off x="4084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04812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1258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20040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2860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063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H="1">
            <a:off x="45720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2742840" y="22860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11640" y="838080"/>
            <a:ext cx="663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The result is then a leftist heap,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267080" y="1905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707160" y="2820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89548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487840" y="3963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7469280" y="396396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4" name=""/>
          <p:cNvCxnSpPr>
            <a:stCxn id="2385" idx="1"/>
            <a:endCxn id="2381" idx="0"/>
          </p:cNvCxnSpPr>
          <p:nvPr/>
        </p:nvCxnSpPr>
        <p:spPr>
          <a:xfrm flipH="1">
            <a:off x="316152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6" name=""/>
          <p:cNvCxnSpPr>
            <a:stCxn id="2380" idx="3"/>
            <a:endCxn id="2382" idx="7"/>
          </p:cNvCxnSpPr>
          <p:nvPr/>
        </p:nvCxnSpPr>
        <p:spPr>
          <a:xfrm flipH="1">
            <a:off x="5942880" y="32763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7" name=""/>
          <p:cNvCxnSpPr>
            <a:stCxn id="2380" idx="5"/>
            <a:endCxn id="2383" idx="1"/>
          </p:cNvCxnSpPr>
          <p:nvPr/>
        </p:nvCxnSpPr>
        <p:spPr>
          <a:xfrm>
            <a:off x="7162560" y="327636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8" name=""/>
          <p:cNvSpPr/>
          <p:nvPr/>
        </p:nvSpPr>
        <p:spPr>
          <a:xfrm>
            <a:off x="6783480" y="52592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9" name=""/>
          <p:cNvCxnSpPr>
            <a:stCxn id="2383" idx="3"/>
            <a:endCxn id="2388" idx="7"/>
          </p:cNvCxnSpPr>
          <p:nvPr/>
        </p:nvCxnSpPr>
        <p:spPr>
          <a:xfrm flipH="1">
            <a:off x="7238520" y="4419720"/>
            <a:ext cx="30888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0" name=""/>
          <p:cNvSpPr/>
          <p:nvPr/>
        </p:nvSpPr>
        <p:spPr>
          <a:xfrm>
            <a:off x="4311720" y="190512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783480" y="289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7470720" y="396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861240" y="5335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487840" y="404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973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8108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8" name=""/>
          <p:cNvCxnSpPr>
            <a:endCxn id="2397" idx="7"/>
          </p:cNvCxnSpPr>
          <p:nvPr/>
        </p:nvCxnSpPr>
        <p:spPr>
          <a:xfrm flipH="1">
            <a:off x="243684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9" name=""/>
          <p:cNvSpPr/>
          <p:nvPr/>
        </p:nvSpPr>
        <p:spPr>
          <a:xfrm>
            <a:off x="205884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44792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1" name=""/>
          <p:cNvCxnSpPr>
            <a:stCxn id="2399" idx="2"/>
            <a:endCxn id="2400" idx="7"/>
          </p:cNvCxnSpPr>
          <p:nvPr/>
        </p:nvCxnSpPr>
        <p:spPr>
          <a:xfrm flipH="1">
            <a:off x="190260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2" name=""/>
          <p:cNvSpPr/>
          <p:nvPr/>
        </p:nvSpPr>
        <p:spPr>
          <a:xfrm>
            <a:off x="152568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21148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158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4304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67796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7" name=""/>
          <p:cNvCxnSpPr>
            <a:stCxn id="2403" idx="3"/>
            <a:endCxn id="2404" idx="7"/>
          </p:cNvCxnSpPr>
          <p:nvPr/>
        </p:nvCxnSpPr>
        <p:spPr>
          <a:xfrm flipH="1">
            <a:off x="137088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8" name=""/>
          <p:cNvCxnSpPr>
            <a:stCxn id="2403" idx="5"/>
            <a:endCxn id="2405" idx="1"/>
          </p:cNvCxnSpPr>
          <p:nvPr/>
        </p:nvCxnSpPr>
        <p:spPr>
          <a:xfrm>
            <a:off x="266652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9" name=""/>
          <p:cNvCxnSpPr>
            <a:stCxn id="2404" idx="5"/>
            <a:endCxn id="2406" idx="1"/>
          </p:cNvCxnSpPr>
          <p:nvPr/>
        </p:nvCxnSpPr>
        <p:spPr>
          <a:xfrm>
            <a:off x="137124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0" name=""/>
          <p:cNvSpPr/>
          <p:nvPr/>
        </p:nvSpPr>
        <p:spPr>
          <a:xfrm>
            <a:off x="99216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1" name=""/>
          <p:cNvCxnSpPr>
            <a:stCxn id="2406" idx="3"/>
            <a:endCxn id="2410" idx="7"/>
          </p:cNvCxnSpPr>
          <p:nvPr/>
        </p:nvCxnSpPr>
        <p:spPr>
          <a:xfrm flipH="1">
            <a:off x="144720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2" name=""/>
          <p:cNvSpPr/>
          <p:nvPr/>
        </p:nvSpPr>
        <p:spPr>
          <a:xfrm>
            <a:off x="225576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99216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67940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06992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50856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29708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03848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8" name=""/>
          <p:cNvCxnSpPr>
            <a:stCxn id="2405" idx="5"/>
          </p:cNvCxnSpPr>
          <p:nvPr/>
        </p:nvCxnSpPr>
        <p:spPr>
          <a:xfrm>
            <a:off x="388584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9" name=""/>
          <p:cNvSpPr/>
          <p:nvPr/>
        </p:nvSpPr>
        <p:spPr>
          <a:xfrm>
            <a:off x="4084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04812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1258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20040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2860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063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flipH="1">
            <a:off x="45720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2742840" y="22860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7" name=""/>
          <p:cNvCxnSpPr/>
          <p:nvPr/>
        </p:nvCxnSpPr>
        <p:spPr>
          <a:xfrm>
            <a:off x="4800240" y="2171520"/>
            <a:ext cx="21740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/>
          <p:nvPr/>
        </p:nvSpPr>
        <p:spPr>
          <a:xfrm>
            <a:off x="236160" y="2057400"/>
            <a:ext cx="274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3048120" y="990000"/>
            <a:ext cx="4449600" cy="4304160"/>
            <a:chOff x="3048120" y="990000"/>
            <a:chExt cx="4449600" cy="4304160"/>
          </a:xfrm>
        </p:grpSpPr>
        <p:sp>
          <p:nvSpPr>
            <p:cNvPr id="2431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048120" y="1600200"/>
              <a:ext cx="2514600" cy="28954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7599000">
              <a:off x="5471280" y="13104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348800" y="300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5738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021720" y="419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554440" y="990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40480" y="121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64720" y="137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3" name=""/>
          <p:cNvGrpSpPr/>
          <p:nvPr/>
        </p:nvGrpSpPr>
        <p:grpSpPr>
          <a:xfrm>
            <a:off x="232200" y="4647600"/>
            <a:ext cx="2494080" cy="611640"/>
            <a:chOff x="232200" y="4647600"/>
            <a:chExt cx="2494080" cy="611640"/>
          </a:xfrm>
        </p:grpSpPr>
        <p:sp>
          <p:nvSpPr>
            <p:cNvPr id="2444" name=""/>
            <p:cNvSpPr/>
            <p:nvPr/>
          </p:nvSpPr>
          <p:spPr>
            <a:xfrm>
              <a:off x="232200" y="4647600"/>
              <a:ext cx="249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) +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7359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643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7" name=""/>
          <p:cNvSpPr/>
          <p:nvPr/>
        </p:nvSpPr>
        <p:spPr>
          <a:xfrm>
            <a:off x="457200" y="228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75428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28780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602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21148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30760" y="37332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30400" y="121860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95200" y="5637960"/>
            <a:ext cx="75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n be proved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783480" y="586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317000" y="586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236160" y="2057400"/>
            <a:ext cx="274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3048120" y="990000"/>
            <a:ext cx="4449600" cy="4304160"/>
            <a:chOff x="3048120" y="990000"/>
            <a:chExt cx="4449600" cy="4304160"/>
          </a:xfrm>
        </p:grpSpPr>
        <p:sp>
          <p:nvSpPr>
            <p:cNvPr id="2460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48120" y="1600200"/>
              <a:ext cx="2514600" cy="28954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rot="7599000">
              <a:off x="5471280" y="13104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348800" y="300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5738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021720" y="419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554440" y="990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40480" y="121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164720" y="137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457200" y="228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36880" y="463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646360" y="463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602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21148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30760" y="37332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52280" y="114228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 and its corolla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61880" y="4494960"/>
            <a:ext cx="26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219840" y="248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7021800" y="411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430800" y="274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7240680" y="426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6" idx="3"/>
            <a:endCxn id="27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5"/>
            <a:endCxn id="27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3"/>
            <a:endCxn id="279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5"/>
            <a:endCxn id="280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0" idx="3"/>
            <a:endCxn id="285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78" idx="5"/>
            <a:endCxn id="296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endCxn id="298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279" idx="5"/>
            <a:endCxn id="302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94800" y="3724200"/>
            <a:ext cx="202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6196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86264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50840" y="1142280"/>
            <a:ext cx="51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insert and delete_m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86520" y="2666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278880" y="27424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042080" y="266616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=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279600" y="274248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6196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86264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86520" y="2666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279600" y="274248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4041360" y="26661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57200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87268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650120" y="26661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7288920" y="27424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7667640" y="25909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460000" y="26582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850520" y="2666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rot="5400000">
            <a:off x="7810560" y="179064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132600" y="1370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one element 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6196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86264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86520" y="2666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279600" y="274248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041360" y="26661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57200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87268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650120" y="26661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288920" y="27424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7667640" y="25909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460000" y="26582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850520" y="2666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rot="5400000">
            <a:off x="7810560" y="179064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132600" y="1370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one element 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43600" y="5790600"/>
            <a:ext cx="73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O(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838080" y="60188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914760" y="20566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_mi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267080" y="2056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514600" y="3124080"/>
            <a:ext cx="197496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57200" y="29718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57880" y="437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982880" y="449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205800" y="544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430800" y="556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200400" y="20574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2590560" y="25146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733920" y="25146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914760" y="20566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_mi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267080" y="2056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merge(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514600" y="3124080"/>
            <a:ext cx="197496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57200" y="29718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757880" y="437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2880" y="449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205800" y="544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430800" y="556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200400" y="20574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2590560" y="25146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733920" y="25146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705720" y="2438280"/>
            <a:ext cx="197460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648320" y="22860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949000" y="3688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174000" y="380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7396560" y="475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7621920" y="487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7393320" y="2133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8612280" y="205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581360" y="60192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98800" y="6171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_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7" idx="3"/>
            <a:endCxn id="308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7" idx="5"/>
            <a:endCxn id="309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8" idx="3"/>
            <a:endCxn id="31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8" idx="5"/>
            <a:endCxn id="311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1" idx="3"/>
            <a:endCxn id="316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09" idx="5"/>
            <a:endCxn id="32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endCxn id="32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10" idx="5"/>
            <a:endCxn id="333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94800" y="3724200"/>
            <a:ext cx="202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0" y="5484960"/>
            <a:ext cx="188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to-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2:23:48Z</dcterms:created>
  <dc:creator>David R. Musser</dc:creator>
  <dc:description/>
  <dc:language>en-US</dc:language>
  <cp:lastModifiedBy>David R. Musser</cp:lastModifiedBy>
  <dcterms:modified xsi:type="dcterms:W3CDTF">1999-04-15T12:07:05Z</dcterms:modified>
  <cp:revision>30</cp:revision>
  <dc:subject/>
  <dc:title>No Slide Title</dc:title>
</cp:coreProperties>
</file>