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3BB-6281-4D5B-AAF1-75946A5F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ABC-C321-47CA-BBD9-063B870B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C1E-0C3A-4D7C-90FC-E9B856AE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142-FECF-4434-ABAF-A94A81C8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298-3B66-43FB-AF9B-AB945FF7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360-AD06-40F2-86F3-0F80F2F6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70B-AF7A-46C9-8311-DA4D0680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260-18E3-47FC-94D6-9253A535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C07-0103-4AFE-B406-D37119DB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E56-7BA9-40DF-AC5B-1B78F812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C29-D723-4DF7-B580-A21A8821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694-D0B3-400E-9EC9-3D8469C6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4755-23A8-417C-9F7F-2E00218CC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42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35440" y="262404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1280" y="311292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274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5280" y="26496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01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56480" y="4390920"/>
            <a:ext cx="16488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25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28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228600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3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55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05520" y="228600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82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228600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8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25909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22860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81680" y="22096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81680" y="44197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0" y="30481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4148280" y="1622520"/>
            <a:ext cx="3750840" cy="3644280"/>
            <a:chOff x="4148280" y="1622520"/>
            <a:chExt cx="3750840" cy="3644280"/>
          </a:xfrm>
        </p:grpSpPr>
        <p:sp>
          <p:nvSpPr>
            <p:cNvPr id="66" name=""/>
            <p:cNvSpPr/>
            <p:nvPr/>
          </p:nvSpPr>
          <p:spPr>
            <a:xfrm>
              <a:off x="4148280" y="1633320"/>
              <a:ext cx="3749400" cy="363348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701960" y="2184120"/>
              <a:ext cx="2670120" cy="259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30680" y="2220480"/>
              <a:ext cx="2776320" cy="247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29280" y="1622520"/>
              <a:ext cx="0" cy="36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0240" y="347472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289120" y="1811160"/>
              <a:ext cx="1464840" cy="33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10000" y="1780920"/>
              <a:ext cx="1438200" cy="337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95880" y="2761920"/>
              <a:ext cx="3484080" cy="131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92640" y="2775960"/>
              <a:ext cx="3449160" cy="135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81640" y="1910880"/>
              <a:ext cx="3079080" cy="304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35400" y="226044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25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3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5000" y="20574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0" y="325296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6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952880" y="41911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8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41911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242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00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4290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242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2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15000" y="20574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242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4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29400" y="762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7200" y="762120"/>
            <a:ext cx="3276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quadratic probing is used, and the table size is prime, then a new element can always be inserted if the table is at least half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0880" y="541008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xtbook, p. 19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4648320"/>
            <a:ext cx="8610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 visited only 9 of the 17 bins, but if the table is half empty, not all those 9 bins can be occupied, so we must be able to insert a new element in one of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7200" y="762120"/>
            <a:ext cx="3276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quadratic probing is used, and the table size is prime, then a new element can always be inserted if the table is at least half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29400" y="762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91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88000" y="200196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2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17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53200" y="20494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3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44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4160" y="229716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72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96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57720" y="226224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221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67640" y="224964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247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5320" y="441324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03:01:12Z</dcterms:created>
  <dc:creator>David R. Musser</dc:creator>
  <dc:description/>
  <dc:language>en-US</dc:language>
  <cp:lastModifiedBy>David R. Musser</cp:lastModifiedBy>
  <dcterms:modified xsi:type="dcterms:W3CDTF">1999-03-27T16:52:55Z</dcterms:modified>
  <cp:revision>12</cp:revision>
  <dc:subject/>
  <dc:title>No Slide Title</dc:title>
</cp:coreProperties>
</file>