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732-40C6-459E-AEAB-2A52BADF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FF2-E62A-4E7B-8674-1E3DF5EE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00C-F122-4D87-81C9-86E46556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99B-8227-4E50-B855-B478F1C7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A1A-4706-47BB-8BA8-3A2756D6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5FE-02A0-43E6-A2C3-F27111E8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D38-281D-4598-AA03-29E8ACB4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A51-2B6A-43C8-845E-AAE09C19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F3D-C72E-439B-A1EC-41C8BC4B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EFD-83DA-4D88-A67B-81A570D7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507-7345-43DC-A171-5FE7134E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3E7-4AF1-439D-A451-936CABF5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E2E6-C01C-4898-993B-C63DE1D3D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42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35440" y="262404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1280" y="311292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274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5280" y="26496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01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56480" y="4390920"/>
            <a:ext cx="16488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25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28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228600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3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55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05520" y="228600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82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228600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8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3124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25909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22860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81680" y="22096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81680" y="44197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0" y="30481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4148280" y="1622520"/>
            <a:ext cx="3750840" cy="3644280"/>
            <a:chOff x="4148280" y="1622520"/>
            <a:chExt cx="3750840" cy="3644280"/>
          </a:xfrm>
        </p:grpSpPr>
        <p:sp>
          <p:nvSpPr>
            <p:cNvPr id="66" name=""/>
            <p:cNvSpPr/>
            <p:nvPr/>
          </p:nvSpPr>
          <p:spPr>
            <a:xfrm>
              <a:off x="4148280" y="1633320"/>
              <a:ext cx="3749400" cy="363348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701960" y="2184120"/>
              <a:ext cx="2670120" cy="259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30680" y="2220480"/>
              <a:ext cx="2776320" cy="247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29280" y="1622520"/>
              <a:ext cx="0" cy="36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0240" y="347472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289120" y="1811160"/>
              <a:ext cx="1464840" cy="33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10000" y="1780920"/>
              <a:ext cx="1438200" cy="337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95880" y="2761920"/>
              <a:ext cx="3484080" cy="131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92640" y="2775960"/>
              <a:ext cx="3449160" cy="135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81640" y="1910880"/>
              <a:ext cx="3079080" cy="3044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35400" y="226044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25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3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5000" y="20574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0" y="325296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6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952880" y="41911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8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41911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242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00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34290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242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2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15000" y="20574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724280" y="312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4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29400" y="762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7200" y="762120"/>
            <a:ext cx="3276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quadratic probing is used, and the table size is prime, then a new element can always be inserted if the table is at least half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0880" y="541008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xtbook, p. 19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4648320"/>
            <a:ext cx="8610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ing visited only 9 of the 17 bins, but if the table is half empty, not all those 9 bins can be occupied, so we must be able to insert a new element in one of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7200" y="762120"/>
            <a:ext cx="3276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quadratic probing is used, and the table size is prime, then a new element can always be inserted if the table is at least half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629400" y="762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91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88000" y="200196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2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17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53200" y="20494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3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44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4160" y="229716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72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96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57720" y="226224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221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67640" y="224964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247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45320" y="441324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03:01:12Z</dcterms:created>
  <dc:creator>David R. Musser</dc:creator>
  <dc:description/>
  <dc:language>en-US</dc:language>
  <cp:lastModifiedBy>David R. Musser</cp:lastModifiedBy>
  <dcterms:modified xsi:type="dcterms:W3CDTF">1999-03-27T16:52:55Z</dcterms:modified>
  <cp:revision>12</cp:revision>
  <dc:subject/>
  <dc:title>No Slide Title</dc:title>
</cp:coreProperties>
</file>