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33F-1C5D-4DC6-8DA6-BBF31127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9E9-99A1-420F-8001-437EC569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FF1-ADEE-4F2F-9342-EBDF8FBE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41A-1988-44F4-ADD1-B1E93FF1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0DC-FBD9-45E9-BF7B-5ED30E52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0E4-D2DE-43C5-8184-B50D060E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2EC-731A-4197-8BAF-A45A4E64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432-DBCF-4C86-8299-10276509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865-E2F3-40B0-ACF4-A88287B6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BD3-AC3D-4B6C-9138-7AA4050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615-7B47-4D4C-BCFB-EEB4622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44D-92F2-42CE-8193-379D8723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74FE-1E88-4BF8-A71B-1EE953DDF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4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35440" y="26240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1280" y="311292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74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5280" y="26496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0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56480" y="4390920"/>
            <a:ext cx="16488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5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28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55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055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38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228600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8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25909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2860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81680" y="22096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81680" y="44197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0" y="3048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4148280" y="1622520"/>
            <a:ext cx="3750840" cy="3644280"/>
            <a:chOff x="4148280" y="1622520"/>
            <a:chExt cx="3750840" cy="3644280"/>
          </a:xfrm>
        </p:grpSpPr>
        <p:sp>
          <p:nvSpPr>
            <p:cNvPr id="66" name=""/>
            <p:cNvSpPr/>
            <p:nvPr/>
          </p:nvSpPr>
          <p:spPr>
            <a:xfrm>
              <a:off x="4148280" y="1633320"/>
              <a:ext cx="3749400" cy="363348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701960" y="2184120"/>
              <a:ext cx="2670120" cy="259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30680" y="2220480"/>
              <a:ext cx="2776320" cy="247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29280" y="1622520"/>
              <a:ext cx="0" cy="36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0240" y="347472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289120" y="1811160"/>
              <a:ext cx="1464840" cy="33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10000" y="1780920"/>
              <a:ext cx="1438200" cy="337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95880" y="2761920"/>
              <a:ext cx="3484080" cy="131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292640" y="2775960"/>
              <a:ext cx="3449160" cy="135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81640" y="1910880"/>
              <a:ext cx="3079080" cy="304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35400" y="22604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5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6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20574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0" y="32529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6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952880" y="4191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242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8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419112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24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00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4290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24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2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15000" y="205740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242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4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29400" y="762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7200" y="762120"/>
            <a:ext cx="3276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quadratic probing is used, and the table size is prime, then a new element can always be inserted if the table is at least half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0880" y="541008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xtbook, p. 19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00600" y="3124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72040" y="1646280"/>
            <a:ext cx="3749760" cy="36338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726080" y="2196720"/>
            <a:ext cx="2670120" cy="26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54440" y="2233440"/>
            <a:ext cx="2776680" cy="24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53040" y="1635120"/>
            <a:ext cx="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3429000"/>
            <a:ext cx="3351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312880" y="1824120"/>
            <a:ext cx="1465560" cy="334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34120" y="1793880"/>
            <a:ext cx="1438200" cy="33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319640" y="2774880"/>
            <a:ext cx="3484440" cy="13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572000" y="2789280"/>
            <a:ext cx="3193920" cy="12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419720" y="3429000"/>
            <a:ext cx="16002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191120" y="3428640"/>
            <a:ext cx="1828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320040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05400" y="1924200"/>
            <a:ext cx="3079800" cy="3044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86600" y="403848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7080" y="29718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91520" y="41911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267080" y="34290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0" y="441972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4648320"/>
            <a:ext cx="8610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 visited only 9 of the 17 bins, but if the table is half empty, not all those 9 bins can be occupied, so we must be able to insert a new element in one of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7200" y="762120"/>
            <a:ext cx="3276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quadratic probing is used, and the table size is prime, then a new element can always be inserted if the table is at least half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29400" y="762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7 (pr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9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88000" y="20019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2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17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3200" y="20494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3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44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4160" y="229716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17524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72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1520" y="261468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196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57720" y="2262240"/>
            <a:ext cx="16524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1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21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67640" y="2249640"/>
            <a:ext cx="164880" cy="176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4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4172040" y="1635120"/>
            <a:ext cx="3750840" cy="3645000"/>
            <a:chOff x="4172040" y="1635120"/>
            <a:chExt cx="3750840" cy="3645000"/>
          </a:xfrm>
        </p:grpSpPr>
        <p:sp>
          <p:nvSpPr>
            <p:cNvPr id="247" name=""/>
            <p:cNvSpPr/>
            <p:nvPr/>
          </p:nvSpPr>
          <p:spPr>
            <a:xfrm>
              <a:off x="4172040" y="1646280"/>
              <a:ext cx="3749400" cy="363384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725720" y="2196720"/>
              <a:ext cx="2670120" cy="260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4440" y="2233440"/>
              <a:ext cx="2776320" cy="24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3040" y="1635120"/>
              <a:ext cx="0" cy="36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4000" y="3487680"/>
              <a:ext cx="372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312880" y="1824120"/>
              <a:ext cx="1464840" cy="33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3760" y="1793880"/>
              <a:ext cx="1438200" cy="33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19640" y="2774880"/>
              <a:ext cx="3484080" cy="13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316400" y="2789280"/>
              <a:ext cx="3449160" cy="13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05400" y="1923840"/>
              <a:ext cx="3079080" cy="3044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95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685800"/>
            <a:ext cx="0" cy="5791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69880" y="3306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1120" y="1940040"/>
            <a:ext cx="194004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828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5320" y="4413240"/>
            <a:ext cx="165240" cy="176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86080" y="157176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48360" y="12286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50040" y="124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152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dratic pro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8520" y="3137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y) + 9)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25146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9810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472428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2057400"/>
            <a:ext cx="155520" cy="15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03:01:12Z</dcterms:created>
  <dc:creator>David R. Musser</dc:creator>
  <dc:description/>
  <dc:language>en-US</dc:language>
  <cp:lastModifiedBy>David R. Musser</cp:lastModifiedBy>
  <dcterms:modified xsi:type="dcterms:W3CDTF">1999-03-27T16:52:55Z</dcterms:modified>
  <cp:revision>12</cp:revision>
  <dc:subject/>
  <dc:title>No Slide Title</dc:title>
</cp:coreProperties>
</file>