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90D-010C-400B-8B6F-1A7321E3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D88-F6F5-4AA4-B4E5-8E10E3C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B1B-47D7-4DB6-B07F-3E44B037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BB7-6DA2-4090-BE3F-DDD99309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CEA-7F8E-4A28-9B12-39F61974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07C-9884-45CA-8FC3-C251C5EA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11F-E4AB-4987-8A52-51194DEF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603-0FD9-46F2-A61C-331236BB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911-390B-4F00-85F9-314E168E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C36-CA7B-40CE-BC55-DEE374C3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B13-1E38-4E35-9630-E4987616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143-9381-492E-8EB2-EBFB9C0C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902-F7EE-4ED3-A7D0-2CEF9038D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5410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near probing method stores the (Key,Value) pairs directly in the hash table array or vector.  Another method: “separate chaining” -- each vector entry is a pointer to a linked list of (Key, Value) pai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41008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4648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’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carl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01028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10280" y="4648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’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carl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85345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14720" y="518148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7924320" y="45720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4380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153280" y="52578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543800" y="5181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77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68680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868680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450216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8308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0544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62520" y="466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83080" y="466092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62520" y="49528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51116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83080" y="51116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62520" y="545616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8308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00544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52600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41608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8308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00544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962520" y="3048120"/>
            <a:ext cx="1460520" cy="874440"/>
            <a:chOff x="3962520" y="3048120"/>
            <a:chExt cx="1460520" cy="874440"/>
          </a:xfrm>
        </p:grpSpPr>
        <p:sp>
          <p:nvSpPr>
            <p:cNvPr id="766" name=""/>
            <p:cNvSpPr/>
            <p:nvPr/>
          </p:nvSpPr>
          <p:spPr>
            <a:xfrm>
              <a:off x="3962520" y="320688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8308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0544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962520" y="336564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483080" y="336564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62520" y="365760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62520" y="381636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83080" y="381636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62520" y="304812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21398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48308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0544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229860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83080" y="229860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259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27496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05440" y="2298600"/>
            <a:ext cx="380880" cy="119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62520" y="19810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38280" y="1066680"/>
            <a:ext cx="152424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438280" y="274968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438280" y="2298600"/>
            <a:ext cx="152424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438280" y="2404800"/>
            <a:ext cx="1524240" cy="35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438280" y="2298240"/>
            <a:ext cx="1524240" cy="16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38280" y="3048120"/>
            <a:ext cx="1524240" cy="20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438280" y="1776240"/>
            <a:ext cx="1524240" cy="333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161040" y="1981080"/>
            <a:ext cx="434880" cy="3581640"/>
          </a:xfrm>
          <a:custGeom>
            <a:avLst/>
            <a:gdLst>
              <a:gd name="textAreaLeft" fmla="*/ 0 w 434880"/>
              <a:gd name="textAreaRight" fmla="*/ 156960 w 43488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74840" y="68580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stract view of a hash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62520" y="450216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8308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00544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62520" y="466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83080" y="466092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49528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62520" y="51116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483080" y="51116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962520" y="545616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48308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00544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2600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962520" y="41608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8308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00544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962520" y="3048120"/>
            <a:ext cx="1460520" cy="874440"/>
            <a:chOff x="3962520" y="3048120"/>
            <a:chExt cx="1460520" cy="874440"/>
          </a:xfrm>
        </p:grpSpPr>
        <p:sp>
          <p:nvSpPr>
            <p:cNvPr id="815" name=""/>
            <p:cNvSpPr/>
            <p:nvPr/>
          </p:nvSpPr>
          <p:spPr>
            <a:xfrm>
              <a:off x="3962520" y="320688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8308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0544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62520" y="336564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83080" y="336564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62520" y="365760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62520" y="381636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483080" y="381636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962520" y="304812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3962520" y="21398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8308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0544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229860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83080" y="229860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62520" y="259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62520" y="27496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05440" y="2298600"/>
            <a:ext cx="380880" cy="119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62520" y="19810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38280" y="1066680"/>
            <a:ext cx="152424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438280" y="274968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438280" y="2298600"/>
            <a:ext cx="152424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438280" y="2404800"/>
            <a:ext cx="1524240" cy="35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438280" y="2298240"/>
            <a:ext cx="1524240" cy="16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38280" y="3048120"/>
            <a:ext cx="1524240" cy="20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38280" y="1776240"/>
            <a:ext cx="1524240" cy="333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 rot="5400000">
            <a:off x="4058640" y="5694120"/>
            <a:ext cx="417240" cy="609480"/>
          </a:xfrm>
          <a:custGeom>
            <a:avLst/>
            <a:gdLst>
              <a:gd name="textAreaLeft" fmla="*/ 0 w 417240"/>
              <a:gd name="textAreaRight" fmla="*/ 150480 w 4172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63880" y="6211800"/>
            <a:ext cx="43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length: a small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61040" y="1981080"/>
            <a:ext cx="434880" cy="3581640"/>
          </a:xfrm>
          <a:custGeom>
            <a:avLst/>
            <a:gdLst>
              <a:gd name="textAreaLeft" fmla="*/ 0 w 434880"/>
              <a:gd name="textAreaRight" fmla="*/ 156960 w 43488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74840" y="68580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stract view of a hash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438280" y="3159000"/>
            <a:ext cx="147168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909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1324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17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0996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1324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2438280" y="3255840"/>
            <a:ext cx="3386160" cy="2260800"/>
            <a:chOff x="2438280" y="3255840"/>
            <a:chExt cx="3386160" cy="2260800"/>
          </a:xfrm>
        </p:grpSpPr>
        <p:sp>
          <p:nvSpPr>
            <p:cNvPr id="861" name=""/>
            <p:cNvSpPr/>
            <p:nvPr/>
          </p:nvSpPr>
          <p:spPr>
            <a:xfrm flipV="1">
              <a:off x="3909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41324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917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390996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441324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3909960" y="35211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90996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441324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3909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4413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4917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5421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3909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441324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4917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3909960" y="4116600"/>
              <a:ext cx="1410840" cy="458640"/>
              <a:chOff x="3909960" y="4116600"/>
              <a:chExt cx="1410840" cy="458640"/>
            </a:xfrm>
          </p:grpSpPr>
          <p:sp>
            <p:nvSpPr>
              <p:cNvPr id="877" name=""/>
              <p:cNvSpPr/>
              <p:nvPr/>
            </p:nvSpPr>
            <p:spPr>
              <a:xfrm flipV="1">
                <a:off x="3909960" y="443664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441288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491760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3909960" y="4353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4412880" y="435312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3909960" y="4200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3909960" y="41166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4412880" y="411660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3909960" y="45198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 flipV="1">
              <a:off x="3909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441324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4917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390996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41324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909960" y="475884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3909960" y="46753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917960" y="4905360"/>
              <a:ext cx="368280" cy="61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3909960" y="5078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438280" y="3813480"/>
              <a:ext cx="147168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438280" y="4675680"/>
              <a:ext cx="14716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4116240"/>
              <a:ext cx="147168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2438280" y="3492360"/>
              <a:ext cx="1471680" cy="10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2438280" y="3492360"/>
              <a:ext cx="147168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3909960" y="546048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390996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441324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3909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4413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4917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5421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3909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1324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17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909960" y="2257560"/>
            <a:ext cx="1410840" cy="458280"/>
            <a:chOff x="3909960" y="2257560"/>
            <a:chExt cx="1410840" cy="458280"/>
          </a:xfrm>
        </p:grpSpPr>
        <p:sp>
          <p:nvSpPr>
            <p:cNvPr id="911" name=""/>
            <p:cNvSpPr/>
            <p:nvPr/>
          </p:nvSpPr>
          <p:spPr>
            <a:xfrm>
              <a:off x="3909960" y="234072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1288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1760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09960" y="242388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12880" y="242388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09960" y="257724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09960" y="266040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12880" y="266040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09960" y="225756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909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1324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917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0996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41324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09960" y="201780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909960" y="21016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17960" y="1865160"/>
            <a:ext cx="368280" cy="61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09960" y="1698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438280" y="1219320"/>
            <a:ext cx="1471680" cy="135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438280" y="2101320"/>
            <a:ext cx="147168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2438280" y="1865160"/>
            <a:ext cx="147168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2438280" y="1920960"/>
            <a:ext cx="1471680" cy="18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2438280" y="1865160"/>
            <a:ext cx="147168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438280" y="2257560"/>
            <a:ext cx="1471680" cy="10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438280" y="1590840"/>
            <a:ext cx="1471680" cy="17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33960" y="1698480"/>
            <a:ext cx="420840" cy="3926160"/>
          </a:xfrm>
          <a:custGeom>
            <a:avLst/>
            <a:gdLst>
              <a:gd name="textAreaLeft" fmla="*/ 0 w 420840"/>
              <a:gd name="textAreaRight" fmla="*/ 151920 w 420840"/>
              <a:gd name="textAreaTop" fmla="*/ 102240 h 3926160"/>
              <a:gd name="textAreaBottom" fmla="*/ 3823920 h 392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174840" y="685800"/>
            <a:ext cx="56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number of keys stored doubles, so should the number of bin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438280" y="1905120"/>
            <a:ext cx="14479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438280" y="2438280"/>
            <a:ext cx="14479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743200" y="6035760"/>
            <a:ext cx="49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. . in order to keep the same constant bound on average length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438280" y="3159000"/>
            <a:ext cx="147168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909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324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17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90996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324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438280" y="3255840"/>
            <a:ext cx="3386160" cy="2260800"/>
            <a:chOff x="2438280" y="3255840"/>
            <a:chExt cx="3386160" cy="2260800"/>
          </a:xfrm>
        </p:grpSpPr>
        <p:sp>
          <p:nvSpPr>
            <p:cNvPr id="954" name=""/>
            <p:cNvSpPr/>
            <p:nvPr/>
          </p:nvSpPr>
          <p:spPr>
            <a:xfrm flipV="1">
              <a:off x="3909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441324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4917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390996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41324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3909960" y="35211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390996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441324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3909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4413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4917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421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3909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41324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4917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3909960" y="4116600"/>
              <a:ext cx="1410840" cy="458640"/>
              <a:chOff x="3909960" y="4116600"/>
              <a:chExt cx="1410840" cy="45864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3909960" y="443664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441288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491760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3909960" y="4353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4412880" y="435312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3909960" y="4200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3909960" y="41166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4412880" y="411660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3909960" y="45198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 flipV="1">
              <a:off x="3909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441324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4917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390996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441324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3909960" y="475884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3909960" y="46753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4917960" y="4905360"/>
              <a:ext cx="368280" cy="61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3909960" y="5078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38280" y="3813480"/>
              <a:ext cx="147168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38280" y="4675680"/>
              <a:ext cx="14716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38280" y="4116240"/>
              <a:ext cx="147168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2438280" y="3492360"/>
              <a:ext cx="1471680" cy="10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438280" y="3492360"/>
              <a:ext cx="147168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3909960" y="546048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390996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441324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3909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4413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4917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5421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3909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41324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917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3909960" y="2257560"/>
            <a:ext cx="1410840" cy="458280"/>
            <a:chOff x="3909960" y="2257560"/>
            <a:chExt cx="1410840" cy="458280"/>
          </a:xfrm>
        </p:grpSpPr>
        <p:sp>
          <p:nvSpPr>
            <p:cNvPr id="1004" name=""/>
            <p:cNvSpPr/>
            <p:nvPr/>
          </p:nvSpPr>
          <p:spPr>
            <a:xfrm>
              <a:off x="3909960" y="234072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41288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1760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09960" y="242388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12880" y="242388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09960" y="257724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909960" y="266040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12880" y="266040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909960" y="225756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909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41324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917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90996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41324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909960" y="201780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909960" y="21016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917960" y="1865160"/>
            <a:ext cx="368280" cy="61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09960" y="1698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38280" y="1219320"/>
            <a:ext cx="1471680" cy="135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2438280" y="2101320"/>
            <a:ext cx="147168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438280" y="1865160"/>
            <a:ext cx="147168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2438280" y="1920960"/>
            <a:ext cx="1471680" cy="18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2438280" y="1865160"/>
            <a:ext cx="147168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438280" y="2257560"/>
            <a:ext cx="1471680" cy="10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438280" y="1590840"/>
            <a:ext cx="1471680" cy="17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33960" y="1698480"/>
            <a:ext cx="420840" cy="3926160"/>
          </a:xfrm>
          <a:custGeom>
            <a:avLst/>
            <a:gdLst>
              <a:gd name="textAreaLeft" fmla="*/ 0 w 420840"/>
              <a:gd name="textAreaRight" fmla="*/ 151920 w 420840"/>
              <a:gd name="textAreaTop" fmla="*/ 102240 h 3926160"/>
              <a:gd name="textAreaBottom" fmla="*/ 3823920 h 392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174840" y="685800"/>
            <a:ext cx="56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number of keys stored doubles, so should the number of bin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438280" y="2438280"/>
            <a:ext cx="14479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438280" y="1905120"/>
            <a:ext cx="14479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 rot="5400000">
            <a:off x="4058640" y="5694120"/>
            <a:ext cx="417240" cy="609480"/>
          </a:xfrm>
          <a:custGeom>
            <a:avLst/>
            <a:gdLst>
              <a:gd name="textAreaLeft" fmla="*/ 0 w 417240"/>
              <a:gd name="textAreaRight" fmla="*/ 150480 w 4172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4038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410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971800"/>
            <a:ext cx="1600200" cy="2895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4952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666880" y="403812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038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41008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4648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’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said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9343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240" y="472428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9343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86600" y="4724280"/>
            <a:ext cx="15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(or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7T15:56:37Z</dcterms:created>
  <dc:creator>David R. Musser</dc:creator>
  <dc:description/>
  <dc:language>en-US</dc:language>
  <cp:lastModifiedBy>David R. Musser</cp:lastModifiedBy>
  <dcterms:modified xsi:type="dcterms:W3CDTF">1999-03-27T16:52:04Z</dcterms:modified>
  <cp:revision>5</cp:revision>
  <dc:subject/>
  <dc:title>No Slide Title</dc:title>
</cp:coreProperties>
</file>