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244F-69B3-4110-956C-06A41AE7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998F-4E0A-4D4D-811B-5D34D85E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C8EE-544A-4B2F-968F-117B7CDEC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6590-098A-487E-983C-57AC3DA78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DE6E-0861-49AF-83B2-959947E2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05A6-622F-47BB-8811-B1E06F3E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1B05-8ED9-467C-B8D8-6FB9D8E3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859D-4946-48AE-8C7C-47637A96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EE20-F1DF-44A0-AAC3-E6BD7EE0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4742-F808-45C8-A2CB-F89C0463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4A37-132D-4FFE-8991-6D69726E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9EEC-1432-42DA-BB70-427D7FFD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44B0-DE81-4D73-97EA-0316BA1C0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5410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666880" y="5409720"/>
            <a:ext cx="160020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inear probing method stores the (Key,Value) pairs directly in the hash table array or vector.  Another method: “separate chaining” -- each vector entry is a pointer to a linked list of (Key, Value) pair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895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352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38098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42670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47242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5181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5638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52578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91320" y="52578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8184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5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24480" y="52578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32448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" y="3276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666880" y="3505320"/>
            <a:ext cx="160020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590920" y="6094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parate Chaini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572000" y="2895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0" y="3352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572000" y="38098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572000" y="42670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572000" y="47242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572000" y="5181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572000" y="5638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72428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181480" y="43434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791320" y="43434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18256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9454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324480" y="43434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72428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181480" y="52578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791320" y="52578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18184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945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324480" y="52578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632448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7242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181480" y="57150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791320" y="57150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324480" y="57150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6324480" y="57150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82920" y="56386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9454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181480" y="38862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791320" y="38862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18148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9454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324480" y="38862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72428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6324480" y="3886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40080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58000" y="43434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467480" y="4343400"/>
            <a:ext cx="5335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001000" y="43434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8001000" y="43434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782400" y="42670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5456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5410080" y="4800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410080" y="4648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’ </a:t>
            </a:r>
            <a:r>
              <a:rPr b="0" lang="en-US" sz="2400" spc="-1" strike="noStrike">
                <a:solidFill>
                  <a:srgbClr val="000000"/>
                </a:solidFill>
                <a:latin typeface="Math B"/>
                <a:ea typeface="Math B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‘carl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28600" y="3276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666880" y="3505320"/>
            <a:ext cx="160020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590920" y="6094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parate Chaini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572000" y="2895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572000" y="3352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572000" y="38098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572000" y="42670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572000" y="47242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572000" y="5181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572000" y="5638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72428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181480" y="43434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791320" y="43434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18256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9454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324480" y="43434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72428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181480" y="52578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91320" y="52578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18184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45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324480" y="52578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632448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7242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181480" y="57150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91320" y="57150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324480" y="57150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324480" y="57150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182920" y="56386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9454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181480" y="38862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791320" y="38862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18148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9454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324480" y="38862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72428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6324480" y="3886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40080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858000" y="43434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467480" y="4343400"/>
            <a:ext cx="5335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8001000" y="43434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8001000" y="43434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782400" y="42670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5456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7010280" y="4800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010280" y="4648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’ </a:t>
            </a:r>
            <a:r>
              <a:rPr b="0" lang="en-US" sz="2400" spc="-1" strike="noStrike">
                <a:solidFill>
                  <a:srgbClr val="000000"/>
                </a:solidFill>
                <a:latin typeface="Math B"/>
                <a:ea typeface="Math B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‘carl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28600" y="3276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666880" y="3505320"/>
            <a:ext cx="160020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590920" y="6094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parate Chaini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572000" y="2895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572000" y="3352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572000" y="38098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572000" y="42670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572000" y="47242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572000" y="5181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572000" y="5638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72428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181480" y="43434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791320" y="43434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18256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9454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324480" y="43434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72428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181480" y="52578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791320" y="52578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18184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945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324480" y="52578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632448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7242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181480" y="57150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791320" y="57150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324480" y="57150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6324480" y="57150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182920" y="56386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9454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181480" y="38862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791320" y="38862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18148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9454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324480" y="38862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72428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6324480" y="3886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40080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0" y="43434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467480" y="4343400"/>
            <a:ext cx="5335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001000" y="43434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8001000" y="43434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782400" y="42670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5456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8534520" y="4800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614720" y="5181480"/>
            <a:ext cx="152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l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28600" y="3276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666880" y="3505320"/>
            <a:ext cx="160020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590920" y="6094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parate Chaini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572000" y="2895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72000" y="3352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572000" y="38098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572000" y="42670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572000" y="47242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572000" y="5181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572000" y="5638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181480" y="43434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791320" y="43434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18256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9454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324480" y="43434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72428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181480" y="52578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791320" y="52578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18184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945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324480" y="52578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632448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7242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181480" y="57150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91320" y="57150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324480" y="57150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6324480" y="57150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182920" y="56386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9454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181480" y="38862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791320" y="38862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18148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9454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324480" y="38862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72428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6324480" y="3886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40080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858000" y="43434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467480" y="4343400"/>
            <a:ext cx="5335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8001000" y="43434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782400" y="42670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5456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7924320" y="457200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543800" y="52578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8153280" y="5257800"/>
            <a:ext cx="5335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543800" y="51814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3077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8686800" y="52578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868680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962520" y="4502160"/>
            <a:ext cx="41724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483080" y="4502160"/>
            <a:ext cx="41760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05440" y="4502160"/>
            <a:ext cx="41760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962520" y="4660920"/>
            <a:ext cx="41724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483080" y="4660920"/>
            <a:ext cx="41760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962520" y="4952880"/>
            <a:ext cx="41724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2520" y="5111640"/>
            <a:ext cx="41724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483080" y="5111640"/>
            <a:ext cx="41760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962520" y="5456160"/>
            <a:ext cx="41724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483080" y="5456160"/>
            <a:ext cx="41760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005440" y="5456160"/>
            <a:ext cx="41760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526000" y="5456160"/>
            <a:ext cx="41760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962520" y="4160880"/>
            <a:ext cx="41724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483080" y="4160880"/>
            <a:ext cx="41760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005440" y="4160880"/>
            <a:ext cx="41760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3962520" y="3048120"/>
            <a:ext cx="1460520" cy="874440"/>
            <a:chOff x="3962520" y="3048120"/>
            <a:chExt cx="1460520" cy="874440"/>
          </a:xfrm>
        </p:grpSpPr>
        <p:sp>
          <p:nvSpPr>
            <p:cNvPr id="766" name=""/>
            <p:cNvSpPr/>
            <p:nvPr/>
          </p:nvSpPr>
          <p:spPr>
            <a:xfrm>
              <a:off x="3962520" y="3206880"/>
              <a:ext cx="41724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483080" y="3206880"/>
              <a:ext cx="41760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005440" y="3206880"/>
              <a:ext cx="41760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962520" y="3365640"/>
              <a:ext cx="41724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483080" y="3365640"/>
              <a:ext cx="41760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962520" y="3657600"/>
              <a:ext cx="41724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962520" y="3816360"/>
              <a:ext cx="41724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483080" y="3816360"/>
              <a:ext cx="41760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962520" y="3048120"/>
              <a:ext cx="41724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3962520" y="2139840"/>
            <a:ext cx="41724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483080" y="2139840"/>
            <a:ext cx="41760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005440" y="2139840"/>
            <a:ext cx="41760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2298600"/>
            <a:ext cx="41724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483080" y="2298600"/>
            <a:ext cx="41760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962520" y="2590920"/>
            <a:ext cx="41724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962520" y="2749680"/>
            <a:ext cx="41724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005440" y="2298600"/>
            <a:ext cx="380880" cy="119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962520" y="1981080"/>
            <a:ext cx="41724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438280" y="1066680"/>
            <a:ext cx="152424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438280" y="2749680"/>
            <a:ext cx="15242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2438280" y="2298600"/>
            <a:ext cx="152424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2438280" y="2404800"/>
            <a:ext cx="1524240" cy="35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2438280" y="2298240"/>
            <a:ext cx="1524240" cy="16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438280" y="3048120"/>
            <a:ext cx="1524240" cy="20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438280" y="1776240"/>
            <a:ext cx="1524240" cy="333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161040" y="1981080"/>
            <a:ext cx="434880" cy="3581640"/>
          </a:xfrm>
          <a:custGeom>
            <a:avLst/>
            <a:gdLst>
              <a:gd name="textAreaLeft" fmla="*/ 0 w 434880"/>
              <a:gd name="textAreaRight" fmla="*/ 156960 w 434880"/>
              <a:gd name="textAreaTop" fmla="*/ 93240 h 3581640"/>
              <a:gd name="textAreaBottom" fmla="*/ 3488400 h 358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662880" y="347184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table “bin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174840" y="68580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bstract view of a hash 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950760" y="685800"/>
            <a:ext cx="344520" cy="5791320"/>
          </a:xfrm>
          <a:custGeom>
            <a:avLst/>
            <a:gdLst>
              <a:gd name="textAreaLeft" fmla="*/ 220320 w 344520"/>
              <a:gd name="textAreaRight" fmla="*/ 344880 w 344520"/>
              <a:gd name="textAreaTop" fmla="*/ 150840 h 5791320"/>
              <a:gd name="textAreaBottom" fmla="*/ 5640480 h 579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2246400"/>
            <a:ext cx="118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ge set of values, too many to use directly as array ind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962520" y="4502160"/>
            <a:ext cx="41724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483080" y="4502160"/>
            <a:ext cx="41760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005440" y="4502160"/>
            <a:ext cx="41760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962520" y="4660920"/>
            <a:ext cx="41724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483080" y="4660920"/>
            <a:ext cx="41760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62520" y="4952880"/>
            <a:ext cx="41724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962520" y="5111640"/>
            <a:ext cx="41724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483080" y="5111640"/>
            <a:ext cx="41760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962520" y="5456160"/>
            <a:ext cx="41724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483080" y="5456160"/>
            <a:ext cx="41760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005440" y="5456160"/>
            <a:ext cx="41760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526000" y="5456160"/>
            <a:ext cx="41760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962520" y="4160880"/>
            <a:ext cx="41724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483080" y="4160880"/>
            <a:ext cx="41760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005440" y="4160880"/>
            <a:ext cx="41760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962520" y="3048120"/>
            <a:ext cx="1460520" cy="874440"/>
            <a:chOff x="3962520" y="3048120"/>
            <a:chExt cx="1460520" cy="874440"/>
          </a:xfrm>
        </p:grpSpPr>
        <p:sp>
          <p:nvSpPr>
            <p:cNvPr id="815" name=""/>
            <p:cNvSpPr/>
            <p:nvPr/>
          </p:nvSpPr>
          <p:spPr>
            <a:xfrm>
              <a:off x="3962520" y="3206880"/>
              <a:ext cx="41724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483080" y="3206880"/>
              <a:ext cx="41760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005440" y="3206880"/>
              <a:ext cx="41760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962520" y="3365640"/>
              <a:ext cx="41724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483080" y="3365640"/>
              <a:ext cx="41760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962520" y="3657600"/>
              <a:ext cx="41724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962520" y="3816360"/>
              <a:ext cx="41724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483080" y="3816360"/>
              <a:ext cx="41760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962520" y="3048120"/>
              <a:ext cx="417240" cy="10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3962520" y="2139840"/>
            <a:ext cx="41724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483080" y="2139840"/>
            <a:ext cx="41760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005440" y="2139840"/>
            <a:ext cx="41760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962520" y="2298600"/>
            <a:ext cx="41724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483080" y="2298600"/>
            <a:ext cx="41760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962520" y="2590920"/>
            <a:ext cx="41724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962520" y="2749680"/>
            <a:ext cx="417240" cy="10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005440" y="2298600"/>
            <a:ext cx="380880" cy="119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962520" y="1981080"/>
            <a:ext cx="417240" cy="106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438280" y="1066680"/>
            <a:ext cx="152424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2438280" y="2749680"/>
            <a:ext cx="15242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2438280" y="2298600"/>
            <a:ext cx="152424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2438280" y="2404800"/>
            <a:ext cx="1524240" cy="35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2438280" y="2298240"/>
            <a:ext cx="1524240" cy="16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438280" y="3048120"/>
            <a:ext cx="1524240" cy="20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438280" y="1776240"/>
            <a:ext cx="1524240" cy="333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 rot="5400000">
            <a:off x="4058640" y="5694120"/>
            <a:ext cx="417240" cy="609480"/>
          </a:xfrm>
          <a:custGeom>
            <a:avLst/>
            <a:gdLst>
              <a:gd name="textAreaLeft" fmla="*/ 0 w 417240"/>
              <a:gd name="textAreaRight" fmla="*/ 150480 w 4172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963880" y="6211800"/>
            <a:ext cx="43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length: a small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161040" y="1981080"/>
            <a:ext cx="434880" cy="3581640"/>
          </a:xfrm>
          <a:custGeom>
            <a:avLst/>
            <a:gdLst>
              <a:gd name="textAreaLeft" fmla="*/ 0 w 434880"/>
              <a:gd name="textAreaRight" fmla="*/ 156960 w 434880"/>
              <a:gd name="textAreaTop" fmla="*/ 93240 h 3581640"/>
              <a:gd name="textAreaBottom" fmla="*/ 3488400 h 358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662880" y="347184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table “bin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174840" y="68580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bstract view of a hash 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950760" y="685800"/>
            <a:ext cx="344520" cy="5791320"/>
          </a:xfrm>
          <a:custGeom>
            <a:avLst/>
            <a:gdLst>
              <a:gd name="textAreaLeft" fmla="*/ 220320 w 344520"/>
              <a:gd name="textAreaRight" fmla="*/ 344880 w 344520"/>
              <a:gd name="textAreaTop" fmla="*/ 150840 h 5791320"/>
              <a:gd name="textAreaBottom" fmla="*/ 5640480 h 579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0" y="2246400"/>
            <a:ext cx="118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ge set of values, too many to use directly as array ind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662880" y="347184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table “bin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950760" y="685800"/>
            <a:ext cx="344520" cy="5791320"/>
          </a:xfrm>
          <a:custGeom>
            <a:avLst/>
            <a:gdLst>
              <a:gd name="textAreaLeft" fmla="*/ 220320 w 344520"/>
              <a:gd name="textAreaRight" fmla="*/ 344880 w 344520"/>
              <a:gd name="textAreaTop" fmla="*/ 150840 h 5791320"/>
              <a:gd name="textAreaBottom" fmla="*/ 5640480 h 579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0" y="2246400"/>
            <a:ext cx="118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ge set of values, too many  to use directly as array ind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438280" y="3159000"/>
            <a:ext cx="1471680" cy="135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909960" y="3019320"/>
            <a:ext cx="403200" cy="57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413240" y="3019320"/>
            <a:ext cx="403200" cy="57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917960" y="3019320"/>
            <a:ext cx="403200" cy="57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909960" y="3103560"/>
            <a:ext cx="403200" cy="5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413240" y="3103560"/>
            <a:ext cx="403200" cy="5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2438280" y="3255840"/>
            <a:ext cx="3386160" cy="2260800"/>
            <a:chOff x="2438280" y="3255840"/>
            <a:chExt cx="3386160" cy="2260800"/>
          </a:xfrm>
        </p:grpSpPr>
        <p:sp>
          <p:nvSpPr>
            <p:cNvPr id="861" name=""/>
            <p:cNvSpPr/>
            <p:nvPr/>
          </p:nvSpPr>
          <p:spPr>
            <a:xfrm flipV="1">
              <a:off x="3909960" y="375552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4413240" y="375552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4917960" y="375552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3909960" y="367344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4413240" y="367344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3909960" y="352116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3909960" y="34369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4413240" y="34369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3909960" y="325548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4413240" y="325548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4917960" y="325548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5421240" y="325548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3909960" y="39355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4413240" y="39355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4917960" y="39355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6" name=""/>
            <p:cNvGrpSpPr/>
            <p:nvPr/>
          </p:nvGrpSpPr>
          <p:grpSpPr>
            <a:xfrm>
              <a:off x="3909960" y="4116600"/>
              <a:ext cx="1410840" cy="458640"/>
              <a:chOff x="3909960" y="4116600"/>
              <a:chExt cx="1410840" cy="458640"/>
            </a:xfrm>
          </p:grpSpPr>
          <p:sp>
            <p:nvSpPr>
              <p:cNvPr id="877" name=""/>
              <p:cNvSpPr/>
              <p:nvPr/>
            </p:nvSpPr>
            <p:spPr>
              <a:xfrm flipV="1">
                <a:off x="3909960" y="4436640"/>
                <a:ext cx="40284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V="1">
                <a:off x="4412880" y="4436640"/>
                <a:ext cx="40320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V="1">
                <a:off x="4917600" y="4436640"/>
                <a:ext cx="40320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V="1">
                <a:off x="3909960" y="4353120"/>
                <a:ext cx="40284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V="1">
                <a:off x="4412880" y="4353120"/>
                <a:ext cx="40320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V="1">
                <a:off x="3909960" y="4200120"/>
                <a:ext cx="40284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V="1">
                <a:off x="3909960" y="4116600"/>
                <a:ext cx="40284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V="1">
                <a:off x="4412880" y="4116600"/>
                <a:ext cx="40320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V="1">
                <a:off x="3909960" y="4519800"/>
                <a:ext cx="40284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6" name=""/>
            <p:cNvSpPr/>
            <p:nvPr/>
          </p:nvSpPr>
          <p:spPr>
            <a:xfrm flipV="1">
              <a:off x="3909960" y="4995360"/>
              <a:ext cx="403200" cy="5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4413240" y="4995360"/>
              <a:ext cx="403200" cy="5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4917960" y="4995360"/>
              <a:ext cx="403200" cy="5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3909960" y="491184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4413240" y="491184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3909960" y="4758840"/>
              <a:ext cx="403200" cy="5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3909960" y="46753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4917960" y="4905360"/>
              <a:ext cx="368280" cy="61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>
              <a:off x="3909960" y="50785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438280" y="3813480"/>
              <a:ext cx="1471680" cy="91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438280" y="4675680"/>
              <a:ext cx="147168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438280" y="4116240"/>
              <a:ext cx="1471680" cy="85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2438280" y="3492360"/>
              <a:ext cx="1471680" cy="10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2438280" y="3492360"/>
              <a:ext cx="1471680" cy="174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V="1">
              <a:off x="3909960" y="5460480"/>
              <a:ext cx="403200" cy="5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3909960" y="537696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4413240" y="537696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3909960" y="519552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4413240" y="519552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4917960" y="519552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5421240" y="519552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3909960" y="2841480"/>
            <a:ext cx="403200" cy="5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413240" y="2841480"/>
            <a:ext cx="403200" cy="5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917960" y="2841480"/>
            <a:ext cx="403200" cy="5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3909960" y="2257560"/>
            <a:ext cx="1410840" cy="458280"/>
            <a:chOff x="3909960" y="2257560"/>
            <a:chExt cx="1410840" cy="458280"/>
          </a:xfrm>
        </p:grpSpPr>
        <p:sp>
          <p:nvSpPr>
            <p:cNvPr id="911" name=""/>
            <p:cNvSpPr/>
            <p:nvPr/>
          </p:nvSpPr>
          <p:spPr>
            <a:xfrm>
              <a:off x="3909960" y="2340720"/>
              <a:ext cx="40284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412880" y="23407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917600" y="23407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909960" y="2423880"/>
              <a:ext cx="40284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412880" y="242388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909960" y="2577240"/>
              <a:ext cx="40284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909960" y="2660400"/>
              <a:ext cx="40284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412880" y="266040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909960" y="2257560"/>
              <a:ext cx="40284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3909960" y="1781280"/>
            <a:ext cx="403200" cy="5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413240" y="1781280"/>
            <a:ext cx="403200" cy="5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917960" y="1781280"/>
            <a:ext cx="403200" cy="5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909960" y="1865160"/>
            <a:ext cx="403200" cy="5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413240" y="1865160"/>
            <a:ext cx="403200" cy="5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909960" y="2017800"/>
            <a:ext cx="403200" cy="5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909960" y="2101680"/>
            <a:ext cx="403200" cy="5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917960" y="1865160"/>
            <a:ext cx="368280" cy="61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09960" y="1698480"/>
            <a:ext cx="403200" cy="5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438280" y="1219320"/>
            <a:ext cx="1471680" cy="135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2438280" y="2101320"/>
            <a:ext cx="1471680" cy="91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2438280" y="1865160"/>
            <a:ext cx="147168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2438280" y="1920960"/>
            <a:ext cx="1471680" cy="185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2438280" y="1865160"/>
            <a:ext cx="1471680" cy="85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438280" y="2257560"/>
            <a:ext cx="1471680" cy="10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438280" y="1590840"/>
            <a:ext cx="1471680" cy="174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033960" y="1698480"/>
            <a:ext cx="420840" cy="3926160"/>
          </a:xfrm>
          <a:custGeom>
            <a:avLst/>
            <a:gdLst>
              <a:gd name="textAreaLeft" fmla="*/ 0 w 420840"/>
              <a:gd name="textAreaRight" fmla="*/ 151920 w 420840"/>
              <a:gd name="textAreaTop" fmla="*/ 102240 h 3926160"/>
              <a:gd name="textAreaBottom" fmla="*/ 3823920 h 392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174840" y="685800"/>
            <a:ext cx="561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the number of keys stored doubles, so should the number of bins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438280" y="1905120"/>
            <a:ext cx="144792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438280" y="2438280"/>
            <a:ext cx="144792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743200" y="6035760"/>
            <a:ext cx="49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. . in order to keep the same constant bound on average length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662880" y="347184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table “bin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950760" y="685800"/>
            <a:ext cx="344520" cy="5791320"/>
          </a:xfrm>
          <a:custGeom>
            <a:avLst/>
            <a:gdLst>
              <a:gd name="textAreaLeft" fmla="*/ 220320 w 344520"/>
              <a:gd name="textAreaRight" fmla="*/ 344880 w 344520"/>
              <a:gd name="textAreaTop" fmla="*/ 150840 h 5791320"/>
              <a:gd name="textAreaBottom" fmla="*/ 5640480 h 579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0" y="2246400"/>
            <a:ext cx="118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ge set of values, too many  to use directly as array ind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438280" y="3159000"/>
            <a:ext cx="1471680" cy="135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909960" y="3019320"/>
            <a:ext cx="403200" cy="57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413240" y="3019320"/>
            <a:ext cx="403200" cy="57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17960" y="3019320"/>
            <a:ext cx="403200" cy="57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909960" y="3103560"/>
            <a:ext cx="403200" cy="5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413240" y="3103560"/>
            <a:ext cx="403200" cy="5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2438280" y="3255840"/>
            <a:ext cx="3386160" cy="2260800"/>
            <a:chOff x="2438280" y="3255840"/>
            <a:chExt cx="3386160" cy="2260800"/>
          </a:xfrm>
        </p:grpSpPr>
        <p:sp>
          <p:nvSpPr>
            <p:cNvPr id="954" name=""/>
            <p:cNvSpPr/>
            <p:nvPr/>
          </p:nvSpPr>
          <p:spPr>
            <a:xfrm flipV="1">
              <a:off x="3909960" y="375552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4413240" y="375552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V="1">
              <a:off x="4917960" y="375552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V="1">
              <a:off x="3909960" y="367344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4413240" y="367344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3909960" y="352116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3909960" y="34369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V="1">
              <a:off x="4413240" y="34369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3909960" y="325548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V="1">
              <a:off x="4413240" y="325548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V="1">
              <a:off x="4917960" y="325548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V="1">
              <a:off x="5421240" y="325548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V="1">
              <a:off x="3909960" y="39355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4413240" y="39355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V="1">
              <a:off x="4917960" y="39355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9" name=""/>
            <p:cNvGrpSpPr/>
            <p:nvPr/>
          </p:nvGrpSpPr>
          <p:grpSpPr>
            <a:xfrm>
              <a:off x="3909960" y="4116600"/>
              <a:ext cx="1410840" cy="458640"/>
              <a:chOff x="3909960" y="4116600"/>
              <a:chExt cx="1410840" cy="458640"/>
            </a:xfrm>
          </p:grpSpPr>
          <p:sp>
            <p:nvSpPr>
              <p:cNvPr id="970" name=""/>
              <p:cNvSpPr/>
              <p:nvPr/>
            </p:nvSpPr>
            <p:spPr>
              <a:xfrm flipV="1">
                <a:off x="3909960" y="4436640"/>
                <a:ext cx="40284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V="1">
                <a:off x="4412880" y="4436640"/>
                <a:ext cx="40320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V="1">
                <a:off x="4917600" y="4436640"/>
                <a:ext cx="40320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V="1">
                <a:off x="3909960" y="4353120"/>
                <a:ext cx="40284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V="1">
                <a:off x="4412880" y="4353120"/>
                <a:ext cx="40320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V="1">
                <a:off x="3909960" y="4200120"/>
                <a:ext cx="40284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V="1">
                <a:off x="3909960" y="4116600"/>
                <a:ext cx="40284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V="1">
                <a:off x="4412880" y="4116600"/>
                <a:ext cx="40320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flipV="1">
                <a:off x="3909960" y="4519800"/>
                <a:ext cx="402840" cy="5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9" name=""/>
            <p:cNvSpPr/>
            <p:nvPr/>
          </p:nvSpPr>
          <p:spPr>
            <a:xfrm flipV="1">
              <a:off x="3909960" y="4995360"/>
              <a:ext cx="403200" cy="5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V="1">
              <a:off x="4413240" y="4995360"/>
              <a:ext cx="403200" cy="5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V="1">
              <a:off x="4917960" y="4995360"/>
              <a:ext cx="403200" cy="5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V="1">
              <a:off x="3909960" y="491184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4413240" y="491184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3909960" y="4758840"/>
              <a:ext cx="403200" cy="5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3909960" y="46753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4917960" y="4905360"/>
              <a:ext cx="368280" cy="61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3909960" y="50785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438280" y="3813480"/>
              <a:ext cx="1471680" cy="91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438280" y="4675680"/>
              <a:ext cx="147168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438280" y="4116240"/>
              <a:ext cx="1471680" cy="85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V="1">
              <a:off x="2438280" y="3492360"/>
              <a:ext cx="1471680" cy="10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2438280" y="3492360"/>
              <a:ext cx="1471680" cy="174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V="1">
              <a:off x="3909960" y="5460480"/>
              <a:ext cx="403200" cy="5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V="1">
              <a:off x="3909960" y="537696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V="1">
              <a:off x="4413240" y="537696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3909960" y="519552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4413240" y="519552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V="1">
              <a:off x="4917960" y="519552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5421240" y="5195520"/>
              <a:ext cx="40320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0" name=""/>
          <p:cNvSpPr/>
          <p:nvPr/>
        </p:nvSpPr>
        <p:spPr>
          <a:xfrm>
            <a:off x="3909960" y="2841480"/>
            <a:ext cx="403200" cy="5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413240" y="2841480"/>
            <a:ext cx="403200" cy="5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917960" y="2841480"/>
            <a:ext cx="403200" cy="5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3909960" y="2257560"/>
            <a:ext cx="1410840" cy="458280"/>
            <a:chOff x="3909960" y="2257560"/>
            <a:chExt cx="1410840" cy="458280"/>
          </a:xfrm>
        </p:grpSpPr>
        <p:sp>
          <p:nvSpPr>
            <p:cNvPr id="1004" name=""/>
            <p:cNvSpPr/>
            <p:nvPr/>
          </p:nvSpPr>
          <p:spPr>
            <a:xfrm>
              <a:off x="3909960" y="2340720"/>
              <a:ext cx="40284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412880" y="23407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917600" y="234072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909960" y="2423880"/>
              <a:ext cx="40284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412880" y="242388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909960" y="2577240"/>
              <a:ext cx="40284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909960" y="2660400"/>
              <a:ext cx="40284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412880" y="2660400"/>
              <a:ext cx="40320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909960" y="2257560"/>
              <a:ext cx="402840" cy="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3" name=""/>
          <p:cNvSpPr/>
          <p:nvPr/>
        </p:nvSpPr>
        <p:spPr>
          <a:xfrm>
            <a:off x="3909960" y="1781280"/>
            <a:ext cx="403200" cy="5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413240" y="1781280"/>
            <a:ext cx="403200" cy="5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917960" y="1781280"/>
            <a:ext cx="403200" cy="5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909960" y="1865160"/>
            <a:ext cx="403200" cy="5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413240" y="1865160"/>
            <a:ext cx="403200" cy="5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909960" y="2017800"/>
            <a:ext cx="403200" cy="5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909960" y="2101680"/>
            <a:ext cx="403200" cy="5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917960" y="1865160"/>
            <a:ext cx="368280" cy="61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909960" y="1698480"/>
            <a:ext cx="403200" cy="5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438280" y="1219320"/>
            <a:ext cx="1471680" cy="135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2438280" y="2101320"/>
            <a:ext cx="1471680" cy="91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2438280" y="1865160"/>
            <a:ext cx="147168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2438280" y="1920960"/>
            <a:ext cx="1471680" cy="185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2438280" y="1865160"/>
            <a:ext cx="1471680" cy="85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438280" y="2257560"/>
            <a:ext cx="1471680" cy="10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438280" y="1590840"/>
            <a:ext cx="1471680" cy="174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033960" y="1698480"/>
            <a:ext cx="420840" cy="3926160"/>
          </a:xfrm>
          <a:custGeom>
            <a:avLst/>
            <a:gdLst>
              <a:gd name="textAreaLeft" fmla="*/ 0 w 420840"/>
              <a:gd name="textAreaRight" fmla="*/ 151920 w 420840"/>
              <a:gd name="textAreaTop" fmla="*/ 102240 h 3926160"/>
              <a:gd name="textAreaBottom" fmla="*/ 3823920 h 392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174840" y="685800"/>
            <a:ext cx="561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the number of keys stored doubles, so should the number of bins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438280" y="2438280"/>
            <a:ext cx="144792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438280" y="1905120"/>
            <a:ext cx="144792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V="1" rot="5400000">
            <a:off x="4058640" y="5694120"/>
            <a:ext cx="417240" cy="609480"/>
          </a:xfrm>
          <a:custGeom>
            <a:avLst/>
            <a:gdLst>
              <a:gd name="textAreaLeft" fmla="*/ 0 w 417240"/>
              <a:gd name="textAreaRight" fmla="*/ 150480 w 4172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4038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4343400"/>
            <a:ext cx="160020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6094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parate Chaini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2895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3352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38098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42670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47242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5181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5638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43434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91320" y="43434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256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454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43434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324480" y="43434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52578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52578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184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5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24480" y="52578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32448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410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666880" y="5409720"/>
            <a:ext cx="160020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6094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parate Chaini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2895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3352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38098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42670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47242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5181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5638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2428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81480" y="43434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43434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8256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454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24480" y="43434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2428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324480" y="43434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52578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52578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8184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45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324480" y="52578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32448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2666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66880" y="2971800"/>
            <a:ext cx="1600200" cy="2895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90920" y="6094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parate Chaini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895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3352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8098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42670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47242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5181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5638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2428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1480" y="43434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1320" y="43434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8256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454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4480" y="43434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2428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324480" y="43434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81480" y="52578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91320" y="52578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8184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45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24480" y="52578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32448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242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81480" y="57150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91320" y="57150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24480" y="57150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324480" y="57150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82920" y="56386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454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4952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666880" y="4038120"/>
            <a:ext cx="160020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6094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parate Chaini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2895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3352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38098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0" y="42670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47242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5181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0" y="5638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2428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81480" y="43434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43434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8256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9454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43434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2428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6324480" y="43434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81480" y="52578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91320" y="52578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8184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45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24480" y="52578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632448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242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81480" y="57150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91320" y="57150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324480" y="57150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6324480" y="57150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2920" y="56386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9454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81480" y="38862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91320" y="38862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8148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454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38862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72428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3886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4038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66880" y="4343400"/>
            <a:ext cx="160020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90920" y="6094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parate Chaini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2895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0" y="3352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38098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0" y="42670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47242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0" y="5181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0" y="5638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72428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81480" y="43434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91320" y="43434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256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54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324480" y="43434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72428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324480" y="43434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1480" y="52578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91320" y="52578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8184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945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324480" y="52578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632448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7242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81480" y="57150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91320" y="57150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24480" y="57150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6324480" y="57150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82920" y="56386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454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81480" y="38862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91320" y="38862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18148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454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324480" y="38862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72428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6324480" y="3886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8600" y="449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666880" y="449532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90920" y="6094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parate Chaini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0" y="2895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0" y="3352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0" y="38098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0" y="42670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0" y="47242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0" y="5181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0" y="5638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2428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181480" y="43434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1320" y="43434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18256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454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324480" y="43434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72428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6324480" y="43434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81480" y="52578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52578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18184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45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52578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632448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7242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81480" y="57150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57150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324480" y="57150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6324480" y="57150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182920" y="56386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454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181480" y="38862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791320" y="38862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18148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9454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324480" y="38862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6324480" y="3886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5410080" y="4800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10080" y="4648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’ </a:t>
            </a:r>
            <a:r>
              <a:rPr b="0" lang="en-US" sz="2400" spc="-1" strike="noStrike">
                <a:solidFill>
                  <a:srgbClr val="000000"/>
                </a:solidFill>
                <a:latin typeface="Math B"/>
                <a:ea typeface="Math B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‘said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8600" y="449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2666880" y="449532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590920" y="6094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parate Chaini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72000" y="2895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0" y="3352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72000" y="38098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572000" y="42670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572000" y="47242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0" y="5181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72000" y="5638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72428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81480" y="43434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91320" y="43434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18256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9454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24480" y="43434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72428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6324480" y="43434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181480" y="52578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791320" y="52578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18184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945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24480" y="52578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632448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7242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181480" y="57150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791320" y="57150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324480" y="57150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6324480" y="57150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82920" y="56386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9454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181480" y="38862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791320" y="38862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18148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9454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324480" y="38862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72428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6324480" y="3886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6934320" y="4800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086240" y="4724280"/>
            <a:ext cx="152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l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8600" y="449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2666880" y="449532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6094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parate Chaini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0" y="2895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0" y="3352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572000" y="38098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572000" y="42670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572000" y="47242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572000" y="51814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0" y="5638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72428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81480" y="43434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791320" y="43434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18256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9454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324480" y="43434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72428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81480" y="52578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791320" y="52578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18184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9454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324480" y="52578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632448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242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57150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791320" y="57150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324480" y="57150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6324480" y="57150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82920" y="56386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9454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181480" y="38862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791320" y="3886200"/>
            <a:ext cx="533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18148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9454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324480" y="38862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72428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6324480" y="3886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6934320" y="4800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086600" y="4724280"/>
            <a:ext cx="150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(or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n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40080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858000" y="4343400"/>
            <a:ext cx="6541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343400"/>
            <a:ext cx="5335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001000" y="43434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8001000" y="43434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782400" y="42670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5456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7T15:56:37Z</dcterms:created>
  <dc:creator>David R. Musser</dc:creator>
  <dc:description/>
  <dc:language>en-US</dc:language>
  <cp:lastModifiedBy>David R. Musser</cp:lastModifiedBy>
  <dcterms:modified xsi:type="dcterms:W3CDTF">1999-03-27T16:52:04Z</dcterms:modified>
  <cp:revision>5</cp:revision>
  <dc:subject/>
  <dc:title>No Slide Title</dc:title>
</cp:coreProperties>
</file>