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9A0-E65A-4C5B-B499-B1CFDE88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9FE-4D1F-46C5-87DA-BC364A8C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5C5-C242-4E7D-ACF7-378A84F4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D62-2072-4A26-ACC9-57AFAFCD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9F6-5395-4C44-9D68-7D210623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007-ABE7-4433-A0CE-BD816926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A5D-3005-478A-8E0C-6703E622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F9C-E4B9-46A3-9521-B2D765B0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5C1-66E1-4F16-8B6E-7BE8CF7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A94-5EAC-440B-B98E-1D3379F4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382-777E-4357-8B25-30F442B0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E53-E485-4AB1-8FC6-1E755A3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6244-92BF-4F17-9653-25AF05843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523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ider the problem of computing the frequency of words in a text file . .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21000" y="487692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" y="248292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904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2971800"/>
            <a:ext cx="16002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9040" y="40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666880" y="403812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40" y="3886200"/>
            <a:ext cx="143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ider the problem of computing the frequency of words in a text fil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00600"/>
            <a:ext cx="990360" cy="60948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281952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89548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7320" y="3886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97320" y="43434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7320" y="48006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97320" y="52578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97320" y="57150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97320" y="6172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10240" y="5715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0960" y="4800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617220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43434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886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3434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8006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52578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57150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6172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626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62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626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626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78920" y="52578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5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78920" y="3886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66880" y="43434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6960" y="403848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0" y="45720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666880" y="41144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666880" y="41144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96960" y="3429000"/>
            <a:ext cx="21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184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9560" y="42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i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560" y="4267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is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90720" y="144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this  and  that  is  that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3592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92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of all, store the keys in the table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collisions be re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3720" y="43434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of all, store the keys in the table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2286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is detected if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].Ke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2971800"/>
            <a:ext cx="16002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4267080"/>
            <a:ext cx="1524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666880" y="4038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66688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33520" y="22860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is detected if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].Ke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HashTable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said’)].Key = ‘is’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‘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to be just the starting position for searching the table for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3520" y="0"/>
            <a:ext cx="67816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to be just the starting position for searching the table for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start the search for ‘said’ at position 3,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‘said’) =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2666880" y="44953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put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put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28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666880" y="472428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934320" y="44956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itialize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09360" y="372420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666880" y="3657600"/>
            <a:ext cx="160020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666880" y="36576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666880" y="3657600"/>
            <a:ext cx="160020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520" y="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666880" y="3657600"/>
            <a:ext cx="1600200" cy="22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word) +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934320" y="2895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934320" y="2819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lot, so insert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934320" y="2819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itialize frequ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324480" y="914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82760" y="609480"/>
            <a:ext cx="205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6386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105880" y="5181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106600" y="4267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525320" y="26668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105520" y="563868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01280" y="49528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0552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524960" y="4495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522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2666880" y="3124080"/>
            <a:ext cx="1600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7150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7150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7150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7150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7150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7150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7150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3579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35796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35796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357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724280" y="2286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3520" y="0"/>
            <a:ext cx="6781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search by going through some  sequence of posi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2,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ord) + 3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876920" y="6248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106240" y="4724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402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525680" y="32767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105520" y="28954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3262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2485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642000" y="533520"/>
            <a:ext cx="250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prob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ne fo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635200" y="54097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81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4876920"/>
            <a:ext cx="19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0" y="380988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34340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41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343400"/>
            <a:ext cx="1524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4120" y="396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is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s: Associative Containers with               Constant Time Operations ---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92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35200" y="2514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2600" y="3352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2600" y="38098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92600" y="42670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2600" y="47242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92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92600" y="56386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2895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69240" y="543564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213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372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37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37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37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37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9810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1280" y="4038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02920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120" y="1371600"/>
            <a:ext cx="731520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144792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 is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 that  is  that,  said  Ca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5:38:59Z</dcterms:created>
  <dc:creator>David R. Musser</dc:creator>
  <dc:description/>
  <dc:language>en-US</dc:language>
  <cp:lastModifiedBy>David R. Musser</cp:lastModifiedBy>
  <dcterms:modified xsi:type="dcterms:W3CDTF">1999-03-27T16:23:17Z</dcterms:modified>
  <cp:revision>16</cp:revision>
  <dc:subject/>
  <dc:title>No Slide Title</dc:title>
</cp:coreProperties>
</file>