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1F9-42E5-4647-AF64-E829BD8A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946-C1B4-4B2C-A4A7-95AD7F57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A20-B9A2-49A9-A556-2DC9A231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37A-E35F-4DF8-8A0D-97D14947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1EE-4A11-422A-BE18-9EB0D562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0C4-DD05-44B2-9A86-B40E8432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CB7-C2E4-407C-84AB-330AAAB7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EAB-0B77-415A-9AC6-DC0B5953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010B-69D2-46CF-9712-1F534D01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148-0CFB-4D10-AF77-4D166BAE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2EA-A8E8-4D17-A838-643E32A9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2CD-F0F7-45A8-A388-7439C506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3784-F649-40E5-9826-E940A4F4E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5238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ider the problem of computing the frequency of words in a text file . .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63520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816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63520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7816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21000" y="4876920"/>
            <a:ext cx="21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" y="248292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66880" y="2971800"/>
            <a:ext cx="160020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59040" y="40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66880" y="2971800"/>
            <a:ext cx="160020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9040" y="40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666880" y="4038120"/>
            <a:ext cx="1600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666880" y="4038120"/>
            <a:ext cx="1600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40" y="3886200"/>
            <a:ext cx="143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434340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ider the problem of computing the frequency of words in a text file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00600"/>
            <a:ext cx="990360" cy="609480"/>
          </a:xfrm>
          <a:custGeom>
            <a:avLst/>
            <a:gdLst>
              <a:gd name="textAreaLeft" fmla="*/ 154800 w 990360"/>
              <a:gd name="textAreaRight" fmla="*/ 866880 w 9903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9800" y="281952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89548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97320" y="38862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97320" y="43434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97320" y="48006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97320" y="52578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97320" y="57150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97320" y="61722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10240" y="57150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10960" y="48006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617220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43434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38862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3434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48006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52578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57150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61722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626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6268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626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6268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78920" y="52578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5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78920" y="3886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5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66880" y="434340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6960" y="4038480"/>
            <a:ext cx="21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80" y="45720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666880" y="411444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2666880" y="411444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96960" y="3429000"/>
            <a:ext cx="21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that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9560" y="42670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llis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that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560" y="42670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llis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that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collisions be resol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that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collisions be resol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85800" y="10666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 of all, store the keys in the table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collisions be resol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10666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 of all, store the keys in the table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2286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is detected if HashTable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].Key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33520" y="22860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is detected if HashTable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].Key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HashTable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‘said’)].Key = ‘is’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‘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to be just the starting position for searching the table for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33520" y="0"/>
            <a:ext cx="67816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to be just the starting position for searching the table for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start the search for ‘said’ at position 3,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‘said’) =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666880" y="472428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934320" y="44956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slot, so put it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472428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934320" y="44956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slot, so put it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666880" y="472428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934320" y="44956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itialize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3520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816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09360" y="3724200"/>
            <a:ext cx="178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666880" y="3657600"/>
            <a:ext cx="16002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666880" y="36576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666880" y="3657600"/>
            <a:ext cx="1600200" cy="1752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666880" y="3657600"/>
            <a:ext cx="1600200" cy="220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934320" y="2895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934320" y="28195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slot, so insert i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105520" y="2895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934320" y="28195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itialize frequ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105520" y="2895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3262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105520" y="2895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3262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324480" y="914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782760" y="609480"/>
            <a:ext cx="205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coll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5105520" y="2895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63262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248520" y="914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642000" y="533520"/>
            <a:ext cx="250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prob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ne form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ing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63520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816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4876920"/>
            <a:ext cx="196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80" y="380988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434340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412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434340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412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80" y="50292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5:38:59Z</dcterms:created>
  <dc:creator>David R. Musser</dc:creator>
  <dc:description/>
  <dc:language>en-US</dc:language>
  <cp:lastModifiedBy>David R. Musser</cp:lastModifiedBy>
  <dcterms:modified xsi:type="dcterms:W3CDTF">1999-03-27T16:23:17Z</dcterms:modified>
  <cp:revision>16</cp:revision>
  <dc:subject/>
  <dc:title>No Slide Title</dc:title>
</cp:coreProperties>
</file>