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D86-198A-4463-B1AE-2C0C71D6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0C8-A2F6-4017-ADC7-CE6028A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503-F6D9-4244-9015-981A5E11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5DE-FE54-4D04-AED9-79D890F6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C54-514C-4FED-A365-B6C760CB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F1A-E381-4FF3-A405-88C54DB3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F59-BBBF-4D5D-B17C-69565D07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673-D74E-48D9-AC80-52A21C4F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29F-94F5-485D-A5C7-B51B0616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5B1-58EB-422C-825A-979586C0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270-F1FE-477D-92B2-17E630AC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D60-FFB1-4B1B-9226-98272E08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ED51-D05C-400F-8922-3F226BB53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523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ider the problem of computing the frequency of words in a text file . .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21000" y="4876920"/>
            <a:ext cx="21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" y="248292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2971800"/>
            <a:ext cx="16002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5904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2971800"/>
            <a:ext cx="16002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904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666880" y="403812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666880" y="403812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40" y="3886200"/>
            <a:ext cx="143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ider the problem of computing the frequency of words in a text file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00600"/>
            <a:ext cx="990360" cy="60948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281952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89548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97320" y="3886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97320" y="43434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7320" y="48006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97320" y="52578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97320" y="57150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97320" y="6172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10240" y="5715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10960" y="4800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617220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43434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3886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3434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48006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52578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57150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6172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626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626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626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626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78920" y="52578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5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78920" y="3886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6960" y="4038480"/>
            <a:ext cx="21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0" y="45720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666880" y="411444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666880" y="411444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96960" y="3429000"/>
            <a:ext cx="21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9560" y="42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i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560" y="42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i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collisions be re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collisions be re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of all, store the keys in the table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collisions be re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of all, store the keys in the table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2286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is detected if HashTable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].Key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33520" y="22860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is detected if HashTable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].Key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HashTable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‘said’)].Key = ‘is’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‘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to be just the starting position for searching the table for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33520" y="0"/>
            <a:ext cx="67816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to be just the starting position for searching the table for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start the search for ‘said’ at position 3,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‘said’) =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66880" y="472428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3432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lot, so put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472428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93432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lot, so put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666880" y="472428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93432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itialize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09360" y="372420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666880" y="3657600"/>
            <a:ext cx="16002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666880" y="36576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666880" y="3657600"/>
            <a:ext cx="1600200" cy="175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666880" y="3657600"/>
            <a:ext cx="1600200" cy="22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934320" y="2895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934320" y="2819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lot, so insert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934320" y="2819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itialize frequ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3262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3262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324480" y="914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782760" y="609480"/>
            <a:ext cx="205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coll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3262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2485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642000" y="533520"/>
            <a:ext cx="250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prob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ne fo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4876920"/>
            <a:ext cx="19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0" y="380988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34340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41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34340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41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0292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5:38:59Z</dcterms:created>
  <dc:creator>David R. Musser</dc:creator>
  <dc:description/>
  <dc:language>en-US</dc:language>
  <cp:lastModifiedBy>David R. Musser</cp:lastModifiedBy>
  <dcterms:modified xsi:type="dcterms:W3CDTF">1999-03-27T16:23:17Z</dcterms:modified>
  <cp:revision>16</cp:revision>
  <dc:subject/>
  <dc:title>No Slide Title</dc:title>
</cp:coreProperties>
</file>