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C0AE-0BA0-4A99-84B7-027CDFA1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777-181A-4209-9627-FE463568E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ADB-B7D5-480B-812E-5E9BEF21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306A-DAD3-4189-B801-3DD62064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82B-C9D1-47CE-B4C0-42FDFF02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14A-1F01-4474-B7F5-AD93BB37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C260-3299-4CB2-B3D9-B4EBAC3A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C9B9-6C20-4EE7-B7D9-7321D691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285E-338B-4C14-B2BF-AFBC4D2F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68C3-F8A6-42A1-AFC5-32548F78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78A-6962-4532-9F0A-7BD5702A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3B4E-AD14-4C35-BFAB-340870BA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B746-77C1-4BB2-BADF-5C4F99132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3"/>
            <a:endCxn id="42" idx="7"/>
          </p:cNvCxnSpPr>
          <p:nvPr/>
        </p:nvCxnSpPr>
        <p:spPr>
          <a:xfrm flipH="1">
            <a:off x="3503160" y="2436480"/>
            <a:ext cx="91872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1" idx="5"/>
            <a:endCxn id="43" idx="1"/>
          </p:cNvCxnSpPr>
          <p:nvPr/>
        </p:nvCxnSpPr>
        <p:spPr>
          <a:xfrm>
            <a:off x="4798800" y="2436480"/>
            <a:ext cx="84240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7"/>
          </p:cNvCxnSpPr>
          <p:nvPr/>
        </p:nvCxnSpPr>
        <p:spPr>
          <a:xfrm flipH="1">
            <a:off x="2284200" y="3350880"/>
            <a:ext cx="842400" cy="91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2" idx="5"/>
            <a:endCxn id="45" idx="1"/>
          </p:cNvCxnSpPr>
          <p:nvPr/>
        </p:nvCxnSpPr>
        <p:spPr>
          <a:xfrm>
            <a:off x="3503160" y="3350880"/>
            <a:ext cx="613800" cy="918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5" idx="3"/>
            <a:endCxn id="50" idx="7"/>
          </p:cNvCxnSpPr>
          <p:nvPr/>
        </p:nvCxnSpPr>
        <p:spPr>
          <a:xfrm flipH="1">
            <a:off x="3579480" y="4646160"/>
            <a:ext cx="537480" cy="76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9080" y="533520"/>
            <a:ext cx="32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39440" y="4079880"/>
            <a:ext cx="374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ST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 th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1120" y="1336680"/>
            <a:ext cx="287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(temporari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values in the t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s are all dis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21040" y="1260360"/>
            <a:ext cx="301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assume th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in the nodes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orde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2" idx="3"/>
            <a:endCxn id="233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32" idx="5"/>
            <a:endCxn id="234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3" idx="3"/>
            <a:endCxn id="235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3" idx="5"/>
            <a:endCxn id="236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36" idx="3"/>
            <a:endCxn id="241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3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16765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1066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19320" y="295200"/>
            <a:ext cx="49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ion in a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2" idx="3"/>
            <a:endCxn id="253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52" idx="5"/>
            <a:endCxn id="254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53" idx="3"/>
            <a:endCxn id="255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3" idx="5"/>
            <a:endCxn id="256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2" name=""/>
          <p:cNvCxnSpPr>
            <a:stCxn id="256" idx="3"/>
            <a:endCxn id="261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0" y="16765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, search for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60880" y="141300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&l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38080" y="1066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3" idx="3"/>
            <a:endCxn id="274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3" idx="5"/>
            <a:endCxn id="275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4" idx="3"/>
            <a:endCxn id="276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"/>
          <p:cNvCxnSpPr>
            <a:stCxn id="274" idx="5"/>
            <a:endCxn id="277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2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" name=""/>
          <p:cNvCxnSpPr>
            <a:stCxn id="277" idx="3"/>
            <a:endCxn id="282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4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00400" y="2590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1066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93" idx="3"/>
            <a:endCxn id="294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5"/>
            <a:endCxn id="295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4" idx="3"/>
            <a:endCxn id="296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94" idx="5"/>
            <a:endCxn id="297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297" idx="3"/>
            <a:endCxn id="302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200400" y="2590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274320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&g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1066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4" idx="3"/>
            <a:endCxn id="31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4" idx="5"/>
            <a:endCxn id="31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5" idx="3"/>
            <a:endCxn id="31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"/>
          <p:cNvCxnSpPr>
            <a:stCxn id="315" idx="5"/>
            <a:endCxn id="318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3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4" name=""/>
          <p:cNvCxnSpPr>
            <a:stCxn id="318" idx="3"/>
            <a:endCxn id="323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4" idx="3"/>
            <a:endCxn id="33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4" idx="5"/>
            <a:endCxn id="33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1" name=""/>
          <p:cNvCxnSpPr>
            <a:stCxn id="335" idx="3"/>
            <a:endCxn id="33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5" idx="5"/>
            <a:endCxn id="338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3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4" name=""/>
          <p:cNvCxnSpPr>
            <a:stCxn id="338" idx="3"/>
            <a:endCxn id="343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&gt; 4: not found, but we have found that it should go to the right of this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1066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354" idx="3"/>
            <a:endCxn id="35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0" name=""/>
          <p:cNvCxnSpPr>
            <a:stCxn id="354" idx="5"/>
            <a:endCxn id="35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5" idx="3"/>
            <a:endCxn id="35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55" idx="5"/>
            <a:endCxn id="358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4" name=""/>
          <p:cNvCxnSpPr>
            <a:stCxn id="358" idx="3"/>
            <a:endCxn id="363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66560" y="5334120"/>
            <a:ext cx="268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a new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75" idx="3"/>
            <a:endCxn id="376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5"/>
            <a:endCxn id="377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2" name=""/>
          <p:cNvCxnSpPr>
            <a:stCxn id="376" idx="3"/>
            <a:endCxn id="378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3" name=""/>
          <p:cNvCxnSpPr>
            <a:stCxn id="376" idx="5"/>
            <a:endCxn id="379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5" name=""/>
          <p:cNvCxnSpPr>
            <a:stCxn id="379" idx="3"/>
            <a:endCxn id="384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7720" y="5334120"/>
            <a:ext cx="27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5 in its data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2" name=""/>
          <p:cNvCxnSpPr>
            <a:stCxn id="397" idx="3"/>
            <a:endCxn id="398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3" name=""/>
          <p:cNvCxnSpPr>
            <a:stCxn id="397" idx="5"/>
            <a:endCxn id="399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398" idx="3"/>
            <a:endCxn id="400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8" idx="5"/>
            <a:endCxn id="401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6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8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38080" y="10666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66560" y="533412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ink it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01" idx="5"/>
            <a:endCxn id="416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"/>
          <p:cNvCxnSpPr>
            <a:stCxn id="420" idx="3"/>
            <a:endCxn id="421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6" name=""/>
          <p:cNvCxnSpPr>
            <a:stCxn id="420" idx="5"/>
            <a:endCxn id="422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7" name=""/>
          <p:cNvCxnSpPr>
            <a:stCxn id="421" idx="3"/>
            <a:endCxn id="423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1" idx="5"/>
            <a:endCxn id="424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24" idx="5"/>
            <a:endCxn id="437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0" name=""/>
          <p:cNvSpPr/>
          <p:nvPr/>
        </p:nvSpPr>
        <p:spPr>
          <a:xfrm>
            <a:off x="609480" y="1522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time bound for inser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/>
          <p:nvPr/>
        </p:nvCxnSpPr>
        <p:spPr>
          <a:xfrm flipV="1">
            <a:off x="1349280" y="1744200"/>
            <a:ext cx="230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3" name=""/>
          <p:cNvCxnSpPr/>
          <p:nvPr/>
        </p:nvCxnSpPr>
        <p:spPr>
          <a:xfrm>
            <a:off x="134892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2" idx="3"/>
            <a:endCxn id="63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2" idx="5"/>
            <a:endCxn id="64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3" idx="3"/>
            <a:endCxn id="65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3" idx="5"/>
            <a:endCxn id="66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6" idx="3"/>
            <a:endCxn id="71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6765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36720" y="174456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fo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6760" y="304920"/>
            <a:ext cx="61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ST property makes a BST easy to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444" idx="3"/>
            <a:endCxn id="44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0" name=""/>
          <p:cNvCxnSpPr>
            <a:stCxn id="444" idx="5"/>
            <a:endCxn id="44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45" idx="3"/>
            <a:endCxn id="44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stCxn id="445" idx="5"/>
            <a:endCxn id="448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3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522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time bound for inser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4" name=""/>
          <p:cNvCxnSpPr>
            <a:stCxn id="448" idx="5"/>
            <a:endCxn id="462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6155280" y="933480"/>
            <a:ext cx="173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7" name=""/>
          <p:cNvCxnSpPr/>
          <p:nvPr/>
        </p:nvCxnSpPr>
        <p:spPr>
          <a:xfrm flipV="1">
            <a:off x="1349280" y="1744200"/>
            <a:ext cx="230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8" name=""/>
          <p:cNvCxnSpPr/>
          <p:nvPr/>
        </p:nvCxnSpPr>
        <p:spPr>
          <a:xfrm>
            <a:off x="134892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9" idx="3"/>
            <a:endCxn id="470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"/>
          <p:cNvCxnSpPr>
            <a:stCxn id="469" idx="5"/>
            <a:endCxn id="471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"/>
          <p:cNvCxnSpPr>
            <a:stCxn id="470" idx="3"/>
            <a:endCxn id="472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"/>
          <p:cNvCxnSpPr>
            <a:stCxn id="470" idx="5"/>
            <a:endCxn id="473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8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0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480" y="1522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time bound for inser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>
            <a:stCxn id="473" idx="5"/>
            <a:endCxn id="487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0" name=""/>
          <p:cNvSpPr/>
          <p:nvPr/>
        </p:nvSpPr>
        <p:spPr>
          <a:xfrm>
            <a:off x="6153120" y="933480"/>
            <a:ext cx="288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/>
          <p:nvPr/>
        </p:nvCxnSpPr>
        <p:spPr>
          <a:xfrm flipV="1">
            <a:off x="1349280" y="1744200"/>
            <a:ext cx="230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"/>
          <p:cNvCxnSpPr/>
          <p:nvPr/>
        </p:nvCxnSpPr>
        <p:spPr>
          <a:xfrm>
            <a:off x="134892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3"/>
            <a:endCxn id="49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0" name=""/>
          <p:cNvCxnSpPr>
            <a:stCxn id="494" idx="5"/>
            <a:endCxn id="49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1" name=""/>
          <p:cNvCxnSpPr>
            <a:stCxn id="495" idx="3"/>
            <a:endCxn id="49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95" idx="5"/>
            <a:endCxn id="498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9480" y="1522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time bound for inser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4" name=""/>
          <p:cNvCxnSpPr>
            <a:stCxn id="498" idx="5"/>
            <a:endCxn id="512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5" name=""/>
          <p:cNvSpPr/>
          <p:nvPr/>
        </p:nvSpPr>
        <p:spPr>
          <a:xfrm>
            <a:off x="6153120" y="933480"/>
            <a:ext cx="288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7" name=""/>
          <p:cNvCxnSpPr/>
          <p:nvPr/>
        </p:nvCxnSpPr>
        <p:spPr>
          <a:xfrm flipV="1">
            <a:off x="1349280" y="1744200"/>
            <a:ext cx="230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8" name=""/>
          <p:cNvCxnSpPr/>
          <p:nvPr/>
        </p:nvCxnSpPr>
        <p:spPr>
          <a:xfrm>
            <a:off x="134892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"/>
          <p:cNvCxnSpPr>
            <a:stCxn id="519" idx="3"/>
            <a:endCxn id="520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9" idx="5"/>
            <a:endCxn id="521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20" idx="3"/>
            <a:endCxn id="522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20" idx="5"/>
            <a:endCxn id="523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9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09480" y="1522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time bound for inser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23" idx="5"/>
            <a:endCxn id="537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0" name=""/>
          <p:cNvSpPr/>
          <p:nvPr/>
        </p:nvSpPr>
        <p:spPr>
          <a:xfrm>
            <a:off x="6153120" y="933480"/>
            <a:ext cx="2881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lo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f the tree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2" name=""/>
          <p:cNvCxnSpPr/>
          <p:nvPr/>
        </p:nvCxnSpPr>
        <p:spPr>
          <a:xfrm flipV="1">
            <a:off x="1349280" y="1744200"/>
            <a:ext cx="230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/>
          <p:nvPr/>
        </p:nvCxnSpPr>
        <p:spPr>
          <a:xfrm>
            <a:off x="134892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06560" y="51069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19320" y="59436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276720" y="34290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4" idx="3"/>
            <a:endCxn id="550" idx="0"/>
          </p:cNvCxnSpPr>
          <p:nvPr/>
        </p:nvCxnSpPr>
        <p:spPr>
          <a:xfrm flipH="1">
            <a:off x="3520800" y="2436840"/>
            <a:ext cx="900720" cy="99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"/>
          <p:cNvCxnSpPr>
            <a:stCxn id="544" idx="5"/>
            <a:endCxn id="54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2" name=""/>
          <p:cNvCxnSpPr>
            <a:stCxn id="545" idx="3"/>
            <a:endCxn id="547" idx="7"/>
          </p:cNvCxnSpPr>
          <p:nvPr/>
        </p:nvCxnSpPr>
        <p:spPr>
          <a:xfrm flipH="1">
            <a:off x="1674360" y="5562720"/>
            <a:ext cx="310320" cy="459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3" name=""/>
          <p:cNvSpPr/>
          <p:nvPr/>
        </p:nvSpPr>
        <p:spPr>
          <a:xfrm>
            <a:off x="25146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4" name=""/>
          <p:cNvCxnSpPr>
            <a:stCxn id="548" idx="3"/>
            <a:endCxn id="553" idx="7"/>
          </p:cNvCxnSpPr>
          <p:nvPr/>
        </p:nvCxnSpPr>
        <p:spPr>
          <a:xfrm flipH="1">
            <a:off x="2969640" y="3884760"/>
            <a:ext cx="3848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57400" y="51055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35448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9272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371600" y="6019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09480" y="152280"/>
            <a:ext cx="236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time bound for inser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03848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166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3" name=""/>
          <p:cNvCxnSpPr>
            <a:stCxn id="548" idx="5"/>
            <a:endCxn id="561" idx="1"/>
          </p:cNvCxnSpPr>
          <p:nvPr/>
        </p:nvCxnSpPr>
        <p:spPr>
          <a:xfrm>
            <a:off x="3731760" y="3884760"/>
            <a:ext cx="3848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4" name=""/>
          <p:cNvSpPr/>
          <p:nvPr/>
        </p:nvSpPr>
        <p:spPr>
          <a:xfrm>
            <a:off x="6153120" y="933480"/>
            <a:ext cx="2881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f the tree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ad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/>
          <p:nvPr/>
        </p:nvCxnSpPr>
        <p:spPr>
          <a:xfrm flipV="1">
            <a:off x="1349280" y="1744200"/>
            <a:ext cx="230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7" name=""/>
          <p:cNvCxnSpPr/>
          <p:nvPr/>
        </p:nvCxnSpPr>
        <p:spPr>
          <a:xfrm>
            <a:off x="134892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8" name=""/>
          <p:cNvCxnSpPr>
            <a:stCxn id="553" idx="3"/>
            <a:endCxn id="545" idx="7"/>
          </p:cNvCxnSpPr>
          <p:nvPr/>
        </p:nvCxnSpPr>
        <p:spPr>
          <a:xfrm flipH="1">
            <a:off x="2361600" y="4798800"/>
            <a:ext cx="230760" cy="38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4" name=""/>
          <p:cNvCxnSpPr>
            <a:stCxn id="569" idx="3"/>
            <a:endCxn id="570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69" idx="5"/>
            <a:endCxn id="571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70" idx="3"/>
            <a:endCxn id="572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70" idx="5"/>
            <a:endCxn id="573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029200" y="50292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38080" y="1066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80060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878720" y="533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0" name=""/>
          <p:cNvCxnSpPr>
            <a:stCxn id="573" idx="5"/>
            <a:endCxn id="588" idx="1"/>
          </p:cNvCxnSpPr>
          <p:nvPr/>
        </p:nvCxnSpPr>
        <p:spPr>
          <a:xfrm>
            <a:off x="4493880" y="4646520"/>
            <a:ext cx="384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1" name=""/>
          <p:cNvSpPr/>
          <p:nvPr/>
        </p:nvSpPr>
        <p:spPr>
          <a:xfrm>
            <a:off x="5943600" y="502920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case: n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20040" y="295200"/>
            <a:ext cx="48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ion in a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59120" y="1565280"/>
            <a:ext cx="202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ready h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inte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9" name=""/>
          <p:cNvCxnSpPr>
            <a:stCxn id="594" idx="3"/>
            <a:endCxn id="59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0" name=""/>
          <p:cNvCxnSpPr>
            <a:stCxn id="594" idx="5"/>
            <a:endCxn id="59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1" name=""/>
          <p:cNvCxnSpPr>
            <a:stCxn id="595" idx="3"/>
            <a:endCxn id="59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2" name=""/>
          <p:cNvCxnSpPr>
            <a:stCxn id="595" idx="5"/>
            <a:endCxn id="598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3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4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5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38080" y="1066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5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1440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8" name=""/>
          <p:cNvCxnSpPr>
            <a:stCxn id="613" idx="3"/>
            <a:endCxn id="614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9" name=""/>
          <p:cNvCxnSpPr>
            <a:stCxn id="613" idx="5"/>
            <a:endCxn id="615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"/>
          <p:cNvCxnSpPr>
            <a:stCxn id="614" idx="3"/>
            <a:endCxn id="616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14" idx="5"/>
            <a:endCxn id="617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2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3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4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838080" y="1066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39625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943600" y="502920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ost as easy: only one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8" name=""/>
          <p:cNvCxnSpPr>
            <a:stCxn id="633" idx="3"/>
            <a:endCxn id="634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9" name=""/>
          <p:cNvCxnSpPr>
            <a:stCxn id="633" idx="5"/>
            <a:endCxn id="635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0" name=""/>
          <p:cNvCxnSpPr>
            <a:stCxn id="634" idx="3"/>
            <a:endCxn id="636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1" name=""/>
          <p:cNvCxnSpPr>
            <a:stCxn id="634" idx="5"/>
            <a:endCxn id="637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642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"/>
          <p:cNvCxnSpPr/>
          <p:nvPr/>
        </p:nvCxnSpPr>
        <p:spPr>
          <a:xfrm flipH="1">
            <a:off x="3580560" y="464796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4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38080" y="1066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67080" y="396252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34120" y="472428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pass it, to its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5" idx="2"/>
            <a:endCxn id="642" idx="0"/>
          </p:cNvCxnSpPr>
          <p:nvPr/>
        </p:nvCxnSpPr>
        <p:spPr>
          <a:xfrm>
            <a:off x="3292200" y="3429000"/>
            <a:ext cx="99000" cy="190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54" idx="3"/>
            <a:endCxn id="655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4" idx="5"/>
            <a:endCxn id="656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5" idx="3"/>
            <a:endCxn id="657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63" idx="2"/>
            <a:endCxn id="661" idx="0"/>
          </p:cNvCxnSpPr>
          <p:nvPr/>
        </p:nvCxnSpPr>
        <p:spPr>
          <a:xfrm>
            <a:off x="3292200" y="3429000"/>
            <a:ext cx="99000" cy="190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2" idx="3"/>
            <a:endCxn id="83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5"/>
            <a:endCxn id="84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83" idx="3"/>
            <a:endCxn id="85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83" idx="5"/>
            <a:endCxn id="86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86" idx="3"/>
            <a:endCxn id="91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16765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60880" y="141300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&lt;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3" name=""/>
          <p:cNvCxnSpPr>
            <a:stCxn id="669" idx="3"/>
            <a:endCxn id="670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4" name=""/>
          <p:cNvCxnSpPr>
            <a:stCxn id="669" idx="5"/>
            <a:endCxn id="671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5" name=""/>
          <p:cNvCxnSpPr>
            <a:stCxn id="670" idx="3"/>
            <a:endCxn id="672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6" name=""/>
          <p:cNvSpPr/>
          <p:nvPr/>
        </p:nvSpPr>
        <p:spPr>
          <a:xfrm>
            <a:off x="4038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11660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70" idx="5"/>
          </p:cNvCxnSpPr>
          <p:nvPr/>
        </p:nvCxnSpPr>
        <p:spPr>
          <a:xfrm>
            <a:off x="3503520" y="3351240"/>
            <a:ext cx="597600" cy="99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4" name=""/>
          <p:cNvSpPr/>
          <p:nvPr/>
        </p:nvSpPr>
        <p:spPr>
          <a:xfrm>
            <a:off x="914400" y="2209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5" idx="3"/>
            <a:endCxn id="686" idx="7"/>
          </p:cNvCxnSpPr>
          <p:nvPr/>
        </p:nvCxnSpPr>
        <p:spPr>
          <a:xfrm flipH="1">
            <a:off x="3653640" y="1523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5" idx="5"/>
            <a:endCxn id="687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6" idx="3"/>
            <a:endCxn id="688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838080" y="10666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9" name=""/>
          <p:cNvCxnSpPr>
            <a:stCxn id="686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0" name=""/>
          <p:cNvSpPr/>
          <p:nvPr/>
        </p:nvSpPr>
        <p:spPr>
          <a:xfrm>
            <a:off x="32004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7852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4" name=""/>
          <p:cNvCxnSpPr>
            <a:stCxn id="692" idx="3"/>
          </p:cNvCxnSpPr>
          <p:nvPr/>
        </p:nvCxnSpPr>
        <p:spPr>
          <a:xfrm flipH="1">
            <a:off x="3656880" y="3809880"/>
            <a:ext cx="610200" cy="6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700" idx="5"/>
            <a:endCxn id="702" idx="1"/>
          </p:cNvCxnSpPr>
          <p:nvPr/>
        </p:nvCxnSpPr>
        <p:spPr>
          <a:xfrm>
            <a:off x="3656160" y="4799160"/>
            <a:ext cx="46080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6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14400" y="182880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case: two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2" name=""/>
          <p:cNvCxnSpPr>
            <a:stCxn id="708" idx="3"/>
            <a:endCxn id="709" idx="7"/>
          </p:cNvCxnSpPr>
          <p:nvPr/>
        </p:nvCxnSpPr>
        <p:spPr>
          <a:xfrm flipH="1">
            <a:off x="3653640" y="1523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708" idx="5"/>
            <a:endCxn id="710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709" idx="3"/>
            <a:endCxn id="711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5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38080" y="10666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09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32004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27852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15" idx="3"/>
          </p:cNvCxnSpPr>
          <p:nvPr/>
        </p:nvCxnSpPr>
        <p:spPr>
          <a:xfrm flipH="1">
            <a:off x="3656880" y="3809880"/>
            <a:ext cx="610200" cy="6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8" name=""/>
          <p:cNvCxnSpPr>
            <a:stCxn id="723" idx="5"/>
            <a:endCxn id="725" idx="1"/>
          </p:cNvCxnSpPr>
          <p:nvPr/>
        </p:nvCxnSpPr>
        <p:spPr>
          <a:xfrm>
            <a:off x="3656160" y="4799160"/>
            <a:ext cx="46080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9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" y="4191120"/>
            <a:ext cx="180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find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nimum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right sub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352680" y="4114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6" name=""/>
          <p:cNvCxnSpPr>
            <a:stCxn id="732" idx="3"/>
            <a:endCxn id="733" idx="7"/>
          </p:cNvCxnSpPr>
          <p:nvPr/>
        </p:nvCxnSpPr>
        <p:spPr>
          <a:xfrm flipH="1">
            <a:off x="3653640" y="1523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7" name=""/>
          <p:cNvCxnSpPr>
            <a:stCxn id="732" idx="5"/>
            <a:endCxn id="734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8" name=""/>
          <p:cNvCxnSpPr>
            <a:stCxn id="733" idx="3"/>
            <a:endCxn id="735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6" name=""/>
          <p:cNvCxnSpPr>
            <a:stCxn id="733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32004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27852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1" name=""/>
          <p:cNvCxnSpPr>
            <a:stCxn id="739" idx="3"/>
          </p:cNvCxnSpPr>
          <p:nvPr/>
        </p:nvCxnSpPr>
        <p:spPr>
          <a:xfrm flipH="1">
            <a:off x="3656880" y="3809880"/>
            <a:ext cx="610200" cy="612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752" name=""/>
          <p:cNvCxnSpPr>
            <a:stCxn id="747" idx="5"/>
            <a:endCxn id="749" idx="1"/>
          </p:cNvCxnSpPr>
          <p:nvPr/>
        </p:nvCxnSpPr>
        <p:spPr>
          <a:xfrm>
            <a:off x="3656160" y="4799160"/>
            <a:ext cx="46080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3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85800" y="419112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bypas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352680" y="4114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6" name=""/>
          <p:cNvCxnSpPr>
            <a:stCxn id="742" idx="2"/>
            <a:endCxn id="749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1" name=""/>
          <p:cNvCxnSpPr>
            <a:stCxn id="757" idx="3"/>
            <a:endCxn id="758" idx="7"/>
          </p:cNvCxnSpPr>
          <p:nvPr/>
        </p:nvCxnSpPr>
        <p:spPr>
          <a:xfrm flipH="1">
            <a:off x="3653640" y="1523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57" idx="5"/>
            <a:endCxn id="759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8" idx="3"/>
            <a:endCxn id="760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4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1" name=""/>
          <p:cNvCxnSpPr>
            <a:stCxn id="758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2" name=""/>
          <p:cNvSpPr/>
          <p:nvPr/>
        </p:nvSpPr>
        <p:spPr>
          <a:xfrm>
            <a:off x="3200400" y="43434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278520" y="441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85800" y="419112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bypass it, but don’t deallocate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352680" y="41148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67" idx="2"/>
            <a:endCxn id="774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"/>
          <p:cNvCxnSpPr>
            <a:stCxn id="780" idx="3"/>
            <a:endCxn id="781" idx="7"/>
          </p:cNvCxnSpPr>
          <p:nvPr/>
        </p:nvCxnSpPr>
        <p:spPr>
          <a:xfrm flipH="1">
            <a:off x="3653640" y="1523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5" name=""/>
          <p:cNvCxnSpPr>
            <a:stCxn id="780" idx="5"/>
            <a:endCxn id="782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6" name=""/>
          <p:cNvCxnSpPr>
            <a:stCxn id="781" idx="3"/>
            <a:endCxn id="783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7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4" name=""/>
          <p:cNvCxnSpPr>
            <a:stCxn id="781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"/>
          <p:cNvSpPr/>
          <p:nvPr/>
        </p:nvSpPr>
        <p:spPr>
          <a:xfrm>
            <a:off x="3124080" y="2895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022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76720" y="2666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"/>
          <p:cNvCxnSpPr>
            <a:stCxn id="790" idx="2"/>
            <a:endCxn id="797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6" name=""/>
          <p:cNvCxnSpPr>
            <a:stCxn id="802" idx="3"/>
            <a:endCxn id="803" idx="7"/>
          </p:cNvCxnSpPr>
          <p:nvPr/>
        </p:nvCxnSpPr>
        <p:spPr>
          <a:xfrm flipH="1">
            <a:off x="3653640" y="152352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807" name=""/>
          <p:cNvCxnSpPr>
            <a:stCxn id="802" idx="5"/>
            <a:endCxn id="804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8" name=""/>
          <p:cNvCxnSpPr>
            <a:stCxn id="803" idx="3"/>
            <a:endCxn id="805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9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380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6" name=""/>
          <p:cNvCxnSpPr>
            <a:stCxn id="803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7" name=""/>
          <p:cNvSpPr/>
          <p:nvPr/>
        </p:nvSpPr>
        <p:spPr>
          <a:xfrm>
            <a:off x="3124080" y="2895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022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276720" y="2666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3" name=""/>
          <p:cNvCxnSpPr>
            <a:stCxn id="812" idx="2"/>
            <a:endCxn id="819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4" name=""/>
          <p:cNvSpPr/>
          <p:nvPr/>
        </p:nvSpPr>
        <p:spPr>
          <a:xfrm>
            <a:off x="533520" y="182880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it in place of the 2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5" name=""/>
          <p:cNvCxnSpPr>
            <a:stCxn id="802" idx="4"/>
            <a:endCxn id="817" idx="7"/>
          </p:cNvCxnSpPr>
          <p:nvPr/>
        </p:nvCxnSpPr>
        <p:spPr>
          <a:xfrm flipH="1">
            <a:off x="3579120" y="1601640"/>
            <a:ext cx="11818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0" name=""/>
          <p:cNvCxnSpPr>
            <a:stCxn id="826" idx="5"/>
            <a:endCxn id="828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1" name=""/>
          <p:cNvCxnSpPr>
            <a:stCxn id="827" idx="3"/>
            <a:endCxn id="829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380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9" name=""/>
          <p:cNvCxnSpPr>
            <a:stCxn id="827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0" name=""/>
          <p:cNvSpPr/>
          <p:nvPr/>
        </p:nvSpPr>
        <p:spPr>
          <a:xfrm>
            <a:off x="3124080" y="2895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2022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276720" y="2666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6" name=""/>
          <p:cNvCxnSpPr>
            <a:stCxn id="835" idx="2"/>
            <a:endCxn id="842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47" name=""/>
          <p:cNvSpPr/>
          <p:nvPr/>
        </p:nvSpPr>
        <p:spPr>
          <a:xfrm>
            <a:off x="533520" y="182880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it in place of the 2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8" name=""/>
          <p:cNvCxnSpPr>
            <a:stCxn id="826" idx="4"/>
            <a:endCxn id="840" idx="7"/>
          </p:cNvCxnSpPr>
          <p:nvPr/>
        </p:nvCxnSpPr>
        <p:spPr>
          <a:xfrm flipH="1">
            <a:off x="3579120" y="1601640"/>
            <a:ext cx="11818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40" idx="3"/>
            <a:endCxn id="829" idx="6"/>
          </p:cNvCxnSpPr>
          <p:nvPr/>
        </p:nvCxnSpPr>
        <p:spPr>
          <a:xfrm flipH="1">
            <a:off x="2512440" y="3351240"/>
            <a:ext cx="6894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4" name=""/>
          <p:cNvCxnSpPr>
            <a:stCxn id="850" idx="5"/>
            <a:endCxn id="852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51" idx="3"/>
            <a:endCxn id="853" idx="7"/>
          </p:cNvCxnSpPr>
          <p:nvPr/>
        </p:nvCxnSpPr>
        <p:spPr>
          <a:xfrm flipH="1">
            <a:off x="2434680" y="243792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6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380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"/>
          <p:cNvCxnSpPr>
            <a:stCxn id="851" idx="5"/>
          </p:cNvCxnSpPr>
          <p:nvPr/>
        </p:nvCxnSpPr>
        <p:spPr>
          <a:xfrm>
            <a:off x="3654360" y="2437920"/>
            <a:ext cx="597600" cy="99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4" name=""/>
          <p:cNvSpPr/>
          <p:nvPr/>
        </p:nvSpPr>
        <p:spPr>
          <a:xfrm>
            <a:off x="3124080" y="2895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2022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276720" y="2666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0" name=""/>
          <p:cNvCxnSpPr>
            <a:stCxn id="859" idx="2"/>
            <a:endCxn id="866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1" name=""/>
          <p:cNvSpPr/>
          <p:nvPr/>
        </p:nvSpPr>
        <p:spPr>
          <a:xfrm>
            <a:off x="533520" y="182880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it in place of the 2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2" name=""/>
          <p:cNvCxnSpPr>
            <a:stCxn id="850" idx="4"/>
            <a:endCxn id="864" idx="7"/>
          </p:cNvCxnSpPr>
          <p:nvPr/>
        </p:nvCxnSpPr>
        <p:spPr>
          <a:xfrm flipH="1">
            <a:off x="3579120" y="1601640"/>
            <a:ext cx="11818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3" name=""/>
          <p:cNvCxnSpPr>
            <a:stCxn id="864" idx="3"/>
            <a:endCxn id="853" idx="6"/>
          </p:cNvCxnSpPr>
          <p:nvPr/>
        </p:nvCxnSpPr>
        <p:spPr>
          <a:xfrm flipH="1">
            <a:off x="2512440" y="3351240"/>
            <a:ext cx="6894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4" name=""/>
          <p:cNvCxnSpPr>
            <a:stCxn id="864" idx="5"/>
            <a:endCxn id="856" idx="2"/>
          </p:cNvCxnSpPr>
          <p:nvPr/>
        </p:nvCxnSpPr>
        <p:spPr>
          <a:xfrm>
            <a:off x="3579480" y="3351240"/>
            <a:ext cx="61020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989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9" name=""/>
          <p:cNvCxnSpPr>
            <a:stCxn id="875" idx="5"/>
            <a:endCxn id="877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0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351240" y="205884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380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124080" y="2895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2022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352680" y="17524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276720" y="2666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"/>
          <p:cNvCxnSpPr>
            <a:stCxn id="883" idx="2"/>
            <a:endCxn id="889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4" name=""/>
          <p:cNvSpPr/>
          <p:nvPr/>
        </p:nvSpPr>
        <p:spPr>
          <a:xfrm>
            <a:off x="533520" y="182880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eallocate the 2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5" name=""/>
          <p:cNvCxnSpPr>
            <a:stCxn id="875" idx="4"/>
            <a:endCxn id="887" idx="7"/>
          </p:cNvCxnSpPr>
          <p:nvPr/>
        </p:nvCxnSpPr>
        <p:spPr>
          <a:xfrm flipH="1">
            <a:off x="3579120" y="1601640"/>
            <a:ext cx="11818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87" idx="3"/>
            <a:endCxn id="878" idx="6"/>
          </p:cNvCxnSpPr>
          <p:nvPr/>
        </p:nvCxnSpPr>
        <p:spPr>
          <a:xfrm flipH="1">
            <a:off x="2512440" y="3351240"/>
            <a:ext cx="6894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87" idx="5"/>
            <a:endCxn id="880" idx="2"/>
          </p:cNvCxnSpPr>
          <p:nvPr/>
        </p:nvCxnSpPr>
        <p:spPr>
          <a:xfrm>
            <a:off x="3579480" y="3351240"/>
            <a:ext cx="61020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102" idx="3"/>
            <a:endCxn id="103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2" idx="5"/>
            <a:endCxn id="104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3" idx="3"/>
            <a:endCxn id="105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3" idx="5"/>
            <a:endCxn id="106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6" idx="3"/>
            <a:endCxn id="111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00400" y="2590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1" name=""/>
          <p:cNvCxnSpPr>
            <a:stCxn id="898" idx="5"/>
            <a:endCxn id="899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2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28954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220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038480" y="56386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1929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76720" y="26668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3" name=""/>
          <p:cNvCxnSpPr>
            <a:stCxn id="904" idx="2"/>
            <a:endCxn id="910" idx="0"/>
          </p:cNvCxnSpPr>
          <p:nvPr/>
        </p:nvCxnSpPr>
        <p:spPr>
          <a:xfrm flipH="1">
            <a:off x="4304520" y="3887640"/>
            <a:ext cx="12924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4" name=""/>
          <p:cNvSpPr/>
          <p:nvPr/>
        </p:nvSpPr>
        <p:spPr>
          <a:xfrm>
            <a:off x="533520" y="1828800"/>
            <a:ext cx="180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eallocate the 2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"/>
          <p:cNvCxnSpPr>
            <a:stCxn id="898" idx="4"/>
            <a:endCxn id="908" idx="7"/>
          </p:cNvCxnSpPr>
          <p:nvPr/>
        </p:nvCxnSpPr>
        <p:spPr>
          <a:xfrm flipH="1">
            <a:off x="3579120" y="1601640"/>
            <a:ext cx="1181880" cy="13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6" name=""/>
          <p:cNvCxnSpPr>
            <a:stCxn id="908" idx="3"/>
            <a:endCxn id="900" idx="6"/>
          </p:cNvCxnSpPr>
          <p:nvPr/>
        </p:nvCxnSpPr>
        <p:spPr>
          <a:xfrm flipH="1">
            <a:off x="2512440" y="3351240"/>
            <a:ext cx="68940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7" name=""/>
          <p:cNvCxnSpPr>
            <a:stCxn id="908" idx="5"/>
            <a:endCxn id="902" idx="2"/>
          </p:cNvCxnSpPr>
          <p:nvPr/>
        </p:nvCxnSpPr>
        <p:spPr>
          <a:xfrm>
            <a:off x="3579480" y="3351240"/>
            <a:ext cx="610200" cy="270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1" name=""/>
          <p:cNvCxnSpPr>
            <a:stCxn id="918" idx="5"/>
            <a:endCxn id="919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2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1258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2767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4308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200400" y="18288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3" name=""/>
          <p:cNvCxnSpPr>
            <a:stCxn id="924" idx="2"/>
            <a:endCxn id="930" idx="0"/>
          </p:cNvCxnSpPr>
          <p:nvPr/>
        </p:nvCxnSpPr>
        <p:spPr>
          <a:xfrm flipH="1">
            <a:off x="3542760" y="3887280"/>
            <a:ext cx="891000" cy="10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4" name=""/>
          <p:cNvCxnSpPr>
            <a:stCxn id="918" idx="3"/>
          </p:cNvCxnSpPr>
          <p:nvPr/>
        </p:nvCxnSpPr>
        <p:spPr>
          <a:xfrm flipH="1">
            <a:off x="3504600" y="1523880"/>
            <a:ext cx="106740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5" name=""/>
          <p:cNvCxnSpPr>
            <a:endCxn id="920" idx="7"/>
          </p:cNvCxnSpPr>
          <p:nvPr/>
        </p:nvCxnSpPr>
        <p:spPr>
          <a:xfrm flipH="1">
            <a:off x="2435040" y="2514240"/>
            <a:ext cx="692640" cy="84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6" name=""/>
          <p:cNvCxnSpPr>
            <a:endCxn id="922" idx="1"/>
          </p:cNvCxnSpPr>
          <p:nvPr/>
        </p:nvCxnSpPr>
        <p:spPr>
          <a:xfrm>
            <a:off x="3505320" y="2514240"/>
            <a:ext cx="7624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7" name=""/>
          <p:cNvSpPr/>
          <p:nvPr/>
        </p:nvSpPr>
        <p:spPr>
          <a:xfrm>
            <a:off x="685800" y="220968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494240" y="1068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13560" y="1982880"/>
            <a:ext cx="53316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979640" y="327816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1" name=""/>
          <p:cNvCxnSpPr>
            <a:stCxn id="938" idx="5"/>
            <a:endCxn id="939" idx="1"/>
          </p:cNvCxnSpPr>
          <p:nvPr/>
        </p:nvCxnSpPr>
        <p:spPr>
          <a:xfrm>
            <a:off x="4949640" y="1523520"/>
            <a:ext cx="84204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2" name=""/>
          <p:cNvSpPr/>
          <p:nvPr/>
        </p:nvSpPr>
        <p:spPr>
          <a:xfrm>
            <a:off x="4189320" y="335448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538520" y="10684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267440" y="34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2055960" y="3354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791320" y="2058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838080" y="1066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ing 2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048120" y="205740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125880" y="2133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2767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4308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0400" y="182880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3" name=""/>
          <p:cNvCxnSpPr>
            <a:stCxn id="944" idx="2"/>
            <a:endCxn id="950" idx="0"/>
          </p:cNvCxnSpPr>
          <p:nvPr/>
        </p:nvCxnSpPr>
        <p:spPr>
          <a:xfrm flipH="1">
            <a:off x="3542760" y="3887280"/>
            <a:ext cx="891000" cy="1065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4" name=""/>
          <p:cNvCxnSpPr>
            <a:stCxn id="938" idx="3"/>
          </p:cNvCxnSpPr>
          <p:nvPr/>
        </p:nvCxnSpPr>
        <p:spPr>
          <a:xfrm flipH="1">
            <a:off x="3504600" y="1523880"/>
            <a:ext cx="106740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5" name=""/>
          <p:cNvCxnSpPr>
            <a:endCxn id="940" idx="7"/>
          </p:cNvCxnSpPr>
          <p:nvPr/>
        </p:nvCxnSpPr>
        <p:spPr>
          <a:xfrm flipH="1">
            <a:off x="2435040" y="2514240"/>
            <a:ext cx="692640" cy="84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6" name=""/>
          <p:cNvCxnSpPr>
            <a:endCxn id="942" idx="1"/>
          </p:cNvCxnSpPr>
          <p:nvPr/>
        </p:nvCxnSpPr>
        <p:spPr>
          <a:xfrm>
            <a:off x="3505320" y="2514240"/>
            <a:ext cx="76248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7" name=""/>
          <p:cNvSpPr/>
          <p:nvPr/>
        </p:nvSpPr>
        <p:spPr>
          <a:xfrm>
            <a:off x="685800" y="2209680"/>
            <a:ext cx="18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410080" y="2971800"/>
            <a:ext cx="35816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this deletion algorithm with the one in the textbook---how is it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the advant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1523880" y="685800"/>
            <a:ext cx="63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xt time: how to balance a tree --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VL trees (Section 4.4 in the text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1" idx="3"/>
            <a:endCxn id="122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1" idx="5"/>
            <a:endCxn id="123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2" idx="3"/>
            <a:endCxn id="124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2" idx="5"/>
            <a:endCxn id="125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5" idx="3"/>
            <a:endCxn id="130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2590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743200"/>
            <a:ext cx="9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&g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1" idx="3"/>
            <a:endCxn id="142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1" idx="5"/>
            <a:endCxn id="143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2" idx="3"/>
            <a:endCxn id="144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2" idx="5"/>
            <a:endCxn id="145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5" idx="3"/>
            <a:endCxn id="150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343400" y="1981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62720" y="28954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38480" y="4191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"/>
          <p:cNvCxnSpPr>
            <a:stCxn id="160" idx="3"/>
            <a:endCxn id="161" idx="7"/>
          </p:cNvCxnSpPr>
          <p:nvPr/>
        </p:nvCxnSpPr>
        <p:spPr>
          <a:xfrm flipH="1">
            <a:off x="3502800" y="2436840"/>
            <a:ext cx="91836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0" idx="5"/>
            <a:endCxn id="162" idx="1"/>
          </p:cNvCxnSpPr>
          <p:nvPr/>
        </p:nvCxnSpPr>
        <p:spPr>
          <a:xfrm>
            <a:off x="4798800" y="243684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1" idx="3"/>
            <a:endCxn id="163" idx="7"/>
          </p:cNvCxnSpPr>
          <p:nvPr/>
        </p:nvCxnSpPr>
        <p:spPr>
          <a:xfrm flipH="1">
            <a:off x="2283840" y="3350880"/>
            <a:ext cx="8420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1" idx="5"/>
            <a:endCxn id="164" idx="1"/>
          </p:cNvCxnSpPr>
          <p:nvPr/>
        </p:nvCxnSpPr>
        <p:spPr>
          <a:xfrm>
            <a:off x="3503520" y="3350880"/>
            <a:ext cx="61344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3124080" y="5334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4" idx="3"/>
            <a:endCxn id="169" idx="7"/>
          </p:cNvCxnSpPr>
          <p:nvPr/>
        </p:nvCxnSpPr>
        <p:spPr>
          <a:xfrm flipH="1">
            <a:off x="3579840" y="4646520"/>
            <a:ext cx="53676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4387680" y="19810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6600" y="419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2200" y="541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4048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8862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36720" y="174456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ing for 4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4191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= 4: found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743200" y="1447920"/>
            <a:ext cx="3657600" cy="4572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80" idx="0"/>
            <a:endCxn id="180" idx="0"/>
          </p:cNvCxnSpPr>
          <p:nvPr/>
        </p:nvCxnSpPr>
        <p:spPr>
          <a:xfrm>
            <a:off x="4571640" y="14475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" name=""/>
          <p:cNvSpPr/>
          <p:nvPr/>
        </p:nvSpPr>
        <p:spPr>
          <a:xfrm>
            <a:off x="4572000" y="1447920"/>
            <a:ext cx="7632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19810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4382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24280" y="28954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4267080"/>
            <a:ext cx="759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3733920"/>
            <a:ext cx="7632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81480" y="4876920"/>
            <a:ext cx="7632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54864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59436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82" idx="0"/>
            <a:endCxn id="182" idx="0"/>
          </p:cNvCxnSpPr>
          <p:nvPr/>
        </p:nvCxnSpPr>
        <p:spPr>
          <a:xfrm>
            <a:off x="4609800" y="14475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" name=""/>
          <p:cNvCxnSpPr>
            <a:stCxn id="182" idx="2"/>
            <a:endCxn id="183" idx="3"/>
          </p:cNvCxnSpPr>
          <p:nvPr/>
        </p:nvCxnSpPr>
        <p:spPr>
          <a:xfrm>
            <a:off x="4609800" y="1523880"/>
            <a:ext cx="191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3" idx="3"/>
            <a:endCxn id="184" idx="2"/>
          </p:cNvCxnSpPr>
          <p:nvPr/>
        </p:nvCxnSpPr>
        <p:spPr>
          <a:xfrm flipH="1">
            <a:off x="4609440" y="2019240"/>
            <a:ext cx="191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84" idx="1"/>
            <a:endCxn id="185" idx="1"/>
          </p:cNvCxnSpPr>
          <p:nvPr/>
        </p:nvCxnSpPr>
        <p:spPr>
          <a:xfrm>
            <a:off x="4571640" y="2476440"/>
            <a:ext cx="153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85" idx="0"/>
            <a:endCxn id="186" idx="0"/>
          </p:cNvCxnSpPr>
          <p:nvPr/>
        </p:nvCxnSpPr>
        <p:spPr>
          <a:xfrm>
            <a:off x="4762080" y="2895480"/>
            <a:ext cx="2293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86" idx="3"/>
            <a:endCxn id="188" idx="3"/>
          </p:cNvCxnSpPr>
          <p:nvPr/>
        </p:nvCxnSpPr>
        <p:spPr>
          <a:xfrm flipH="1">
            <a:off x="4647960" y="3390480"/>
            <a:ext cx="3816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88" idx="3"/>
            <a:endCxn id="189" idx="0"/>
          </p:cNvCxnSpPr>
          <p:nvPr/>
        </p:nvCxnSpPr>
        <p:spPr>
          <a:xfrm>
            <a:off x="4647960" y="3771720"/>
            <a:ext cx="57204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89" idx="3"/>
            <a:endCxn id="190" idx="3"/>
          </p:cNvCxnSpPr>
          <p:nvPr/>
        </p:nvCxnSpPr>
        <p:spPr>
          <a:xfrm flipH="1">
            <a:off x="5028480" y="4914720"/>
            <a:ext cx="2293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0" idx="3"/>
            <a:endCxn id="191" idx="0"/>
          </p:cNvCxnSpPr>
          <p:nvPr/>
        </p:nvCxnSpPr>
        <p:spPr>
          <a:xfrm flipH="1">
            <a:off x="4838040" y="5524560"/>
            <a:ext cx="1911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1599480" y="228600"/>
            <a:ext cx="616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search is confined to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ong a single path from the root to a lea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5480" y="220176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3" name=""/>
          <p:cNvCxnSpPr/>
          <p:nvPr/>
        </p:nvCxnSpPr>
        <p:spPr>
          <a:xfrm flipV="1">
            <a:off x="1904760" y="1447560"/>
            <a:ext cx="1080" cy="754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/>
          <p:nvPr/>
        </p:nvCxnSpPr>
        <p:spPr>
          <a:xfrm>
            <a:off x="1904760" y="2895120"/>
            <a:ext cx="1080" cy="304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6174000" y="2190600"/>
            <a:ext cx="186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743200" y="1447920"/>
            <a:ext cx="3657600" cy="4572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206" idx="0"/>
            <a:endCxn id="206" idx="0"/>
          </p:cNvCxnSpPr>
          <p:nvPr/>
        </p:nvCxnSpPr>
        <p:spPr>
          <a:xfrm>
            <a:off x="4571640" y="14475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4572000" y="1447920"/>
            <a:ext cx="7632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24280" y="19810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4382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28954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4267080"/>
            <a:ext cx="7596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733920"/>
            <a:ext cx="7632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81480" y="4876920"/>
            <a:ext cx="7632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54864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5943600"/>
            <a:ext cx="763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08" idx="0"/>
            <a:endCxn id="208" idx="0"/>
          </p:cNvCxnSpPr>
          <p:nvPr/>
        </p:nvCxnSpPr>
        <p:spPr>
          <a:xfrm>
            <a:off x="4609800" y="14475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08" idx="2"/>
            <a:endCxn id="209" idx="3"/>
          </p:cNvCxnSpPr>
          <p:nvPr/>
        </p:nvCxnSpPr>
        <p:spPr>
          <a:xfrm>
            <a:off x="4609800" y="1523880"/>
            <a:ext cx="191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09" idx="3"/>
            <a:endCxn id="210" idx="2"/>
          </p:cNvCxnSpPr>
          <p:nvPr/>
        </p:nvCxnSpPr>
        <p:spPr>
          <a:xfrm flipH="1">
            <a:off x="4609440" y="2019240"/>
            <a:ext cx="191160" cy="49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0" idx="1"/>
            <a:endCxn id="211" idx="1"/>
          </p:cNvCxnSpPr>
          <p:nvPr/>
        </p:nvCxnSpPr>
        <p:spPr>
          <a:xfrm>
            <a:off x="4571640" y="2476440"/>
            <a:ext cx="153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1" idx="0"/>
            <a:endCxn id="212" idx="0"/>
          </p:cNvCxnSpPr>
          <p:nvPr/>
        </p:nvCxnSpPr>
        <p:spPr>
          <a:xfrm>
            <a:off x="4762080" y="2895480"/>
            <a:ext cx="2293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2" idx="3"/>
            <a:endCxn id="214" idx="3"/>
          </p:cNvCxnSpPr>
          <p:nvPr/>
        </p:nvCxnSpPr>
        <p:spPr>
          <a:xfrm flipH="1">
            <a:off x="4647960" y="3390480"/>
            <a:ext cx="38160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4" idx="3"/>
            <a:endCxn id="215" idx="0"/>
          </p:cNvCxnSpPr>
          <p:nvPr/>
        </p:nvCxnSpPr>
        <p:spPr>
          <a:xfrm>
            <a:off x="4647960" y="3771720"/>
            <a:ext cx="572040" cy="110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5" idx="3"/>
            <a:endCxn id="216" idx="3"/>
          </p:cNvCxnSpPr>
          <p:nvPr/>
        </p:nvCxnSpPr>
        <p:spPr>
          <a:xfrm flipH="1">
            <a:off x="5028480" y="4914720"/>
            <a:ext cx="2293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6" idx="3"/>
            <a:endCxn id="217" idx="0"/>
          </p:cNvCxnSpPr>
          <p:nvPr/>
        </p:nvCxnSpPr>
        <p:spPr>
          <a:xfrm flipH="1">
            <a:off x="4838040" y="5524560"/>
            <a:ext cx="191160" cy="41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7" name=""/>
          <p:cNvSpPr/>
          <p:nvPr/>
        </p:nvSpPr>
        <p:spPr>
          <a:xfrm>
            <a:off x="609120" y="228600"/>
            <a:ext cx="784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e tree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lanc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which means minim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h length is close to maximum path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2133720"/>
            <a:ext cx="3254400" cy="30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 of 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iz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umber of nodes)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/>
          <p:nvPr/>
        </p:nvCxnSpPr>
        <p:spPr>
          <a:xfrm flipV="1">
            <a:off x="1501560" y="1378800"/>
            <a:ext cx="108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"/>
          <p:cNvCxnSpPr/>
          <p:nvPr/>
        </p:nvCxnSpPr>
        <p:spPr>
          <a:xfrm>
            <a:off x="1501920" y="3360240"/>
            <a:ext cx="216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6175080" y="2190600"/>
            <a:ext cx="205956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 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4T02:56:49Z</dcterms:created>
  <dc:creator>David R. Musser</dc:creator>
  <dc:description/>
  <dc:language>en-US</dc:language>
  <cp:lastModifiedBy>David R. Musser</cp:lastModifiedBy>
  <dcterms:modified xsi:type="dcterms:W3CDTF">1999-03-16T16:32:32Z</dcterms:modified>
  <cp:revision>11</cp:revision>
  <dc:subject/>
  <dc:title>No Slide Title</dc:title>
</cp:coreProperties>
</file>