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4FD-CDE3-4A66-A28E-A9471170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BD1-5DAF-4950-9E0D-256FAC70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2E2-946D-490D-A687-D867731A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72D-8039-46C6-9CF6-41558416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16B6-4BB3-435F-B0F1-75AE8E1F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CF3-CE1A-430D-87EA-BDF3E33A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011-39C8-44B6-8C7C-460081F3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6D0-6CDF-448E-9289-B45E5FDE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439-F6CD-41C6-950B-E59BCD08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3D4-3A65-4BE1-8FE9-DD76441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CFB-8D11-41CE-BA50-578809BB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DD2-1CBA-487C-B273-C7C0D40A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840D-E419-43CE-9FA5-8A7E38589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2" idx="7"/>
          </p:cNvCxnSpPr>
          <p:nvPr/>
        </p:nvCxnSpPr>
        <p:spPr>
          <a:xfrm flipH="1">
            <a:off x="3503160" y="2436480"/>
            <a:ext cx="91872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5"/>
            <a:endCxn id="43" idx="1"/>
          </p:cNvCxnSpPr>
          <p:nvPr/>
        </p:nvCxnSpPr>
        <p:spPr>
          <a:xfrm>
            <a:off x="4798800" y="2436480"/>
            <a:ext cx="84240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7"/>
          </p:cNvCxnSpPr>
          <p:nvPr/>
        </p:nvCxnSpPr>
        <p:spPr>
          <a:xfrm flipH="1">
            <a:off x="2284200" y="3350880"/>
            <a:ext cx="842400" cy="91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5"/>
            <a:endCxn id="45" idx="1"/>
          </p:cNvCxnSpPr>
          <p:nvPr/>
        </p:nvCxnSpPr>
        <p:spPr>
          <a:xfrm>
            <a:off x="3503160" y="3350880"/>
            <a:ext cx="613800" cy="91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3"/>
            <a:endCxn id="50" idx="7"/>
          </p:cNvCxnSpPr>
          <p:nvPr/>
        </p:nvCxnSpPr>
        <p:spPr>
          <a:xfrm flipH="1">
            <a:off x="3579480" y="4646160"/>
            <a:ext cx="537480" cy="76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9080" y="53352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39440" y="4079880"/>
            <a:ext cx="374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ST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1120" y="1336680"/>
            <a:ext cx="28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(temporari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values in the t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are all dis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1040" y="1260360"/>
            <a:ext cx="301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ssume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the node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ord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2" idx="3"/>
            <a:endCxn id="23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2" idx="5"/>
            <a:endCxn id="23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3" idx="5"/>
            <a:endCxn id="23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6" idx="3"/>
            <a:endCxn id="24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19320" y="295200"/>
            <a:ext cx="49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in a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2" idx="3"/>
            <a:endCxn id="25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2" idx="5"/>
            <a:endCxn id="25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3" idx="3"/>
            <a:endCxn id="25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5"/>
            <a:endCxn id="25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search fo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0880" y="14130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1066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3" idx="3"/>
            <a:endCxn id="27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5"/>
            <a:endCxn id="27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4" idx="3"/>
            <a:endCxn id="27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4" idx="5"/>
            <a:endCxn id="27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7" idx="3"/>
            <a:endCxn id="282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3" idx="3"/>
            <a:endCxn id="29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5"/>
            <a:endCxn id="29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4" idx="3"/>
            <a:endCxn id="29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4" idx="5"/>
            <a:endCxn id="29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297" idx="3"/>
            <a:endCxn id="302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27432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3"/>
            <a:endCxn id="31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4" idx="5"/>
            <a:endCxn id="31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5" idx="3"/>
            <a:endCxn id="31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5" idx="5"/>
            <a:endCxn id="31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18" idx="3"/>
            <a:endCxn id="323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4" idx="3"/>
            <a:endCxn id="33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4" idx="5"/>
            <a:endCxn id="33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5" idx="3"/>
            <a:endCxn id="33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5" idx="5"/>
            <a:endCxn id="33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8" idx="3"/>
            <a:endCxn id="343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&gt; 4: not found, but we have found that it should go to the right of this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3"/>
            <a:endCxn id="35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4" idx="5"/>
            <a:endCxn id="35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5" idx="3"/>
            <a:endCxn id="35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55" idx="5"/>
            <a:endCxn id="35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58" idx="3"/>
            <a:endCxn id="363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6560" y="533412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a new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5" idx="3"/>
            <a:endCxn id="376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5"/>
            <a:endCxn id="377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76" idx="3"/>
            <a:endCxn id="378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6" idx="5"/>
            <a:endCxn id="379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9" idx="3"/>
            <a:endCxn id="384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7720" y="533412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5 in its data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7" idx="3"/>
            <a:endCxn id="398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7" idx="5"/>
            <a:endCxn id="399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8" idx="3"/>
            <a:endCxn id="400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8" idx="5"/>
            <a:endCxn id="401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080" y="1066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6560" y="53341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ink i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01" idx="5"/>
            <a:endCxn id="416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0" idx="3"/>
            <a:endCxn id="421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0" idx="5"/>
            <a:endCxn id="422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1" idx="3"/>
            <a:endCxn id="423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5"/>
            <a:endCxn id="424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24" idx="5"/>
            <a:endCxn id="437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2" idx="3"/>
            <a:endCxn id="6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2" idx="5"/>
            <a:endCxn id="6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3" idx="3"/>
            <a:endCxn id="6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3" idx="5"/>
            <a:endCxn id="6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6" idx="3"/>
            <a:endCxn id="7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36720" y="174456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o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6760" y="304920"/>
            <a:ext cx="61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T property makes a BST easy to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4" idx="3"/>
            <a:endCxn id="44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4" idx="5"/>
            <a:endCxn id="44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5" idx="3"/>
            <a:endCxn id="44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5" idx="5"/>
            <a:endCxn id="44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48" idx="5"/>
            <a:endCxn id="462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6155280" y="933480"/>
            <a:ext cx="173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3"/>
            <a:endCxn id="47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69" idx="5"/>
            <a:endCxn id="47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0" idx="3"/>
            <a:endCxn id="47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0" idx="5"/>
            <a:endCxn id="473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73" idx="5"/>
            <a:endCxn id="487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6153120" y="933480"/>
            <a:ext cx="288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3"/>
            <a:endCxn id="49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494" idx="5"/>
            <a:endCxn id="49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1" name=""/>
          <p:cNvCxnSpPr>
            <a:stCxn id="495" idx="3"/>
            <a:endCxn id="49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5" idx="5"/>
            <a:endCxn id="49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498" idx="5"/>
            <a:endCxn id="512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6153120" y="933480"/>
            <a:ext cx="288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19" idx="3"/>
            <a:endCxn id="52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9" idx="5"/>
            <a:endCxn id="52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0" idx="3"/>
            <a:endCxn id="52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0" idx="5"/>
            <a:endCxn id="523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23" idx="5"/>
            <a:endCxn id="537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6153120" y="933480"/>
            <a:ext cx="288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the tree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06560" y="5106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5943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34290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4" idx="3"/>
            <a:endCxn id="550" idx="0"/>
          </p:cNvCxnSpPr>
          <p:nvPr/>
        </p:nvCxnSpPr>
        <p:spPr>
          <a:xfrm flipH="1">
            <a:off x="3520800" y="2436840"/>
            <a:ext cx="90072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44" idx="5"/>
            <a:endCxn id="54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45" idx="3"/>
            <a:endCxn id="547" idx="7"/>
          </p:cNvCxnSpPr>
          <p:nvPr/>
        </p:nvCxnSpPr>
        <p:spPr>
          <a:xfrm flipH="1">
            <a:off x="1674360" y="5562720"/>
            <a:ext cx="31032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25146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" name=""/>
          <p:cNvCxnSpPr>
            <a:stCxn id="548" idx="3"/>
            <a:endCxn id="553" idx="7"/>
          </p:cNvCxnSpPr>
          <p:nvPr/>
        </p:nvCxnSpPr>
        <p:spPr>
          <a:xfrm flipH="1">
            <a:off x="2969640" y="3884760"/>
            <a:ext cx="3848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5105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44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927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71600" y="601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166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>
            <a:stCxn id="548" idx="5"/>
            <a:endCxn id="561" idx="1"/>
          </p:cNvCxnSpPr>
          <p:nvPr/>
        </p:nvCxnSpPr>
        <p:spPr>
          <a:xfrm>
            <a:off x="3731760" y="3884760"/>
            <a:ext cx="3848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"/>
          <p:cNvSpPr/>
          <p:nvPr/>
        </p:nvSpPr>
        <p:spPr>
          <a:xfrm>
            <a:off x="6153120" y="933480"/>
            <a:ext cx="288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the tree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d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53" idx="3"/>
            <a:endCxn id="545" idx="7"/>
          </p:cNvCxnSpPr>
          <p:nvPr/>
        </p:nvCxnSpPr>
        <p:spPr>
          <a:xfrm flipH="1">
            <a:off x="2361600" y="4798800"/>
            <a:ext cx="230760" cy="38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9" idx="3"/>
            <a:endCxn id="57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9" idx="5"/>
            <a:endCxn id="57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70" idx="3"/>
            <a:endCxn id="57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70" idx="5"/>
            <a:endCxn id="573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20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73" idx="5"/>
            <a:endCxn id="588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5943600" y="502920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case: n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20040" y="2952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in a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59120" y="1565280"/>
            <a:ext cx="202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eady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e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9" name=""/>
          <p:cNvCxnSpPr>
            <a:stCxn id="594" idx="3"/>
            <a:endCxn id="59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4" idx="5"/>
            <a:endCxn id="59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5" idx="3"/>
            <a:endCxn id="59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95" idx="5"/>
            <a:endCxn id="59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1066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3" idx="3"/>
            <a:endCxn id="61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3" idx="5"/>
            <a:endCxn id="61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14" idx="3"/>
            <a:endCxn id="61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4" idx="5"/>
            <a:endCxn id="61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3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39625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943600" y="50292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as easy: only on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3" idx="3"/>
            <a:endCxn id="63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33" idx="5"/>
            <a:endCxn id="63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34" idx="3"/>
            <a:endCxn id="63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34" idx="5"/>
            <a:endCxn id="63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39625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34120" y="4724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pass it, to its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2"/>
            <a:endCxn id="642" idx="0"/>
          </p:cNvCxnSpPr>
          <p:nvPr/>
        </p:nvCxnSpPr>
        <p:spPr>
          <a:xfrm>
            <a:off x="3292200" y="3429000"/>
            <a:ext cx="99000" cy="19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54" idx="3"/>
            <a:endCxn id="65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4" idx="5"/>
            <a:endCxn id="65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5" idx="3"/>
            <a:endCxn id="65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63" idx="2"/>
            <a:endCxn id="661" idx="0"/>
          </p:cNvCxnSpPr>
          <p:nvPr/>
        </p:nvCxnSpPr>
        <p:spPr>
          <a:xfrm>
            <a:off x="3292200" y="3429000"/>
            <a:ext cx="99000" cy="19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2" idx="3"/>
            <a:endCxn id="8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5"/>
            <a:endCxn id="8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3"/>
            <a:endCxn id="8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3" idx="5"/>
            <a:endCxn id="8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6" idx="3"/>
            <a:endCxn id="9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60880" y="14130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9" idx="3"/>
            <a:endCxn id="67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69" idx="5"/>
            <a:endCxn id="67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70" idx="3"/>
            <a:endCxn id="67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"/>
          <p:cNvSpPr/>
          <p:nvPr/>
        </p:nvSpPr>
        <p:spPr>
          <a:xfrm>
            <a:off x="4038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166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70" idx="5"/>
          </p:cNvCxnSpPr>
          <p:nvPr/>
        </p:nvCxnSpPr>
        <p:spPr>
          <a:xfrm>
            <a:off x="3503520" y="3351240"/>
            <a:ext cx="597600" cy="99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9144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6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5" idx="5"/>
            <a:endCxn id="687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6" idx="3"/>
            <a:endCxn id="688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stCxn id="686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>
            <a:stCxn id="692" idx="3"/>
          </p:cNvCxnSpPr>
          <p:nvPr/>
        </p:nvCxnSpPr>
        <p:spPr>
          <a:xfrm flipH="1">
            <a:off x="3656880" y="3809880"/>
            <a:ext cx="61020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700" idx="5"/>
            <a:endCxn id="702" idx="1"/>
          </p:cNvCxnSpPr>
          <p:nvPr/>
        </p:nvCxnSpPr>
        <p:spPr>
          <a:xfrm>
            <a:off x="3656160" y="4799160"/>
            <a:ext cx="46080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182880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case: tw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8" idx="3"/>
            <a:endCxn id="709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708" idx="5"/>
            <a:endCxn id="710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709" idx="3"/>
            <a:endCxn id="711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09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15" idx="3"/>
          </p:cNvCxnSpPr>
          <p:nvPr/>
        </p:nvCxnSpPr>
        <p:spPr>
          <a:xfrm flipH="1">
            <a:off x="3656880" y="3809880"/>
            <a:ext cx="61020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723" idx="5"/>
            <a:endCxn id="725" idx="1"/>
          </p:cNvCxnSpPr>
          <p:nvPr/>
        </p:nvCxnSpPr>
        <p:spPr>
          <a:xfrm>
            <a:off x="3656160" y="4799160"/>
            <a:ext cx="46080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9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4191120"/>
            <a:ext cx="180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i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imum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igh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52680" y="4114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2" idx="3"/>
            <a:endCxn id="733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732" idx="5"/>
            <a:endCxn id="734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8" name=""/>
          <p:cNvCxnSpPr>
            <a:stCxn id="733" idx="3"/>
            <a:endCxn id="735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stCxn id="733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stCxn id="739" idx="3"/>
          </p:cNvCxnSpPr>
          <p:nvPr/>
        </p:nvCxnSpPr>
        <p:spPr>
          <a:xfrm flipH="1">
            <a:off x="3656880" y="3809880"/>
            <a:ext cx="610200" cy="612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52" name=""/>
          <p:cNvCxnSpPr>
            <a:stCxn id="747" idx="5"/>
            <a:endCxn id="749" idx="1"/>
          </p:cNvCxnSpPr>
          <p:nvPr/>
        </p:nvCxnSpPr>
        <p:spPr>
          <a:xfrm>
            <a:off x="3656160" y="4799160"/>
            <a:ext cx="46080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3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19112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bypas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52680" y="4114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6" name=""/>
          <p:cNvCxnSpPr>
            <a:stCxn id="742" idx="2"/>
            <a:endCxn id="749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57" idx="3"/>
            <a:endCxn id="758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57" idx="5"/>
            <a:endCxn id="75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8" idx="3"/>
            <a:endCxn id="760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4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stCxn id="758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2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419112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bypass it, but don’t deallocat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52680" y="4114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7" idx="2"/>
            <a:endCxn id="774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0" idx="3"/>
            <a:endCxn id="781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80" idx="5"/>
            <a:endCxn id="782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81" idx="3"/>
            <a:endCxn id="783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7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1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90" idx="2"/>
            <a:endCxn id="797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802" idx="3"/>
            <a:endCxn id="803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07" name=""/>
          <p:cNvCxnSpPr>
            <a:stCxn id="802" idx="5"/>
            <a:endCxn id="804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5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6" name=""/>
          <p:cNvCxnSpPr>
            <a:stCxn id="803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3" name=""/>
          <p:cNvCxnSpPr>
            <a:stCxn id="812" idx="2"/>
            <a:endCxn id="819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t in place of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"/>
          <p:cNvCxnSpPr>
            <a:stCxn id="802" idx="4"/>
            <a:endCxn id="817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0" name=""/>
          <p:cNvCxnSpPr>
            <a:stCxn id="826" idx="5"/>
            <a:endCxn id="828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1" name=""/>
          <p:cNvCxnSpPr>
            <a:stCxn id="827" idx="3"/>
            <a:endCxn id="829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27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0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6" name=""/>
          <p:cNvCxnSpPr>
            <a:stCxn id="835" idx="2"/>
            <a:endCxn id="842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t in place of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8" name=""/>
          <p:cNvCxnSpPr>
            <a:stCxn id="826" idx="4"/>
            <a:endCxn id="840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40" idx="3"/>
            <a:endCxn id="829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"/>
          <p:cNvCxnSpPr>
            <a:stCxn id="850" idx="5"/>
            <a:endCxn id="852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51" idx="3"/>
            <a:endCxn id="853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1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0" name=""/>
          <p:cNvCxnSpPr>
            <a:stCxn id="859" idx="2"/>
            <a:endCxn id="866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t in place of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2" name=""/>
          <p:cNvCxnSpPr>
            <a:stCxn id="850" idx="4"/>
            <a:endCxn id="864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3" name=""/>
          <p:cNvCxnSpPr>
            <a:stCxn id="864" idx="3"/>
            <a:endCxn id="853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4" idx="5"/>
            <a:endCxn id="856" idx="2"/>
          </p:cNvCxnSpPr>
          <p:nvPr/>
        </p:nvCxnSpPr>
        <p:spPr>
          <a:xfrm>
            <a:off x="3579480" y="3351240"/>
            <a:ext cx="6102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9" name=""/>
          <p:cNvCxnSpPr>
            <a:stCxn id="875" idx="5"/>
            <a:endCxn id="877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"/>
          <p:cNvCxnSpPr>
            <a:stCxn id="883" idx="2"/>
            <a:endCxn id="889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4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eallocate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75" idx="4"/>
            <a:endCxn id="887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87" idx="3"/>
            <a:endCxn id="878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87" idx="5"/>
            <a:endCxn id="880" idx="2"/>
          </p:cNvCxnSpPr>
          <p:nvPr/>
        </p:nvCxnSpPr>
        <p:spPr>
          <a:xfrm>
            <a:off x="3579480" y="3351240"/>
            <a:ext cx="6102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2" idx="3"/>
            <a:endCxn id="10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2" idx="5"/>
            <a:endCxn id="10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3" idx="3"/>
            <a:endCxn id="10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3" idx="5"/>
            <a:endCxn id="10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3"/>
            <a:endCxn id="11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8" idx="5"/>
            <a:endCxn id="89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4" idx="2"/>
            <a:endCxn id="910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4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eallocate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898" idx="4"/>
            <a:endCxn id="908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908" idx="3"/>
            <a:endCxn id="900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"/>
          <p:cNvCxnSpPr>
            <a:stCxn id="908" idx="5"/>
            <a:endCxn id="902" idx="2"/>
          </p:cNvCxnSpPr>
          <p:nvPr/>
        </p:nvCxnSpPr>
        <p:spPr>
          <a:xfrm>
            <a:off x="3579480" y="3351240"/>
            <a:ext cx="6102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1" name=""/>
          <p:cNvCxnSpPr>
            <a:stCxn id="918" idx="5"/>
            <a:endCxn id="91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25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2767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4308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00400" y="1828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3" name=""/>
          <p:cNvCxnSpPr>
            <a:stCxn id="924" idx="2"/>
            <a:endCxn id="930" idx="0"/>
          </p:cNvCxnSpPr>
          <p:nvPr/>
        </p:nvCxnSpPr>
        <p:spPr>
          <a:xfrm flipH="1">
            <a:off x="3542760" y="3887280"/>
            <a:ext cx="89100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4" name=""/>
          <p:cNvCxnSpPr>
            <a:stCxn id="918" idx="3"/>
          </p:cNvCxnSpPr>
          <p:nvPr/>
        </p:nvCxnSpPr>
        <p:spPr>
          <a:xfrm flipH="1">
            <a:off x="3504600" y="1523880"/>
            <a:ext cx="10674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5" name=""/>
          <p:cNvCxnSpPr>
            <a:endCxn id="920" idx="7"/>
          </p:cNvCxnSpPr>
          <p:nvPr/>
        </p:nvCxnSpPr>
        <p:spPr>
          <a:xfrm flipH="1">
            <a:off x="2435040" y="2514240"/>
            <a:ext cx="692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6" name=""/>
          <p:cNvCxnSpPr>
            <a:endCxn id="922" idx="1"/>
          </p:cNvCxnSpPr>
          <p:nvPr/>
        </p:nvCxnSpPr>
        <p:spPr>
          <a:xfrm>
            <a:off x="3505320" y="2514240"/>
            <a:ext cx="7624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7" name=""/>
          <p:cNvSpPr/>
          <p:nvPr/>
        </p:nvSpPr>
        <p:spPr>
          <a:xfrm>
            <a:off x="685800" y="220968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8" idx="5"/>
            <a:endCxn id="93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5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767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4308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1828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0" idx="0"/>
          </p:cNvCxnSpPr>
          <p:nvPr/>
        </p:nvCxnSpPr>
        <p:spPr>
          <a:xfrm flipH="1">
            <a:off x="3542760" y="3887280"/>
            <a:ext cx="89100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"/>
          <p:cNvCxnSpPr>
            <a:stCxn id="938" idx="3"/>
          </p:cNvCxnSpPr>
          <p:nvPr/>
        </p:nvCxnSpPr>
        <p:spPr>
          <a:xfrm flipH="1">
            <a:off x="3504600" y="1523880"/>
            <a:ext cx="10674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"/>
          <p:cNvCxnSpPr>
            <a:endCxn id="940" idx="7"/>
          </p:cNvCxnSpPr>
          <p:nvPr/>
        </p:nvCxnSpPr>
        <p:spPr>
          <a:xfrm flipH="1">
            <a:off x="2435040" y="2514240"/>
            <a:ext cx="692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"/>
          <p:cNvCxnSpPr>
            <a:endCxn id="942" idx="1"/>
          </p:cNvCxnSpPr>
          <p:nvPr/>
        </p:nvCxnSpPr>
        <p:spPr>
          <a:xfrm>
            <a:off x="3505320" y="2514240"/>
            <a:ext cx="7624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"/>
          <p:cNvSpPr/>
          <p:nvPr/>
        </p:nvSpPr>
        <p:spPr>
          <a:xfrm>
            <a:off x="685800" y="220968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10080" y="2971800"/>
            <a:ext cx="3581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is deletion algorithm with the one in the textbook---how is it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advant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1523880" y="68580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xt time: how to balance a tree 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VL trees (Section 4.4 in the 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3"/>
            <a:endCxn id="122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5"/>
            <a:endCxn id="123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2" idx="3"/>
            <a:endCxn id="124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5"/>
            <a:endCxn id="125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5" idx="3"/>
            <a:endCxn id="130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7432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3"/>
            <a:endCxn id="142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5"/>
            <a:endCxn id="143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2" idx="3"/>
            <a:endCxn id="144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2" idx="5"/>
            <a:endCxn id="145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5" idx="3"/>
            <a:endCxn id="150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3"/>
            <a:endCxn id="161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5"/>
            <a:endCxn id="162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1" idx="3"/>
            <a:endCxn id="163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5"/>
            <a:endCxn id="164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4" idx="3"/>
            <a:endCxn id="169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4: found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43200" y="1447920"/>
            <a:ext cx="3657600" cy="4572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0"/>
            <a:endCxn id="180" idx="0"/>
          </p:cNvCxnSpPr>
          <p:nvPr/>
        </p:nvCxnSpPr>
        <p:spPr>
          <a:xfrm>
            <a:off x="457164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572000" y="1447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9810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4382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8954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267080"/>
            <a:ext cx="759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733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876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54864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59436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2" idx="0"/>
            <a:endCxn id="182" idx="0"/>
          </p:cNvCxnSpPr>
          <p:nvPr/>
        </p:nvCxnSpPr>
        <p:spPr>
          <a:xfrm>
            <a:off x="460980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2" idx="2"/>
            <a:endCxn id="183" idx="3"/>
          </p:cNvCxnSpPr>
          <p:nvPr/>
        </p:nvCxnSpPr>
        <p:spPr>
          <a:xfrm>
            <a:off x="4609800" y="152388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3" idx="3"/>
            <a:endCxn id="184" idx="2"/>
          </p:cNvCxnSpPr>
          <p:nvPr/>
        </p:nvCxnSpPr>
        <p:spPr>
          <a:xfrm flipH="1">
            <a:off x="4609440" y="201924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4" idx="1"/>
            <a:endCxn id="185" idx="1"/>
          </p:cNvCxnSpPr>
          <p:nvPr/>
        </p:nvCxnSpPr>
        <p:spPr>
          <a:xfrm>
            <a:off x="4571640" y="2476440"/>
            <a:ext cx="153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5" idx="0"/>
            <a:endCxn id="186" idx="0"/>
          </p:cNvCxnSpPr>
          <p:nvPr/>
        </p:nvCxnSpPr>
        <p:spPr>
          <a:xfrm>
            <a:off x="4762080" y="289548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3"/>
            <a:endCxn id="188" idx="3"/>
          </p:cNvCxnSpPr>
          <p:nvPr/>
        </p:nvCxnSpPr>
        <p:spPr>
          <a:xfrm flipH="1">
            <a:off x="4647960" y="3390480"/>
            <a:ext cx="3816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8" idx="3"/>
            <a:endCxn id="189" idx="0"/>
          </p:cNvCxnSpPr>
          <p:nvPr/>
        </p:nvCxnSpPr>
        <p:spPr>
          <a:xfrm>
            <a:off x="4647960" y="3771720"/>
            <a:ext cx="57204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9" idx="3"/>
            <a:endCxn id="190" idx="3"/>
          </p:cNvCxnSpPr>
          <p:nvPr/>
        </p:nvCxnSpPr>
        <p:spPr>
          <a:xfrm flipH="1">
            <a:off x="5028480" y="4914720"/>
            <a:ext cx="2293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  <a:endCxn id="191" idx="0"/>
          </p:cNvCxnSpPr>
          <p:nvPr/>
        </p:nvCxnSpPr>
        <p:spPr>
          <a:xfrm flipH="1">
            <a:off x="4838040" y="5524560"/>
            <a:ext cx="191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1599480" y="228600"/>
            <a:ext cx="61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search is confined to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a single path from the root to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548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/>
          <p:nvPr/>
        </p:nvCxnSpPr>
        <p:spPr>
          <a:xfrm flipV="1">
            <a:off x="1904760" y="1447560"/>
            <a:ext cx="1080" cy="75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/>
          <p:nvPr/>
        </p:nvCxnSpPr>
        <p:spPr>
          <a:xfrm>
            <a:off x="190476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6174000" y="2190600"/>
            <a:ext cx="186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43200" y="1447920"/>
            <a:ext cx="3657600" cy="4572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0"/>
            <a:endCxn id="206" idx="0"/>
          </p:cNvCxnSpPr>
          <p:nvPr/>
        </p:nvCxnSpPr>
        <p:spPr>
          <a:xfrm>
            <a:off x="457164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4572000" y="1447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19810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4382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28954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4267080"/>
            <a:ext cx="759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733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4876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54864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59436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08" idx="0"/>
            <a:endCxn id="208" idx="0"/>
          </p:cNvCxnSpPr>
          <p:nvPr/>
        </p:nvCxnSpPr>
        <p:spPr>
          <a:xfrm>
            <a:off x="460980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08" idx="2"/>
            <a:endCxn id="209" idx="3"/>
          </p:cNvCxnSpPr>
          <p:nvPr/>
        </p:nvCxnSpPr>
        <p:spPr>
          <a:xfrm>
            <a:off x="4609800" y="152388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09" idx="3"/>
            <a:endCxn id="210" idx="2"/>
          </p:cNvCxnSpPr>
          <p:nvPr/>
        </p:nvCxnSpPr>
        <p:spPr>
          <a:xfrm flipH="1">
            <a:off x="4609440" y="201924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0" idx="1"/>
            <a:endCxn id="211" idx="1"/>
          </p:cNvCxnSpPr>
          <p:nvPr/>
        </p:nvCxnSpPr>
        <p:spPr>
          <a:xfrm>
            <a:off x="4571640" y="2476440"/>
            <a:ext cx="153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1" idx="0"/>
            <a:endCxn id="212" idx="0"/>
          </p:cNvCxnSpPr>
          <p:nvPr/>
        </p:nvCxnSpPr>
        <p:spPr>
          <a:xfrm>
            <a:off x="4762080" y="289548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3"/>
            <a:endCxn id="214" idx="3"/>
          </p:cNvCxnSpPr>
          <p:nvPr/>
        </p:nvCxnSpPr>
        <p:spPr>
          <a:xfrm flipH="1">
            <a:off x="4647960" y="3390480"/>
            <a:ext cx="3816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4" idx="3"/>
            <a:endCxn id="215" idx="0"/>
          </p:cNvCxnSpPr>
          <p:nvPr/>
        </p:nvCxnSpPr>
        <p:spPr>
          <a:xfrm>
            <a:off x="4647960" y="3771720"/>
            <a:ext cx="57204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5" idx="3"/>
            <a:endCxn id="216" idx="3"/>
          </p:cNvCxnSpPr>
          <p:nvPr/>
        </p:nvCxnSpPr>
        <p:spPr>
          <a:xfrm flipH="1">
            <a:off x="5028480" y="4914720"/>
            <a:ext cx="2293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6" idx="3"/>
            <a:endCxn id="217" idx="0"/>
          </p:cNvCxnSpPr>
          <p:nvPr/>
        </p:nvCxnSpPr>
        <p:spPr>
          <a:xfrm flipH="1">
            <a:off x="4838040" y="5524560"/>
            <a:ext cx="191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609120" y="228600"/>
            <a:ext cx="78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tre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means minim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length is close to maximum path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2133720"/>
            <a:ext cx="32544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umber of nodes)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/>
          <p:nvPr/>
        </p:nvCxnSpPr>
        <p:spPr>
          <a:xfrm flipV="1">
            <a:off x="1501560" y="137880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/>
          <p:nvPr/>
        </p:nvCxnSpPr>
        <p:spPr>
          <a:xfrm>
            <a:off x="1501920" y="3360240"/>
            <a:ext cx="216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175080" y="2190600"/>
            <a:ext cx="20595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4T02:56:49Z</dcterms:created>
  <dc:creator>David R. Musser</dc:creator>
  <dc:description/>
  <dc:language>en-US</dc:language>
  <cp:lastModifiedBy>David R. Musser</cp:lastModifiedBy>
  <dcterms:modified xsi:type="dcterms:W3CDTF">1999-03-16T16:32:32Z</dcterms:modified>
  <cp:revision>11</cp:revision>
  <dc:subject/>
  <dc:title>No Slide Title</dc:title>
</cp:coreProperties>
</file>