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AD9-B024-4E59-8BF9-7EDACFA5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C9D-6082-4EC0-B0A6-5493F0D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37B-1974-46B3-906C-F468AE4C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4E7-BEDD-4307-8AF5-B70F68B4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C31-2D50-4960-A88B-07E22DD5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F93-65BE-4E71-BB1C-2BF4FDA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CE9-7CFF-4EF8-8630-CAB0D85F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EF-D639-4E79-9095-AC16C467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083-91BB-4D8B-8FB7-89F9AAC7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0AA-F1C4-4BD4-A300-9CFD1BE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F9-A6F7-417D-8B55-009E676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9C4-170E-4F4C-A4CE-2B87F67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627-13AD-4B26-B136-CE6A65345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6138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408280"/>
            <a:ext cx="537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7" idx="3"/>
            <a:endCxn id="27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5"/>
            <a:endCxn id="27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5"/>
            <a:endCxn id="281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1" idx="3"/>
            <a:endCxn id="286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79" idx="5"/>
            <a:endCxn id="29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00440" y="3267000"/>
            <a:ext cx="175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9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9" idx="3"/>
            <a:endCxn id="3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5"/>
            <a:endCxn id="3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0" idx="3"/>
            <a:endCxn id="31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0" idx="5"/>
            <a:endCxn id="31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3" idx="3"/>
            <a:endCxn id="31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6" idx="3"/>
            <a:endCxn id="33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6" idx="5"/>
            <a:endCxn id="33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7" idx="3"/>
            <a:endCxn id="33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5"/>
            <a:endCxn id="34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0" idx="3"/>
            <a:endCxn id="34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99720" y="3267000"/>
            <a:ext cx="138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5" idx="3"/>
            <a:endCxn id="367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7" idx="3"/>
            <a:endCxn id="370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5"/>
            <a:endCxn id="373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5" idx="5"/>
            <a:endCxn id="375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3"/>
            <a:endCxn id="38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5" idx="3"/>
            <a:endCxn id="38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85" idx="5"/>
            <a:endCxn id="39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83" idx="5"/>
            <a:endCxn id="39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1960" y="5562720"/>
            <a:ext cx="34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we insert 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the ba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3" idx="3"/>
            <a:endCxn id="40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5" idx="3"/>
            <a:endCxn id="40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5" idx="5"/>
            <a:endCxn id="41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03" idx="5"/>
            <a:endCxn id="41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2" idx="3"/>
            <a:endCxn id="424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3"/>
            <a:endCxn id="427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2" idx="5"/>
            <a:endCxn id="432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0" idx="3"/>
            <a:endCxn id="445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2" idx="3"/>
            <a:endCxn id="44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0" idx="5"/>
            <a:endCxn id="45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3"/>
            <a:endCxn id="463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0" idx="3"/>
            <a:endCxn id="46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58" idx="5"/>
            <a:endCxn id="468" idx="0"/>
          </p:cNvCxnSpPr>
          <p:nvPr/>
        </p:nvCxnSpPr>
        <p:spPr>
          <a:xfrm>
            <a:off x="4678200" y="1706400"/>
            <a:ext cx="1532880" cy="2028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5" idx="3"/>
            <a:endCxn id="48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77" idx="3"/>
            <a:endCxn id="4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75" idx="5"/>
            <a:endCxn id="48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3" idx="3"/>
            <a:endCxn id="6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5"/>
            <a:endCxn id="6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3"/>
            <a:endCxn id="66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5"/>
            <a:endCxn id="67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7" idx="3"/>
            <a:endCxn id="72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760" y="99072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65" idx="5"/>
            <a:endCxn id="8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2" idx="3"/>
            <a:endCxn id="497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8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2" idx="5"/>
            <a:endCxn id="502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08" idx="3"/>
            <a:endCxn id="513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0" idx="3"/>
            <a:endCxn id="514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6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08" idx="5"/>
            <a:endCxn id="51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10" idx="5"/>
            <a:endCxn id="50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91680" y="18954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6" idx="3"/>
            <a:endCxn id="5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8" idx="3"/>
            <a:endCxn id="5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28" idx="5"/>
            <a:endCxn id="534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6" idx="5"/>
            <a:endCxn id="5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4360" y="981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5" idx="3"/>
            <a:endCxn id="55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7" idx="3"/>
            <a:endCxn id="551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45" idx="5"/>
            <a:endCxn id="55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47" idx="5"/>
            <a:endCxn id="545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1" idx="3"/>
            <a:endCxn id="56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63" idx="5"/>
            <a:endCxn id="569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74" name=""/>
          <p:cNvCxnSpPr>
            <a:stCxn id="561" idx="5"/>
            <a:endCxn id="57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79" idx="3"/>
            <a:endCxn id="58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1" idx="3"/>
            <a:endCxn id="58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1" idx="5"/>
            <a:endCxn id="58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79" idx="5"/>
            <a:endCxn id="58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9080" y="5911920"/>
            <a:ext cx="299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this tim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99" idx="3"/>
            <a:endCxn id="60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1" idx="3"/>
            <a:endCxn id="60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>
            <a:stCxn id="601" idx="5"/>
            <a:endCxn id="60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599" idx="5"/>
            <a:endCxn id="60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18" idx="3"/>
            <a:endCxn id="623" idx="0"/>
          </p:cNvCxnSpPr>
          <p:nvPr/>
        </p:nvCxnSpPr>
        <p:spPr>
          <a:xfrm flipH="1">
            <a:off x="4037760" y="3154320"/>
            <a:ext cx="80892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4" name=""/>
          <p:cNvSpPr/>
          <p:nvPr/>
        </p:nvSpPr>
        <p:spPr>
          <a:xfrm>
            <a:off x="1257480" y="2789280"/>
            <a:ext cx="1562040" cy="1249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0" idx="3"/>
            <a:endCxn id="624" idx="0"/>
          </p:cNvCxnSpPr>
          <p:nvPr/>
        </p:nvCxnSpPr>
        <p:spPr>
          <a:xfrm flipH="1">
            <a:off x="2037600" y="2133360"/>
            <a:ext cx="10184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6" name=""/>
          <p:cNvSpPr/>
          <p:nvPr/>
        </p:nvSpPr>
        <p:spPr>
          <a:xfrm>
            <a:off x="1752480" y="3048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6720" y="3733920"/>
            <a:ext cx="1523880" cy="23619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8" idx="5"/>
            <a:endCxn id="62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20" idx="5"/>
            <a:endCxn id="61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4680" y="2209680"/>
            <a:ext cx="25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t fail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"/>
          <p:cNvCxnSpPr>
            <a:stCxn id="638" idx="3"/>
            <a:endCxn id="640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0" idx="3"/>
            <a:endCxn id="643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40" idx="5"/>
            <a:endCxn id="646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38" idx="5"/>
            <a:endCxn id="648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5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57" idx="3"/>
            <a:endCxn id="65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9" idx="3"/>
            <a:endCxn id="66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59" idx="5"/>
            <a:endCxn id="665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5"/>
            <a:endCxn id="66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4160" y="4343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consi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6" idx="3"/>
            <a:endCxn id="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5"/>
            <a:endCxn id="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7" idx="5"/>
            <a:endCxn id="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3"/>
            <a:endCxn id="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040" y="990720"/>
            <a:ext cx="37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88" idx="5"/>
            <a:endCxn id="10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7" idx="3"/>
            <a:endCxn id="67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9" idx="3"/>
            <a:endCxn id="68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79" idx="5"/>
            <a:endCxn id="690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1" name=""/>
          <p:cNvCxnSpPr>
            <a:stCxn id="677" idx="5"/>
            <a:endCxn id="68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"/>
          <p:cNvCxnSpPr>
            <a:stCxn id="690" idx="3"/>
            <a:endCxn id="685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0" idx="5"/>
            <a:endCxn id="695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701" idx="3"/>
            <a:endCxn id="70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3" idx="3"/>
            <a:endCxn id="70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703" idx="5"/>
            <a:endCxn id="714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01" idx="5"/>
            <a:endCxn id="71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4" idx="3"/>
            <a:endCxn id="709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stCxn id="714" idx="5"/>
            <a:endCxn id="719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24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6" idx="3"/>
            <a:endCxn id="7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8" idx="3"/>
            <a:endCxn id="7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28" idx="5"/>
            <a:endCxn id="73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26" idx="5"/>
            <a:endCxn id="7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3"/>
            <a:endCxn id="734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45" idx="5"/>
            <a:endCxn id="743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51" idx="3"/>
            <a:endCxn id="75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3" idx="3"/>
            <a:endCxn id="75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53" idx="5"/>
            <a:endCxn id="759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51" idx="5"/>
            <a:endCxn id="76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70" idx="5"/>
            <a:endCxn id="768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5" idx="3"/>
            <a:endCxn id="780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77" idx="3"/>
            <a:endCxn id="7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77" idx="5"/>
            <a:endCxn id="78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5"/>
            <a:endCxn id="78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4" idx="5"/>
            <a:endCxn id="780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7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9" idx="3"/>
            <a:endCxn id="804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1" idx="3"/>
            <a:endCxn id="805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2" name=""/>
          <p:cNvCxnSpPr>
            <a:stCxn id="801" idx="5"/>
            <a:endCxn id="808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799" idx="5"/>
            <a:endCxn id="81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2" idx="3"/>
            <a:endCxn id="827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4" idx="3"/>
            <a:endCxn id="82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stCxn id="824" idx="5"/>
            <a:endCxn id="831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2" idx="5"/>
            <a:endCxn id="833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stCxn id="845" idx="3"/>
            <a:endCxn id="850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47" idx="3"/>
            <a:endCxn id="85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47" idx="5"/>
            <a:endCxn id="854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9" name=""/>
          <p:cNvCxnSpPr>
            <a:stCxn id="845" idx="5"/>
            <a:endCxn id="856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7" name=""/>
          <p:cNvCxnSpPr>
            <a:stCxn id="864" idx="3"/>
            <a:endCxn id="847" idx="7"/>
          </p:cNvCxnSpPr>
          <p:nvPr/>
        </p:nvCxnSpPr>
        <p:spPr>
          <a:xfrm flipH="1">
            <a:off x="3001680" y="1706040"/>
            <a:ext cx="55008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68" name=""/>
          <p:cNvCxnSpPr>
            <a:stCxn id="864" idx="5"/>
          </p:cNvCxnSpPr>
          <p:nvPr/>
        </p:nvCxnSpPr>
        <p:spPr>
          <a:xfrm>
            <a:off x="4144680" y="1706400"/>
            <a:ext cx="686520" cy="702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575400" y="2658960"/>
            <a:ext cx="11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0" idx="3"/>
            <a:endCxn id="11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5"/>
            <a:endCxn id="11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3"/>
            <a:endCxn id="11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5"/>
            <a:endCxn id="11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2" idx="5"/>
            <a:endCxn id="130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4" idx="3"/>
            <a:endCxn id="1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5"/>
            <a:endCxn id="1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3"/>
            <a:endCxn id="137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5" idx="5"/>
            <a:endCxn id="138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43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6" idx="5"/>
            <a:endCxn id="15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2040" y="3429000"/>
            <a:ext cx="17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9" idx="3"/>
            <a:endCxn id="16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5"/>
            <a:endCxn id="16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3"/>
            <a:endCxn id="16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5"/>
            <a:endCxn id="16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3" idx="3"/>
            <a:endCxn id="16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1" idx="5"/>
            <a:endCxn id="17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6" idx="3"/>
            <a:endCxn id="1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6" idx="5"/>
            <a:endCxn id="1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7" idx="3"/>
            <a:endCxn id="1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5"/>
            <a:endCxn id="1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3"/>
            <a:endCxn id="1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8" idx="5"/>
            <a:endCxn id="206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5" idx="3"/>
            <a:endCxn id="21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5" idx="5"/>
            <a:endCxn id="21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5"/>
            <a:endCxn id="21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9" idx="3"/>
            <a:endCxn id="22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17" idx="5"/>
            <a:endCxn id="23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5"/>
            <a:endCxn id="24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3"/>
            <a:endCxn id="24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5"/>
            <a:endCxn id="24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3"/>
            <a:endCxn id="25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47" idx="5"/>
            <a:endCxn id="26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02960" y="3267000"/>
            <a:ext cx="161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3-18T05:34:32Z</dcterms:modified>
  <cp:revision>9</cp:revision>
  <dc:subject/>
  <dc:title>No Slide Title</dc:title>
</cp:coreProperties>
</file>