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201-6309-454E-8C09-88D7E06F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526-3DBF-43EB-AC95-D47EB2C5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A69B-E8CF-418F-9E1F-3F0090B5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91D-79E6-4733-998E-95B45C20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44B-92ED-42F8-9699-F87A21FF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942-20C3-4719-B86A-CF2F56A6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A74-EF75-457D-BD04-668C2257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6BA-C666-4725-A145-02A1A7EB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A41-D6E7-425D-8A58-799A5B21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718-2E43-4406-AFC5-175D279F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816-A442-4D24-8B7B-911F4738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16D-1469-40DB-918E-D768C5B6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B438-2C03-48D3-A634-CC1636243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2" idx="7"/>
          </p:cNvCxnSpPr>
          <p:nvPr/>
        </p:nvCxnSpPr>
        <p:spPr>
          <a:xfrm flipH="1">
            <a:off x="3427200" y="319860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1" idx="5"/>
            <a:endCxn id="43" idx="1"/>
          </p:cNvCxnSpPr>
          <p:nvPr/>
        </p:nvCxnSpPr>
        <p:spPr>
          <a:xfrm>
            <a:off x="4722480" y="3198600"/>
            <a:ext cx="84240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7"/>
          </p:cNvCxnSpPr>
          <p:nvPr/>
        </p:nvCxnSpPr>
        <p:spPr>
          <a:xfrm flipH="1">
            <a:off x="2207880" y="4113000"/>
            <a:ext cx="84240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5"/>
            <a:endCxn id="45" idx="1"/>
          </p:cNvCxnSpPr>
          <p:nvPr/>
        </p:nvCxnSpPr>
        <p:spPr>
          <a:xfrm>
            <a:off x="3427200" y="4113000"/>
            <a:ext cx="61380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5" idx="3"/>
            <a:endCxn id="50" idx="7"/>
          </p:cNvCxnSpPr>
          <p:nvPr/>
        </p:nvCxnSpPr>
        <p:spPr>
          <a:xfrm flipH="1">
            <a:off x="3503160" y="5408280"/>
            <a:ext cx="537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43" idx="5"/>
            <a:endCxn id="61" idx="0"/>
          </p:cNvCxnSpPr>
          <p:nvPr/>
        </p:nvCxnSpPr>
        <p:spPr>
          <a:xfrm>
            <a:off x="5941800" y="411300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7" idx="3"/>
            <a:endCxn id="278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5"/>
            <a:endCxn id="279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0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5"/>
            <a:endCxn id="281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1" idx="3"/>
            <a:endCxn id="286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79" idx="5"/>
            <a:endCxn id="297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00440" y="3267000"/>
            <a:ext cx="175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9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9" idx="3"/>
            <a:endCxn id="31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09" idx="5"/>
            <a:endCxn id="31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10" idx="3"/>
            <a:endCxn id="312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10" idx="5"/>
            <a:endCxn id="313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3" idx="3"/>
            <a:endCxn id="318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6" idx="3"/>
            <a:endCxn id="33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6" idx="5"/>
            <a:endCxn id="33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7" idx="3"/>
            <a:endCxn id="339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37" idx="5"/>
            <a:endCxn id="340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0" idx="3"/>
            <a:endCxn id="345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99720" y="3267000"/>
            <a:ext cx="138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5" idx="3"/>
            <a:endCxn id="367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7" idx="3"/>
            <a:endCxn id="370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67" idx="5"/>
            <a:endCxn id="373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5" idx="5"/>
            <a:endCxn id="375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6520" y="981000"/>
            <a:ext cx="255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3" idx="3"/>
            <a:endCxn id="385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5" idx="3"/>
            <a:endCxn id="388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85" idx="5"/>
            <a:endCxn id="391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96" name=""/>
          <p:cNvCxnSpPr>
            <a:stCxn id="383" idx="5"/>
            <a:endCxn id="393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6520" y="981000"/>
            <a:ext cx="255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61960" y="5562720"/>
            <a:ext cx="34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we insert h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ing the ba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3" idx="3"/>
            <a:endCxn id="405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5" idx="3"/>
            <a:endCxn id="408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5" idx="5"/>
            <a:endCxn id="411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03" idx="5"/>
            <a:endCxn id="413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22" idx="3"/>
            <a:endCxn id="424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4" idx="3"/>
            <a:endCxn id="427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22" idx="5"/>
            <a:endCxn id="432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0" idx="3"/>
            <a:endCxn id="445" idx="0"/>
          </p:cNvCxnSpPr>
          <p:nvPr/>
        </p:nvCxnSpPr>
        <p:spPr>
          <a:xfrm flipH="1">
            <a:off x="4038120" y="1706040"/>
            <a:ext cx="46800" cy="21042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42" idx="3"/>
            <a:endCxn id="44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40" idx="5"/>
            <a:endCxn id="450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5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58" idx="3"/>
            <a:endCxn id="463" idx="0"/>
          </p:cNvCxnSpPr>
          <p:nvPr/>
        </p:nvCxnSpPr>
        <p:spPr>
          <a:xfrm flipH="1">
            <a:off x="4038120" y="1706040"/>
            <a:ext cx="46800" cy="21042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0" idx="3"/>
            <a:endCxn id="464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66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58" idx="5"/>
            <a:endCxn id="468" idx="0"/>
          </p:cNvCxnSpPr>
          <p:nvPr/>
        </p:nvCxnSpPr>
        <p:spPr>
          <a:xfrm>
            <a:off x="4678200" y="1706400"/>
            <a:ext cx="1532880" cy="20282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7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5" idx="3"/>
            <a:endCxn id="480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81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77" idx="3"/>
            <a:endCxn id="48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83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75" idx="5"/>
            <a:endCxn id="485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3" idx="3"/>
            <a:endCxn id="6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3" idx="5"/>
            <a:endCxn id="6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4" idx="3"/>
            <a:endCxn id="66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4" idx="5"/>
            <a:endCxn id="67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7" idx="3"/>
            <a:endCxn id="72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760" y="990720"/>
            <a:ext cx="374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ST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65" idx="5"/>
            <a:endCxn id="84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2" idx="3"/>
            <a:endCxn id="497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1257480" y="278928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3"/>
            <a:endCxn id="498" idx="0"/>
          </p:cNvCxnSpPr>
          <p:nvPr/>
        </p:nvCxnSpPr>
        <p:spPr>
          <a:xfrm flipH="1">
            <a:off x="2057400" y="2133360"/>
            <a:ext cx="99900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790640" y="39322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2" idx="5"/>
            <a:endCxn id="502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05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08" idx="3"/>
            <a:endCxn id="513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257480" y="278928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10" idx="3"/>
            <a:endCxn id="514" idx="0"/>
          </p:cNvCxnSpPr>
          <p:nvPr/>
        </p:nvCxnSpPr>
        <p:spPr>
          <a:xfrm flipH="1">
            <a:off x="2057400" y="2133360"/>
            <a:ext cx="99900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16" name=""/>
          <p:cNvSpPr/>
          <p:nvPr/>
        </p:nvSpPr>
        <p:spPr>
          <a:xfrm>
            <a:off x="1790640" y="39322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08" idx="5"/>
            <a:endCxn id="518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stCxn id="510" idx="5"/>
            <a:endCxn id="508" idx="1"/>
          </p:cNvCxnSpPr>
          <p:nvPr/>
        </p:nvCxnSpPr>
        <p:spPr>
          <a:xfrm>
            <a:off x="3649320" y="2133720"/>
            <a:ext cx="1197360" cy="427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6691680" y="18954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6" idx="3"/>
            <a:endCxn id="528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8" idx="3"/>
            <a:endCxn id="53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28" idx="5"/>
            <a:endCxn id="534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6" idx="5"/>
            <a:endCxn id="536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4360" y="9810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ne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5" idx="3"/>
            <a:endCxn id="550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51" name=""/>
          <p:cNvSpPr/>
          <p:nvPr/>
        </p:nvSpPr>
        <p:spPr>
          <a:xfrm>
            <a:off x="1257480" y="278928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7" idx="3"/>
            <a:endCxn id="551" idx="0"/>
          </p:cNvCxnSpPr>
          <p:nvPr/>
        </p:nvCxnSpPr>
        <p:spPr>
          <a:xfrm flipH="1">
            <a:off x="2057400" y="2133360"/>
            <a:ext cx="99900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1790640" y="39322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"/>
          <p:cNvCxnSpPr>
            <a:stCxn id="545" idx="5"/>
            <a:endCxn id="555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47" idx="5"/>
            <a:endCxn id="545" idx="1"/>
          </p:cNvCxnSpPr>
          <p:nvPr/>
        </p:nvCxnSpPr>
        <p:spPr>
          <a:xfrm>
            <a:off x="3649320" y="2133720"/>
            <a:ext cx="1197360" cy="427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1" idx="3"/>
            <a:endCxn id="563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3" idx="3"/>
            <a:endCxn id="56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63" idx="5"/>
            <a:endCxn id="569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74" name=""/>
          <p:cNvCxnSpPr>
            <a:stCxn id="561" idx="5"/>
            <a:endCxn id="571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5440" y="98100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79" idx="3"/>
            <a:endCxn id="581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1" idx="3"/>
            <a:endCxn id="584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86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stCxn id="581" idx="5"/>
            <a:endCxn id="587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92" name=""/>
          <p:cNvCxnSpPr>
            <a:stCxn id="579" idx="5"/>
            <a:endCxn id="589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95440" y="98100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9080" y="5911920"/>
            <a:ext cx="299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this tim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"/>
          <p:cNvCxnSpPr>
            <a:stCxn id="599" idx="3"/>
            <a:endCxn id="601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601" idx="3"/>
            <a:endCxn id="604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06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>
            <a:stCxn id="601" idx="5"/>
            <a:endCxn id="607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599" idx="5"/>
            <a:endCxn id="609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1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86760" y="914400"/>
            <a:ext cx="27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we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rotation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618" idx="3"/>
            <a:endCxn id="623" idx="0"/>
          </p:cNvCxnSpPr>
          <p:nvPr/>
        </p:nvCxnSpPr>
        <p:spPr>
          <a:xfrm flipH="1">
            <a:off x="4037760" y="3154320"/>
            <a:ext cx="80892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24" name=""/>
          <p:cNvSpPr/>
          <p:nvPr/>
        </p:nvSpPr>
        <p:spPr>
          <a:xfrm>
            <a:off x="1257480" y="2789280"/>
            <a:ext cx="1562040" cy="1249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620" idx="3"/>
            <a:endCxn id="624" idx="0"/>
          </p:cNvCxnSpPr>
          <p:nvPr/>
        </p:nvCxnSpPr>
        <p:spPr>
          <a:xfrm flipH="1">
            <a:off x="2037600" y="2133360"/>
            <a:ext cx="101844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26" name=""/>
          <p:cNvSpPr/>
          <p:nvPr/>
        </p:nvSpPr>
        <p:spPr>
          <a:xfrm>
            <a:off x="1752480" y="3048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6720" y="3733920"/>
            <a:ext cx="1523880" cy="23619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8" idx="5"/>
            <a:endCxn id="628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31" name=""/>
          <p:cNvCxnSpPr>
            <a:stCxn id="620" idx="5"/>
            <a:endCxn id="618" idx="1"/>
          </p:cNvCxnSpPr>
          <p:nvPr/>
        </p:nvCxnSpPr>
        <p:spPr>
          <a:xfrm>
            <a:off x="3649320" y="2133720"/>
            <a:ext cx="1197360" cy="427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32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86760" y="914400"/>
            <a:ext cx="27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we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rotation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44680" y="2209680"/>
            <a:ext cx="25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it fail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or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"/>
          <p:cNvCxnSpPr>
            <a:stCxn id="638" idx="3"/>
            <a:endCxn id="640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stCxn id="640" idx="3"/>
            <a:endCxn id="643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0" name=""/>
          <p:cNvCxnSpPr>
            <a:stCxn id="640" idx="5"/>
            <a:endCxn id="646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38" idx="5"/>
            <a:endCxn id="648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52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89640" y="914400"/>
            <a:ext cx="319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back to wher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1" name=""/>
          <p:cNvCxnSpPr>
            <a:stCxn id="657" idx="3"/>
            <a:endCxn id="659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62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9" idx="3"/>
            <a:endCxn id="662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"/>
          <p:cNvCxnSpPr>
            <a:stCxn id="659" idx="5"/>
            <a:endCxn id="665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5"/>
            <a:endCxn id="667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71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89640" y="914400"/>
            <a:ext cx="319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back to wher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4160" y="4343400"/>
            <a:ext cx="26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and consi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6" idx="3"/>
            <a:endCxn id="8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5"/>
            <a:endCxn id="8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9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7" idx="5"/>
            <a:endCxn id="90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0" idx="3"/>
            <a:endCxn id="95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9040" y="990720"/>
            <a:ext cx="37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ST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88" idx="5"/>
            <a:endCxn id="107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stCxn id="677" idx="3"/>
            <a:endCxn id="679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82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79" idx="3"/>
            <a:endCxn id="682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84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79" idx="5"/>
            <a:endCxn id="690" idx="1"/>
          </p:cNvCxnSpPr>
          <p:nvPr/>
        </p:nvCxnSpPr>
        <p:spPr>
          <a:xfrm>
            <a:off x="3001680" y="3078000"/>
            <a:ext cx="702360" cy="550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91" name=""/>
          <p:cNvCxnSpPr>
            <a:stCxn id="677" idx="5"/>
            <a:endCxn id="687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"/>
          <p:cNvCxnSpPr>
            <a:stCxn id="690" idx="3"/>
            <a:endCxn id="685" idx="0"/>
          </p:cNvCxnSpPr>
          <p:nvPr/>
        </p:nvCxnSpPr>
        <p:spPr>
          <a:xfrm flipH="1">
            <a:off x="3085560" y="4221000"/>
            <a:ext cx="6181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90" idx="5"/>
            <a:endCxn id="695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5" name=""/>
          <p:cNvCxnSpPr>
            <a:stCxn id="701" idx="3"/>
            <a:endCxn id="703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3" idx="3"/>
            <a:endCxn id="70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3" name=""/>
          <p:cNvCxnSpPr>
            <a:stCxn id="703" idx="5"/>
            <a:endCxn id="714" idx="1"/>
          </p:cNvCxnSpPr>
          <p:nvPr/>
        </p:nvCxnSpPr>
        <p:spPr>
          <a:xfrm>
            <a:off x="3001680" y="3078000"/>
            <a:ext cx="702360" cy="550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15" name=""/>
          <p:cNvCxnSpPr>
            <a:stCxn id="701" idx="5"/>
            <a:endCxn id="711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14" idx="3"/>
            <a:endCxn id="709" idx="0"/>
          </p:cNvCxnSpPr>
          <p:nvPr/>
        </p:nvCxnSpPr>
        <p:spPr>
          <a:xfrm flipH="1">
            <a:off x="3085560" y="4221000"/>
            <a:ext cx="6181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23" name=""/>
          <p:cNvCxnSpPr>
            <a:stCxn id="714" idx="5"/>
            <a:endCxn id="719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24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6" idx="3"/>
            <a:endCxn id="728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31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>
            <a:stCxn id="728" idx="3"/>
            <a:endCxn id="73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28" idx="5"/>
            <a:endCxn id="734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39" name=""/>
          <p:cNvCxnSpPr>
            <a:stCxn id="726" idx="5"/>
            <a:endCxn id="736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45" idx="3"/>
            <a:endCxn id="734" idx="0"/>
          </p:cNvCxnSpPr>
          <p:nvPr/>
        </p:nvCxnSpPr>
        <p:spPr>
          <a:xfrm flipH="1">
            <a:off x="3085560" y="4221000"/>
            <a:ext cx="6181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45" idx="5"/>
            <a:endCxn id="743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5" name=""/>
          <p:cNvCxnSpPr>
            <a:stCxn id="751" idx="3"/>
            <a:endCxn id="753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56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3" idx="3"/>
            <a:endCxn id="75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"/>
          <p:cNvCxnSpPr>
            <a:stCxn id="753" idx="5"/>
            <a:endCxn id="759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64" name=""/>
          <p:cNvCxnSpPr>
            <a:stCxn id="751" idx="5"/>
            <a:endCxn id="761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70" idx="5"/>
            <a:endCxn id="768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73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75" idx="3"/>
            <a:endCxn id="780" idx="0"/>
          </p:cNvCxnSpPr>
          <p:nvPr/>
        </p:nvCxnSpPr>
        <p:spPr>
          <a:xfrm>
            <a:off x="4084560" y="1706040"/>
            <a:ext cx="907200" cy="3018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77" idx="3"/>
            <a:endCxn id="78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83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77" idx="5"/>
            <a:endCxn id="784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89" name=""/>
          <p:cNvCxnSpPr>
            <a:stCxn id="775" idx="5"/>
            <a:endCxn id="786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9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"/>
          <p:cNvCxnSpPr>
            <a:stCxn id="794" idx="5"/>
            <a:endCxn id="780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97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799" idx="3"/>
            <a:endCxn id="804" idx="0"/>
          </p:cNvCxnSpPr>
          <p:nvPr/>
        </p:nvCxnSpPr>
        <p:spPr>
          <a:xfrm>
            <a:off x="4084560" y="1706040"/>
            <a:ext cx="907200" cy="3018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stCxn id="801" idx="3"/>
            <a:endCxn id="805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07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2" name=""/>
          <p:cNvCxnSpPr>
            <a:stCxn id="801" idx="5"/>
            <a:endCxn id="808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13" name=""/>
          <p:cNvCxnSpPr>
            <a:stCxn id="799" idx="5"/>
            <a:endCxn id="810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724280" y="228600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52880" y="21337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2" idx="3"/>
            <a:endCxn id="827" idx="0"/>
          </p:cNvCxnSpPr>
          <p:nvPr/>
        </p:nvCxnSpPr>
        <p:spPr>
          <a:xfrm flipH="1">
            <a:off x="4609440" y="3001680"/>
            <a:ext cx="23724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stCxn id="824" idx="3"/>
            <a:endCxn id="828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62320" y="365760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195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412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86728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"/>
          <p:cNvCxnSpPr>
            <a:stCxn id="824" idx="5"/>
            <a:endCxn id="831" idx="0"/>
          </p:cNvCxnSpPr>
          <p:nvPr/>
        </p:nvCxnSpPr>
        <p:spPr>
          <a:xfrm>
            <a:off x="3002040" y="3078000"/>
            <a:ext cx="849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36" name=""/>
          <p:cNvCxnSpPr>
            <a:stCxn id="822" idx="5"/>
            <a:endCxn id="833" idx="0"/>
          </p:cNvCxnSpPr>
          <p:nvPr/>
        </p:nvCxnSpPr>
        <p:spPr>
          <a:xfrm>
            <a:off x="5439960" y="3001680"/>
            <a:ext cx="69444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86200" y="365760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911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42900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657600" y="9144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24280" y="228600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952880" y="21337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9" name=""/>
          <p:cNvCxnSpPr>
            <a:stCxn id="845" idx="3"/>
            <a:endCxn id="850" idx="0"/>
          </p:cNvCxnSpPr>
          <p:nvPr/>
        </p:nvCxnSpPr>
        <p:spPr>
          <a:xfrm flipH="1">
            <a:off x="4609440" y="3001680"/>
            <a:ext cx="23724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51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"/>
          <p:cNvCxnSpPr>
            <a:stCxn id="847" idx="3"/>
            <a:endCxn id="85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62320" y="365760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3412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6728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8" name=""/>
          <p:cNvCxnSpPr>
            <a:stCxn id="847" idx="5"/>
            <a:endCxn id="854" idx="0"/>
          </p:cNvCxnSpPr>
          <p:nvPr/>
        </p:nvCxnSpPr>
        <p:spPr>
          <a:xfrm>
            <a:off x="3002040" y="3078000"/>
            <a:ext cx="849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59" name=""/>
          <p:cNvCxnSpPr>
            <a:stCxn id="845" idx="5"/>
            <a:endCxn id="856" idx="0"/>
          </p:cNvCxnSpPr>
          <p:nvPr/>
        </p:nvCxnSpPr>
        <p:spPr>
          <a:xfrm>
            <a:off x="5439960" y="3001680"/>
            <a:ext cx="69444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86200" y="365760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911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57600" y="9144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7" name=""/>
          <p:cNvCxnSpPr>
            <a:stCxn id="864" idx="3"/>
            <a:endCxn id="847" idx="7"/>
          </p:cNvCxnSpPr>
          <p:nvPr/>
        </p:nvCxnSpPr>
        <p:spPr>
          <a:xfrm flipH="1">
            <a:off x="3001680" y="1706040"/>
            <a:ext cx="55008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68" name=""/>
          <p:cNvCxnSpPr>
            <a:stCxn id="864" idx="5"/>
          </p:cNvCxnSpPr>
          <p:nvPr/>
        </p:nvCxnSpPr>
        <p:spPr>
          <a:xfrm>
            <a:off x="4144680" y="1706400"/>
            <a:ext cx="686520" cy="7027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575400" y="2658960"/>
            <a:ext cx="11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0" idx="3"/>
            <a:endCxn id="111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0" idx="5"/>
            <a:endCxn id="112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1" idx="3"/>
            <a:endCxn id="113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5"/>
            <a:endCxn id="114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2" idx="5"/>
            <a:endCxn id="130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4" idx="3"/>
            <a:endCxn id="135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5"/>
            <a:endCxn id="136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5" idx="3"/>
            <a:endCxn id="137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5" idx="5"/>
            <a:endCxn id="138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8" idx="3"/>
            <a:endCxn id="143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36" idx="5"/>
            <a:endCxn id="154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2040" y="3429000"/>
            <a:ext cx="17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is is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59" idx="3"/>
            <a:endCxn id="16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9" idx="5"/>
            <a:endCxn id="16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0" idx="3"/>
            <a:endCxn id="162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5"/>
            <a:endCxn id="163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3" idx="3"/>
            <a:endCxn id="168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1" idx="5"/>
            <a:endCxn id="179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6" idx="3"/>
            <a:endCxn id="18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6" idx="5"/>
            <a:endCxn id="18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7" idx="3"/>
            <a:endCxn id="189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7" idx="5"/>
            <a:endCxn id="190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0" idx="3"/>
            <a:endCxn id="195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88" idx="5"/>
            <a:endCxn id="206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5" idx="3"/>
            <a:endCxn id="21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5" idx="5"/>
            <a:endCxn id="21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3"/>
            <a:endCxn id="218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6" idx="5"/>
            <a:endCxn id="219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19" idx="3"/>
            <a:endCxn id="224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17" idx="5"/>
            <a:endCxn id="235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5" idx="5"/>
            <a:endCxn id="24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6" idx="3"/>
            <a:endCxn id="248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5"/>
            <a:endCxn id="249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9" idx="3"/>
            <a:endCxn id="254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47" idx="5"/>
            <a:endCxn id="265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02960" y="3267000"/>
            <a:ext cx="161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02:23:48Z</dcterms:created>
  <dc:creator>David R. Musser</dc:creator>
  <dc:description/>
  <dc:language>en-US</dc:language>
  <cp:lastModifiedBy>David R. Musser</cp:lastModifiedBy>
  <dcterms:modified xsi:type="dcterms:W3CDTF">1999-03-18T05:34:32Z</dcterms:modified>
  <cp:revision>9</cp:revision>
  <dc:subject/>
  <dc:title>No Slide Title</dc:title>
</cp:coreProperties>
</file>