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BF87-56BE-41AA-BD35-9337CE43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370-2A9E-4278-9393-1BAF26C11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692B-95C7-41E5-B0A0-005E398A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139-BFAC-49C6-93C2-B6A8CE96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435B-9AF1-43FF-BF58-646AAAE8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0F94-2AD1-4E4A-BE22-88D37624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E05D-9F40-466E-B98D-F6DDA51D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D2F7-78E2-4319-9C24-8CECAC5D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285-9540-4D13-BA31-E5F9BD5E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9C62-52C7-4DB8-A850-DFC396B9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1454-6FD7-49BC-9BF3-14D6825B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D50-64BB-49FC-8005-ADB971EB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B58B-7B4A-4B42-9E9C-578A91965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3"/>
            <a:endCxn id="42" idx="7"/>
          </p:cNvCxnSpPr>
          <p:nvPr/>
        </p:nvCxnSpPr>
        <p:spPr>
          <a:xfrm flipH="1">
            <a:off x="3427200" y="3198600"/>
            <a:ext cx="91836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stCxn id="41" idx="5"/>
            <a:endCxn id="43" idx="1"/>
          </p:cNvCxnSpPr>
          <p:nvPr/>
        </p:nvCxnSpPr>
        <p:spPr>
          <a:xfrm>
            <a:off x="4722480" y="3198600"/>
            <a:ext cx="842400" cy="53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2" idx="3"/>
            <a:endCxn id="44" idx="7"/>
          </p:cNvCxnSpPr>
          <p:nvPr/>
        </p:nvCxnSpPr>
        <p:spPr>
          <a:xfrm flipH="1">
            <a:off x="2207880" y="4113000"/>
            <a:ext cx="84240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2" idx="5"/>
            <a:endCxn id="45" idx="1"/>
          </p:cNvCxnSpPr>
          <p:nvPr/>
        </p:nvCxnSpPr>
        <p:spPr>
          <a:xfrm>
            <a:off x="3427200" y="4113000"/>
            <a:ext cx="61380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45" idx="3"/>
            <a:endCxn id="50" idx="7"/>
          </p:cNvCxnSpPr>
          <p:nvPr/>
        </p:nvCxnSpPr>
        <p:spPr>
          <a:xfrm flipH="1">
            <a:off x="3503160" y="5408280"/>
            <a:ext cx="537840" cy="76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43" idx="5"/>
            <a:endCxn id="61" idx="0"/>
          </p:cNvCxnSpPr>
          <p:nvPr/>
        </p:nvCxnSpPr>
        <p:spPr>
          <a:xfrm>
            <a:off x="5941800" y="411300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" name=""/>
          <p:cNvCxnSpPr>
            <a:stCxn id="277" idx="3"/>
            <a:endCxn id="278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77" idx="5"/>
            <a:endCxn id="279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78" idx="3"/>
            <a:endCxn id="280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5"/>
            <a:endCxn id="281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7" name=""/>
          <p:cNvCxnSpPr>
            <a:stCxn id="281" idx="3"/>
            <a:endCxn id="286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79" idx="5"/>
            <a:endCxn id="297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9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666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00440" y="3267000"/>
            <a:ext cx="1750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9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9" idx="3"/>
            <a:endCxn id="31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"/>
          <p:cNvCxnSpPr>
            <a:stCxn id="309" idx="5"/>
            <a:endCxn id="31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310" idx="3"/>
            <a:endCxn id="312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10" idx="5"/>
            <a:endCxn id="313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3" idx="3"/>
            <a:endCxn id="318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76920" y="2666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1" name=""/>
          <p:cNvCxnSpPr>
            <a:stCxn id="336" idx="3"/>
            <a:endCxn id="337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2" name=""/>
          <p:cNvCxnSpPr>
            <a:stCxn id="336" idx="5"/>
            <a:endCxn id="338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"/>
          <p:cNvCxnSpPr>
            <a:stCxn id="337" idx="3"/>
            <a:endCxn id="339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37" idx="5"/>
            <a:endCxn id="340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40" idx="3"/>
            <a:endCxn id="345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876920" y="2666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299720" y="3267000"/>
            <a:ext cx="1387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s 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 n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65" idx="3"/>
            <a:endCxn id="367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70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1" name=""/>
          <p:cNvCxnSpPr>
            <a:stCxn id="367" idx="3"/>
            <a:endCxn id="370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72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67" idx="5"/>
            <a:endCxn id="373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5" idx="5"/>
            <a:endCxn id="375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6520" y="981000"/>
            <a:ext cx="255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7" name=""/>
          <p:cNvCxnSpPr>
            <a:stCxn id="383" idx="3"/>
            <a:endCxn id="385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88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5" idx="3"/>
            <a:endCxn id="388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85" idx="5"/>
            <a:endCxn id="391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396" name=""/>
          <p:cNvCxnSpPr>
            <a:stCxn id="383" idx="5"/>
            <a:endCxn id="393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6520" y="981000"/>
            <a:ext cx="255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61960" y="5562720"/>
            <a:ext cx="346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we insert her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roying the ba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403" idx="3"/>
            <a:endCxn id="405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5" idx="3"/>
            <a:endCxn id="408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10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5" name=""/>
          <p:cNvCxnSpPr>
            <a:stCxn id="405" idx="5"/>
            <a:endCxn id="411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403" idx="5"/>
            <a:endCxn id="413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422" idx="3"/>
            <a:endCxn id="424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24" idx="3"/>
            <a:endCxn id="427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4" name=""/>
          <p:cNvCxnSpPr>
            <a:stCxn id="422" idx="5"/>
            <a:endCxn id="432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0" idx="3"/>
            <a:endCxn id="445" idx="0"/>
          </p:cNvCxnSpPr>
          <p:nvPr/>
        </p:nvCxnSpPr>
        <p:spPr>
          <a:xfrm flipH="1">
            <a:off x="4038120" y="1706040"/>
            <a:ext cx="46800" cy="21042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7" name=""/>
          <p:cNvCxnSpPr>
            <a:stCxn id="442" idx="3"/>
            <a:endCxn id="446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48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2" name=""/>
          <p:cNvCxnSpPr>
            <a:stCxn id="440" idx="5"/>
            <a:endCxn id="450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53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58" idx="3"/>
            <a:endCxn id="463" idx="0"/>
          </p:cNvCxnSpPr>
          <p:nvPr/>
        </p:nvCxnSpPr>
        <p:spPr>
          <a:xfrm flipH="1">
            <a:off x="4038120" y="1706040"/>
            <a:ext cx="46800" cy="21042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0" idx="3"/>
            <a:endCxn id="464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66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58" idx="5"/>
            <a:endCxn id="468" idx="0"/>
          </p:cNvCxnSpPr>
          <p:nvPr/>
        </p:nvCxnSpPr>
        <p:spPr>
          <a:xfrm>
            <a:off x="4678200" y="1706400"/>
            <a:ext cx="1532880" cy="20282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7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5" idx="3"/>
            <a:endCxn id="480" idx="0"/>
          </p:cNvCxnSpPr>
          <p:nvPr/>
        </p:nvCxnSpPr>
        <p:spPr>
          <a:xfrm flipH="1">
            <a:off x="4037760" y="3153960"/>
            <a:ext cx="80892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81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77" idx="3"/>
            <a:endCxn id="48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83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75" idx="5"/>
            <a:endCxn id="485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88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3" idx="3"/>
            <a:endCxn id="64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3" idx="5"/>
            <a:endCxn id="65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4" idx="3"/>
            <a:endCxn id="66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4" idx="5"/>
            <a:endCxn id="67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7" idx="3"/>
            <a:endCxn id="72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9760" y="990720"/>
            <a:ext cx="374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ST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X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X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65" idx="5"/>
            <a:endCxn id="84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33640" y="141768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62240" y="134136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6" name=""/>
          <p:cNvCxnSpPr>
            <a:stCxn id="492" idx="3"/>
            <a:endCxn id="497" idx="0"/>
          </p:cNvCxnSpPr>
          <p:nvPr/>
        </p:nvCxnSpPr>
        <p:spPr>
          <a:xfrm flipH="1">
            <a:off x="4037760" y="3153960"/>
            <a:ext cx="80892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98" name=""/>
          <p:cNvSpPr/>
          <p:nvPr/>
        </p:nvSpPr>
        <p:spPr>
          <a:xfrm>
            <a:off x="1257480" y="278928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9" name=""/>
          <p:cNvCxnSpPr>
            <a:stCxn id="494" idx="3"/>
            <a:endCxn id="498" idx="0"/>
          </p:cNvCxnSpPr>
          <p:nvPr/>
        </p:nvCxnSpPr>
        <p:spPr>
          <a:xfrm flipH="1">
            <a:off x="2057400" y="2133360"/>
            <a:ext cx="99900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1790640" y="39322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2" idx="5"/>
            <a:endCxn id="502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05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933640" y="141768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62240" y="134136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2" name=""/>
          <p:cNvCxnSpPr>
            <a:stCxn id="508" idx="3"/>
            <a:endCxn id="513" idx="0"/>
          </p:cNvCxnSpPr>
          <p:nvPr/>
        </p:nvCxnSpPr>
        <p:spPr>
          <a:xfrm flipH="1">
            <a:off x="4037760" y="3153960"/>
            <a:ext cx="80892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14" name=""/>
          <p:cNvSpPr/>
          <p:nvPr/>
        </p:nvSpPr>
        <p:spPr>
          <a:xfrm>
            <a:off x="1257480" y="278928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5" name=""/>
          <p:cNvCxnSpPr>
            <a:stCxn id="510" idx="3"/>
            <a:endCxn id="514" idx="0"/>
          </p:cNvCxnSpPr>
          <p:nvPr/>
        </p:nvCxnSpPr>
        <p:spPr>
          <a:xfrm flipH="1">
            <a:off x="2057400" y="2133360"/>
            <a:ext cx="99900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16" name=""/>
          <p:cNvSpPr/>
          <p:nvPr/>
        </p:nvSpPr>
        <p:spPr>
          <a:xfrm>
            <a:off x="1790640" y="39322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"/>
          <p:cNvCxnSpPr>
            <a:stCxn id="508" idx="5"/>
            <a:endCxn id="518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2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81480" y="7621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a “single rot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3" name=""/>
          <p:cNvCxnSpPr>
            <a:stCxn id="510" idx="5"/>
            <a:endCxn id="508" idx="1"/>
          </p:cNvCxnSpPr>
          <p:nvPr/>
        </p:nvCxnSpPr>
        <p:spPr>
          <a:xfrm>
            <a:off x="3649320" y="2133720"/>
            <a:ext cx="1197360" cy="427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24" name=""/>
          <p:cNvSpPr/>
          <p:nvPr/>
        </p:nvSpPr>
        <p:spPr>
          <a:xfrm>
            <a:off x="6691680" y="189540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0" name=""/>
          <p:cNvCxnSpPr>
            <a:stCxn id="526" idx="3"/>
            <a:endCxn id="528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609480" y="373392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28" idx="3"/>
            <a:endCxn id="53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114300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"/>
          <p:cNvCxnSpPr>
            <a:stCxn id="528" idx="5"/>
            <a:endCxn id="534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6" idx="5"/>
            <a:endCxn id="536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40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38880" y="586728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94360" y="981000"/>
            <a:ext cx="18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one ste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933640" y="141768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62240" y="134136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5" idx="3"/>
            <a:endCxn id="550" idx="0"/>
          </p:cNvCxnSpPr>
          <p:nvPr/>
        </p:nvCxnSpPr>
        <p:spPr>
          <a:xfrm flipH="1">
            <a:off x="4037760" y="3153960"/>
            <a:ext cx="80892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51" name=""/>
          <p:cNvSpPr/>
          <p:nvPr/>
        </p:nvSpPr>
        <p:spPr>
          <a:xfrm>
            <a:off x="1257480" y="2789280"/>
            <a:ext cx="1600200" cy="22096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2" name=""/>
          <p:cNvCxnSpPr>
            <a:stCxn id="547" idx="3"/>
            <a:endCxn id="551" idx="0"/>
          </p:cNvCxnSpPr>
          <p:nvPr/>
        </p:nvCxnSpPr>
        <p:spPr>
          <a:xfrm flipH="1">
            <a:off x="2057400" y="2133360"/>
            <a:ext cx="99900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53" name=""/>
          <p:cNvSpPr/>
          <p:nvPr/>
        </p:nvSpPr>
        <p:spPr>
          <a:xfrm>
            <a:off x="1790640" y="39322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"/>
          <p:cNvCxnSpPr>
            <a:stCxn id="545" idx="5"/>
            <a:endCxn id="555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47" idx="5"/>
            <a:endCxn id="545" idx="1"/>
          </p:cNvCxnSpPr>
          <p:nvPr/>
        </p:nvCxnSpPr>
        <p:spPr>
          <a:xfrm>
            <a:off x="3649320" y="2133720"/>
            <a:ext cx="1197360" cy="427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61" idx="3"/>
            <a:endCxn id="563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66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63" idx="3"/>
            <a:endCxn id="566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68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276720" y="3809880"/>
            <a:ext cx="1523880" cy="12193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73392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63" idx="5"/>
            <a:endCxn id="569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74" name=""/>
          <p:cNvCxnSpPr>
            <a:stCxn id="561" idx="5"/>
            <a:endCxn id="571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75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5440" y="98100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suppose 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3" name=""/>
          <p:cNvCxnSpPr>
            <a:stCxn id="579" idx="3"/>
            <a:endCxn id="581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5" name=""/>
          <p:cNvCxnSpPr>
            <a:stCxn id="581" idx="3"/>
            <a:endCxn id="584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86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809880"/>
            <a:ext cx="1523880" cy="221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733920" y="48006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1" name=""/>
          <p:cNvCxnSpPr>
            <a:stCxn id="581" idx="5"/>
            <a:endCxn id="587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592" name=""/>
          <p:cNvCxnSpPr>
            <a:stCxn id="579" idx="5"/>
            <a:endCxn id="589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593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95440" y="981000"/>
            <a:ext cx="296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suppose 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balance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9080" y="5911920"/>
            <a:ext cx="299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this time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3" name=""/>
          <p:cNvCxnSpPr>
            <a:stCxn id="599" idx="3"/>
            <a:endCxn id="601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04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5" name=""/>
          <p:cNvCxnSpPr>
            <a:stCxn id="601" idx="3"/>
            <a:endCxn id="604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06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276720" y="3809880"/>
            <a:ext cx="1523880" cy="221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733920" y="48006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1" name=""/>
          <p:cNvCxnSpPr>
            <a:stCxn id="601" idx="5"/>
            <a:endCxn id="607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599" idx="5"/>
            <a:endCxn id="609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13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486760" y="914400"/>
            <a:ext cx="27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we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rotation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24280" y="2438280"/>
            <a:ext cx="838440" cy="838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95288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33640" y="141768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162240" y="134136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618" idx="3"/>
            <a:endCxn id="623" idx="0"/>
          </p:cNvCxnSpPr>
          <p:nvPr/>
        </p:nvCxnSpPr>
        <p:spPr>
          <a:xfrm flipH="1">
            <a:off x="4037760" y="3154320"/>
            <a:ext cx="80892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24" name=""/>
          <p:cNvSpPr/>
          <p:nvPr/>
        </p:nvSpPr>
        <p:spPr>
          <a:xfrm>
            <a:off x="1257480" y="2789280"/>
            <a:ext cx="1562040" cy="1249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5" name=""/>
          <p:cNvCxnSpPr>
            <a:stCxn id="620" idx="3"/>
            <a:endCxn id="624" idx="0"/>
          </p:cNvCxnSpPr>
          <p:nvPr/>
        </p:nvCxnSpPr>
        <p:spPr>
          <a:xfrm flipH="1">
            <a:off x="2037600" y="2133360"/>
            <a:ext cx="101844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26" name=""/>
          <p:cNvSpPr/>
          <p:nvPr/>
        </p:nvSpPr>
        <p:spPr>
          <a:xfrm>
            <a:off x="1752480" y="3048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276720" y="3733920"/>
            <a:ext cx="1523880" cy="23619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733920" y="48769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94360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0" name=""/>
          <p:cNvCxnSpPr>
            <a:stCxn id="618" idx="5"/>
            <a:endCxn id="628" idx="0"/>
          </p:cNvCxnSpPr>
          <p:nvPr/>
        </p:nvCxnSpPr>
        <p:spPr>
          <a:xfrm>
            <a:off x="5439960" y="3154320"/>
            <a:ext cx="7707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31" name=""/>
          <p:cNvCxnSpPr>
            <a:stCxn id="620" idx="5"/>
            <a:endCxn id="618" idx="1"/>
          </p:cNvCxnSpPr>
          <p:nvPr/>
        </p:nvCxnSpPr>
        <p:spPr>
          <a:xfrm>
            <a:off x="3649320" y="2133720"/>
            <a:ext cx="1197360" cy="427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32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86760" y="914400"/>
            <a:ext cx="27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ain, we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rotation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944680" y="2209680"/>
            <a:ext cx="25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but it fails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or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2" name=""/>
          <p:cNvCxnSpPr>
            <a:stCxn id="638" idx="3"/>
            <a:endCxn id="640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43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stCxn id="640" idx="3"/>
            <a:endCxn id="643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45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276720" y="3809880"/>
            <a:ext cx="1523880" cy="221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733920" y="48006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0" name=""/>
          <p:cNvCxnSpPr>
            <a:stCxn id="640" idx="5"/>
            <a:endCxn id="646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51" name=""/>
          <p:cNvCxnSpPr>
            <a:stCxn id="638" idx="5"/>
            <a:endCxn id="648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52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89640" y="914400"/>
            <a:ext cx="319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back to where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1" name=""/>
          <p:cNvCxnSpPr>
            <a:stCxn id="657" idx="3"/>
            <a:endCxn id="659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62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3" name=""/>
          <p:cNvCxnSpPr>
            <a:stCxn id="659" idx="3"/>
            <a:endCxn id="662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64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276720" y="3809880"/>
            <a:ext cx="1523880" cy="221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733920" y="48006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9" name=""/>
          <p:cNvCxnSpPr>
            <a:stCxn id="659" idx="5"/>
            <a:endCxn id="665" idx="0"/>
          </p:cNvCxnSpPr>
          <p:nvPr/>
        </p:nvCxnSpPr>
        <p:spPr>
          <a:xfrm>
            <a:off x="3001680" y="3077640"/>
            <a:ext cx="103716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5"/>
            <a:endCxn id="667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71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489640" y="914400"/>
            <a:ext cx="319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back to where 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574160" y="4343400"/>
            <a:ext cx="260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 and consi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6" idx="3"/>
            <a:endCxn id="87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5"/>
            <a:endCxn id="88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9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7" idx="5"/>
            <a:endCxn id="90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0" idx="3"/>
            <a:endCxn id="95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9040" y="990720"/>
            <a:ext cx="37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ST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values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subtree are smaller th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values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are l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the valu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88" idx="5"/>
            <a:endCxn id="107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"/>
          <p:cNvCxnSpPr>
            <a:stCxn id="677" idx="3"/>
            <a:endCxn id="679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82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79" idx="3"/>
            <a:endCxn id="682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84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79" idx="5"/>
            <a:endCxn id="690" idx="1"/>
          </p:cNvCxnSpPr>
          <p:nvPr/>
        </p:nvCxnSpPr>
        <p:spPr>
          <a:xfrm>
            <a:off x="3001680" y="3078000"/>
            <a:ext cx="702360" cy="550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91" name=""/>
          <p:cNvCxnSpPr>
            <a:stCxn id="677" idx="5"/>
            <a:endCxn id="687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692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8" name=""/>
          <p:cNvCxnSpPr>
            <a:stCxn id="690" idx="3"/>
            <a:endCxn id="685" idx="0"/>
          </p:cNvCxnSpPr>
          <p:nvPr/>
        </p:nvCxnSpPr>
        <p:spPr>
          <a:xfrm flipH="1">
            <a:off x="3085560" y="4221000"/>
            <a:ext cx="6181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699" name=""/>
          <p:cNvCxnSpPr>
            <a:stCxn id="690" idx="5"/>
            <a:endCxn id="695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5" name=""/>
          <p:cNvCxnSpPr>
            <a:stCxn id="701" idx="3"/>
            <a:endCxn id="703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06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3" idx="3"/>
            <a:endCxn id="706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08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3" name=""/>
          <p:cNvCxnSpPr>
            <a:stCxn id="703" idx="5"/>
            <a:endCxn id="714" idx="1"/>
          </p:cNvCxnSpPr>
          <p:nvPr/>
        </p:nvCxnSpPr>
        <p:spPr>
          <a:xfrm>
            <a:off x="3001680" y="3078000"/>
            <a:ext cx="702360" cy="550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15" name=""/>
          <p:cNvCxnSpPr>
            <a:stCxn id="701" idx="5"/>
            <a:endCxn id="711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16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14" idx="3"/>
            <a:endCxn id="709" idx="0"/>
          </p:cNvCxnSpPr>
          <p:nvPr/>
        </p:nvCxnSpPr>
        <p:spPr>
          <a:xfrm flipH="1">
            <a:off x="3085560" y="4221000"/>
            <a:ext cx="6181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23" name=""/>
          <p:cNvCxnSpPr>
            <a:stCxn id="714" idx="5"/>
            <a:endCxn id="719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24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26" idx="3"/>
            <a:endCxn id="728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31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2" name=""/>
          <p:cNvCxnSpPr>
            <a:stCxn id="728" idx="3"/>
            <a:endCxn id="73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28" idx="5"/>
            <a:endCxn id="734" idx="0"/>
          </p:cNvCxnSpPr>
          <p:nvPr/>
        </p:nvCxnSpPr>
        <p:spPr>
          <a:xfrm>
            <a:off x="3002040" y="3077640"/>
            <a:ext cx="84960" cy="1647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39" name=""/>
          <p:cNvCxnSpPr>
            <a:stCxn id="726" idx="5"/>
            <a:endCxn id="736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40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45" idx="3"/>
            <a:endCxn id="734" idx="0"/>
          </p:cNvCxnSpPr>
          <p:nvPr/>
        </p:nvCxnSpPr>
        <p:spPr>
          <a:xfrm flipH="1">
            <a:off x="3085560" y="4221000"/>
            <a:ext cx="6181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45" idx="5"/>
            <a:endCxn id="743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49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5" name=""/>
          <p:cNvCxnSpPr>
            <a:stCxn id="751" idx="3"/>
            <a:endCxn id="753" idx="7"/>
          </p:cNvCxnSpPr>
          <p:nvPr/>
        </p:nvCxnSpPr>
        <p:spPr>
          <a:xfrm flipH="1">
            <a:off x="3001320" y="1706040"/>
            <a:ext cx="108324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56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3" idx="3"/>
            <a:endCxn id="756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58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3" name=""/>
          <p:cNvCxnSpPr>
            <a:stCxn id="753" idx="5"/>
            <a:endCxn id="759" idx="0"/>
          </p:cNvCxnSpPr>
          <p:nvPr/>
        </p:nvCxnSpPr>
        <p:spPr>
          <a:xfrm>
            <a:off x="3002040" y="3077640"/>
            <a:ext cx="84960" cy="1647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64" name=""/>
          <p:cNvCxnSpPr>
            <a:stCxn id="751" idx="5"/>
            <a:endCxn id="761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65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"/>
          <p:cNvCxnSpPr>
            <a:stCxn id="770" idx="5"/>
            <a:endCxn id="768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73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75" idx="3"/>
            <a:endCxn id="780" idx="0"/>
          </p:cNvCxnSpPr>
          <p:nvPr/>
        </p:nvCxnSpPr>
        <p:spPr>
          <a:xfrm>
            <a:off x="4084560" y="1706040"/>
            <a:ext cx="907200" cy="3018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81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2" name=""/>
          <p:cNvCxnSpPr>
            <a:stCxn id="777" idx="3"/>
            <a:endCxn id="78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83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"/>
          <p:cNvCxnSpPr>
            <a:stCxn id="777" idx="5"/>
            <a:endCxn id="784" idx="0"/>
          </p:cNvCxnSpPr>
          <p:nvPr/>
        </p:nvCxnSpPr>
        <p:spPr>
          <a:xfrm>
            <a:off x="3002040" y="3077640"/>
            <a:ext cx="84960" cy="1647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789" name=""/>
          <p:cNvCxnSpPr>
            <a:stCxn id="775" idx="5"/>
            <a:endCxn id="786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90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6" name=""/>
          <p:cNvCxnSpPr>
            <a:stCxn id="794" idx="5"/>
            <a:endCxn id="780" idx="0"/>
          </p:cNvCxnSpPr>
          <p:nvPr/>
        </p:nvCxnSpPr>
        <p:spPr>
          <a:xfrm>
            <a:off x="4296960" y="4221000"/>
            <a:ext cx="69444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797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96252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4191120" y="838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799" idx="3"/>
            <a:endCxn id="804" idx="0"/>
          </p:cNvCxnSpPr>
          <p:nvPr/>
        </p:nvCxnSpPr>
        <p:spPr>
          <a:xfrm>
            <a:off x="4084560" y="1706040"/>
            <a:ext cx="907200" cy="3018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05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6" name=""/>
          <p:cNvCxnSpPr>
            <a:stCxn id="801" idx="3"/>
            <a:endCxn id="805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07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2362320" y="472428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281952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257800" y="28195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5791320" y="31240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2" name=""/>
          <p:cNvCxnSpPr>
            <a:stCxn id="801" idx="5"/>
            <a:endCxn id="808" idx="0"/>
          </p:cNvCxnSpPr>
          <p:nvPr/>
        </p:nvCxnSpPr>
        <p:spPr>
          <a:xfrm>
            <a:off x="3002040" y="3077640"/>
            <a:ext cx="84960" cy="16470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13" name=""/>
          <p:cNvCxnSpPr>
            <a:stCxn id="799" idx="5"/>
            <a:endCxn id="810" idx="0"/>
          </p:cNvCxnSpPr>
          <p:nvPr/>
        </p:nvCxnSpPr>
        <p:spPr>
          <a:xfrm>
            <a:off x="4677840" y="1706400"/>
            <a:ext cx="1380600" cy="11138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14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4267080" y="472428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572000" y="5181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350532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3429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724280" y="228600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952880" y="21337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6" name=""/>
          <p:cNvCxnSpPr>
            <a:stCxn id="822" idx="3"/>
            <a:endCxn id="827" idx="0"/>
          </p:cNvCxnSpPr>
          <p:nvPr/>
        </p:nvCxnSpPr>
        <p:spPr>
          <a:xfrm flipH="1">
            <a:off x="4609440" y="3001680"/>
            <a:ext cx="23724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28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9" name=""/>
          <p:cNvCxnSpPr>
            <a:stCxn id="824" idx="3"/>
            <a:endCxn id="828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30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62320" y="365760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19520" y="41148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3412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86728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"/>
          <p:cNvCxnSpPr>
            <a:stCxn id="824" idx="5"/>
            <a:endCxn id="831" idx="0"/>
          </p:cNvCxnSpPr>
          <p:nvPr/>
        </p:nvCxnSpPr>
        <p:spPr>
          <a:xfrm>
            <a:off x="3002040" y="3078000"/>
            <a:ext cx="849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36" name=""/>
          <p:cNvCxnSpPr>
            <a:stCxn id="822" idx="5"/>
            <a:endCxn id="833" idx="0"/>
          </p:cNvCxnSpPr>
          <p:nvPr/>
        </p:nvCxnSpPr>
        <p:spPr>
          <a:xfrm>
            <a:off x="5439960" y="3001680"/>
            <a:ext cx="69444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37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886200" y="365760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91120" y="41148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42900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657600" y="9144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1371600" y="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 Rotations to Restore Bal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24280" y="2286000"/>
            <a:ext cx="83844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952880" y="21337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286000" y="23623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14600" y="22860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9" name=""/>
          <p:cNvCxnSpPr>
            <a:stCxn id="845" idx="3"/>
            <a:endCxn id="850" idx="0"/>
          </p:cNvCxnSpPr>
          <p:nvPr/>
        </p:nvCxnSpPr>
        <p:spPr>
          <a:xfrm flipH="1">
            <a:off x="4609440" y="3001680"/>
            <a:ext cx="237240" cy="6562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51" name=""/>
          <p:cNvSpPr/>
          <p:nvPr/>
        </p:nvSpPr>
        <p:spPr>
          <a:xfrm>
            <a:off x="60948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"/>
          <p:cNvCxnSpPr>
            <a:stCxn id="847" idx="3"/>
            <a:endCxn id="851" idx="0"/>
          </p:cNvCxnSpPr>
          <p:nvPr/>
        </p:nvCxnSpPr>
        <p:spPr>
          <a:xfrm flipH="1">
            <a:off x="1409760" y="3078000"/>
            <a:ext cx="999000" cy="65664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53" name=""/>
          <p:cNvSpPr/>
          <p:nvPr/>
        </p:nvSpPr>
        <p:spPr>
          <a:xfrm>
            <a:off x="1143000" y="419112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362320" y="365760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19520" y="41148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334120" y="37339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867280" y="403848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8" name=""/>
          <p:cNvCxnSpPr>
            <a:stCxn id="847" idx="5"/>
            <a:endCxn id="854" idx="0"/>
          </p:cNvCxnSpPr>
          <p:nvPr/>
        </p:nvCxnSpPr>
        <p:spPr>
          <a:xfrm>
            <a:off x="3002040" y="3078000"/>
            <a:ext cx="84960" cy="5803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59" name=""/>
          <p:cNvCxnSpPr>
            <a:stCxn id="845" idx="5"/>
            <a:endCxn id="856" idx="0"/>
          </p:cNvCxnSpPr>
          <p:nvPr/>
        </p:nvCxnSpPr>
        <p:spPr>
          <a:xfrm>
            <a:off x="5439960" y="3001680"/>
            <a:ext cx="694440" cy="73260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60" name=""/>
          <p:cNvSpPr/>
          <p:nvPr/>
        </p:nvSpPr>
        <p:spPr>
          <a:xfrm>
            <a:off x="7238880" y="41148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238880" y="50292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315200" y="60199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886200" y="365760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191120" y="41148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429000" y="990720"/>
            <a:ext cx="83808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657600" y="914400"/>
            <a:ext cx="5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28480" y="905040"/>
            <a:ext cx="310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do 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rotation”. .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7" name=""/>
          <p:cNvCxnSpPr>
            <a:stCxn id="864" idx="3"/>
            <a:endCxn id="847" idx="7"/>
          </p:cNvCxnSpPr>
          <p:nvPr/>
        </p:nvCxnSpPr>
        <p:spPr>
          <a:xfrm flipH="1">
            <a:off x="3001680" y="1706040"/>
            <a:ext cx="550080" cy="7786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68" name=""/>
          <p:cNvCxnSpPr>
            <a:stCxn id="864" idx="5"/>
          </p:cNvCxnSpPr>
          <p:nvPr/>
        </p:nvCxnSpPr>
        <p:spPr>
          <a:xfrm>
            <a:off x="4144680" y="1706400"/>
            <a:ext cx="686520" cy="70272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69" name=""/>
          <p:cNvSpPr/>
          <p:nvPr/>
        </p:nvSpPr>
        <p:spPr>
          <a:xfrm>
            <a:off x="6575400" y="2658960"/>
            <a:ext cx="112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10" idx="3"/>
            <a:endCxn id="111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0" idx="5"/>
            <a:endCxn id="112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1" idx="3"/>
            <a:endCxn id="113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1" idx="5"/>
            <a:endCxn id="114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3"/>
            <a:endCxn id="119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12" idx="5"/>
            <a:endCxn id="130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4" idx="3"/>
            <a:endCxn id="135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4" idx="5"/>
            <a:endCxn id="136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5" idx="3"/>
            <a:endCxn id="137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5" idx="5"/>
            <a:endCxn id="138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8" idx="3"/>
            <a:endCxn id="143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36" idx="5"/>
            <a:endCxn id="154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2040" y="3429000"/>
            <a:ext cx="179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is is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59" idx="3"/>
            <a:endCxn id="160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9" idx="5"/>
            <a:endCxn id="161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60" idx="3"/>
            <a:endCxn id="162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5"/>
            <a:endCxn id="163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8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3" idx="3"/>
            <a:endCxn id="168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61" idx="5"/>
            <a:endCxn id="179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6" idx="3"/>
            <a:endCxn id="187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6" idx="5"/>
            <a:endCxn id="188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3" name=""/>
          <p:cNvCxnSpPr>
            <a:stCxn id="187" idx="3"/>
            <a:endCxn id="189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7" idx="5"/>
            <a:endCxn id="190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0" idx="3"/>
            <a:endCxn id="195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" name=""/>
          <p:cNvCxnSpPr>
            <a:stCxn id="188" idx="5"/>
            <a:endCxn id="206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5" idx="3"/>
            <a:endCxn id="21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5" idx="5"/>
            <a:endCxn id="21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6" idx="3"/>
            <a:endCxn id="218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16" idx="5"/>
            <a:endCxn id="219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" name=""/>
          <p:cNvCxnSpPr>
            <a:stCxn id="219" idx="3"/>
            <a:endCxn id="224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17" idx="5"/>
            <a:endCxn id="235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267080" y="27432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486400" y="365760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62520" y="4952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5" idx="3"/>
            <a:endCxn id="246" idx="7"/>
          </p:cNvCxnSpPr>
          <p:nvPr/>
        </p:nvCxnSpPr>
        <p:spPr>
          <a:xfrm flipH="1">
            <a:off x="3427200" y="3198960"/>
            <a:ext cx="91800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45" idx="5"/>
            <a:endCxn id="247" idx="1"/>
          </p:cNvCxnSpPr>
          <p:nvPr/>
        </p:nvCxnSpPr>
        <p:spPr>
          <a:xfrm>
            <a:off x="4722480" y="3198960"/>
            <a:ext cx="842040" cy="536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46" idx="3"/>
            <a:endCxn id="248" idx="7"/>
          </p:cNvCxnSpPr>
          <p:nvPr/>
        </p:nvCxnSpPr>
        <p:spPr>
          <a:xfrm flipH="1">
            <a:off x="2207520" y="4113360"/>
            <a:ext cx="8420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3" name=""/>
          <p:cNvCxnSpPr>
            <a:stCxn id="246" idx="5"/>
            <a:endCxn id="249" idx="1"/>
          </p:cNvCxnSpPr>
          <p:nvPr/>
        </p:nvCxnSpPr>
        <p:spPr>
          <a:xfrm>
            <a:off x="3427560" y="4113360"/>
            <a:ext cx="613440" cy="9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3048120" y="6095880"/>
            <a:ext cx="53316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49" idx="3"/>
            <a:endCxn id="254" idx="7"/>
          </p:cNvCxnSpPr>
          <p:nvPr/>
        </p:nvCxnSpPr>
        <p:spPr>
          <a:xfrm flipH="1">
            <a:off x="3502800" y="5408280"/>
            <a:ext cx="537480" cy="76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43117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37339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40280" y="4952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5880" y="6172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288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4520" y="3733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304920"/>
            <a:ext cx="61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: Balanced Binary Search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33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49528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45080" y="4952880"/>
            <a:ext cx="2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47" idx="5"/>
            <a:endCxn id="265" idx="0"/>
          </p:cNvCxnSpPr>
          <p:nvPr/>
        </p:nvCxnSpPr>
        <p:spPr>
          <a:xfrm>
            <a:off x="5941800" y="4113360"/>
            <a:ext cx="63396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5331960" y="1066680"/>
            <a:ext cx="3536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VL Balanc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very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the left subtree diff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height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subtree by at most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6095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5029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4952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1722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3657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8520" y="1143000"/>
            <a:ext cx="417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(height(lef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right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)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ight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= 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76920" y="2666880"/>
            <a:ext cx="3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02960" y="3267000"/>
            <a:ext cx="1617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L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02:23:48Z</dcterms:created>
  <dc:creator>David R. Musser</dc:creator>
  <dc:description/>
  <dc:language>en-US</dc:language>
  <cp:lastModifiedBy>David R. Musser</cp:lastModifiedBy>
  <dcterms:modified xsi:type="dcterms:W3CDTF">1999-03-18T05:34:32Z</dcterms:modified>
  <cp:revision>9</cp:revision>
  <dc:subject/>
  <dc:title>No Slide Title</dc:title>
</cp:coreProperties>
</file>