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F96-FEE7-4D21-8068-1109D73F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82FC-DD90-4713-9191-81B35D1A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CA1-800D-4EDD-BF46-5089C779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E577-7287-4F1F-A16C-AEAAB562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289-BDED-4604-885E-71D975F8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75C-B2FE-420D-A00C-5BA02733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BF6-5114-4693-BE45-71634C53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B28A-2A7D-4B03-988B-424A5E85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49C-FC35-4042-AFC4-C30E20E8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A80-04E4-484E-813A-B4D578FF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6922-D1EA-483F-B65A-9F273B29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9A5-939E-4A91-83DA-CA5A46D5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DDA5-6B45-4DD7-9BCD-9B8A6E24B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4" idx="0"/>
            <a:endCxn id="44" idx="2"/>
          </p:cNvCxnSpPr>
          <p:nvPr/>
        </p:nvCxnSpPr>
        <p:spPr>
          <a:xfrm>
            <a:off x="5676840" y="3276720"/>
            <a:ext cx="360" cy="83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6" idx="0"/>
            <a:endCxn id="46" idx="2"/>
          </p:cNvCxnSpPr>
          <p:nvPr/>
        </p:nvCxnSpPr>
        <p:spPr>
          <a:xfrm>
            <a:off x="3848040" y="3276720"/>
            <a:ext cx="360" cy="83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8" idx="0"/>
            <a:endCxn id="48" idx="2"/>
          </p:cNvCxnSpPr>
          <p:nvPr/>
        </p:nvCxnSpPr>
        <p:spPr>
          <a:xfrm>
            <a:off x="7391520" y="3276720"/>
            <a:ext cx="360" cy="83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2" idx="3"/>
            <a:endCxn id="46" idx="1"/>
          </p:cNvCxnSpPr>
          <p:nvPr/>
        </p:nvCxnSpPr>
        <p:spPr>
          <a:xfrm>
            <a:off x="2666880" y="3695760"/>
            <a:ext cx="4575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6" idx="3"/>
            <a:endCxn id="44" idx="1"/>
          </p:cNvCxnSpPr>
          <p:nvPr/>
        </p:nvCxnSpPr>
        <p:spPr>
          <a:xfrm>
            <a:off x="4572000" y="369576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4" idx="3"/>
            <a:endCxn id="48" idx="1"/>
          </p:cNvCxnSpPr>
          <p:nvPr/>
        </p:nvCxnSpPr>
        <p:spPr>
          <a:xfrm>
            <a:off x="6400800" y="3695760"/>
            <a:ext cx="267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endCxn id="42" idx="1"/>
          </p:cNvCxnSpPr>
          <p:nvPr/>
        </p:nvCxnSpPr>
        <p:spPr>
          <a:xfrm>
            <a:off x="609480" y="3657600"/>
            <a:ext cx="61020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endCxn id="46" idx="0"/>
          </p:cNvCxnSpPr>
          <p:nvPr/>
        </p:nvCxnSpPr>
        <p:spPr>
          <a:xfrm rot="5400000">
            <a:off x="4324320" y="1886040"/>
            <a:ext cx="914760" cy="1867320"/>
          </a:xfrm>
          <a:prstGeom prst="curvedConnector3">
            <a:avLst>
              <a:gd name="adj1" fmla="val 246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3">
            <a:avLst>
              <a:gd name="adj1" fmla="val -8202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oring . . 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9" idx="0"/>
            <a:endCxn id="289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1" idx="0"/>
            <a:endCxn id="291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3" idx="0"/>
            <a:endCxn id="293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5" name=""/>
          <p:cNvCxnSpPr>
            <a:endCxn id="287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/>
          <p:nvPr/>
        </p:nvCxnSpPr>
        <p:spPr>
          <a:xfrm flipV="1">
            <a:off x="3123720" y="4114080"/>
            <a:ext cx="7246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274320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endCxn id="287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87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2" idx="1"/>
            <a:endCxn id="287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89" idx="3"/>
            <a:endCxn id="293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291" idx="3"/>
            <a:endCxn id="289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oring . . 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2" idx="0"/>
            <a:endCxn id="312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4" idx="0"/>
            <a:endCxn id="314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6" idx="0"/>
            <a:endCxn id="316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endCxn id="310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/>
          <p:nvPr/>
        </p:nvCxnSpPr>
        <p:spPr>
          <a:xfrm flipV="1">
            <a:off x="1218960" y="4114080"/>
            <a:ext cx="7246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838080" y="5562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12" idx="3"/>
            <a:endCxn id="316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314" idx="3"/>
            <a:endCxn id="312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10" idx="3"/>
            <a:endCxn id="314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ored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1" idx="0"/>
            <a:endCxn id="331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33" idx="0"/>
            <a:endCxn id="333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5" idx="0"/>
            <a:endCxn id="335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"/>
          <p:cNvCxnSpPr>
            <a:endCxn id="329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1" idx="3"/>
            <a:endCxn id="335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3" idx="3"/>
            <a:endCxn id="331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29" idx="3"/>
            <a:endCxn id="333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time and space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8" idx="0"/>
            <a:endCxn id="348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50" idx="0"/>
            <a:endCxn id="350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3" name=""/>
          <p:cNvCxnSpPr>
            <a:stCxn id="352" idx="0"/>
            <a:endCxn id="352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4" name=""/>
          <p:cNvCxnSpPr>
            <a:endCxn id="346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8" name=""/>
          <p:cNvCxnSpPr>
            <a:stCxn id="348" idx="3"/>
            <a:endCxn id="352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50" idx="3"/>
            <a:endCxn id="348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46" idx="3"/>
            <a:endCxn id="350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time and space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0"/>
            <a:endCxn id="365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7" idx="0"/>
            <a:endCxn id="367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9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0"/>
            <a:endCxn id="369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endCxn id="363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"/>
          <p:cNvCxnSpPr/>
          <p:nvPr/>
        </p:nvCxnSpPr>
        <p:spPr>
          <a:xfrm>
            <a:off x="3048120" y="2133360"/>
            <a:ext cx="8388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2743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endCxn id="363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63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8" idx="1"/>
            <a:endCxn id="363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81" idx="0"/>
            <a:endCxn id="367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/>
          <p:nvPr/>
        </p:nvCxnSpPr>
        <p:spPr>
          <a:xfrm flipV="1" rot="10800000">
            <a:off x="56761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/>
          <p:nvPr/>
        </p:nvCxnSpPr>
        <p:spPr>
          <a:xfrm flipH="1" flipV="1">
            <a:off x="62478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7" name=""/>
          <p:cNvSpPr/>
          <p:nvPr/>
        </p:nvSpPr>
        <p:spPr>
          <a:xfrm>
            <a:off x="243828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432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8" idx="0"/>
            <a:endCxn id="365" idx="2"/>
          </p:cNvCxnSpPr>
          <p:nvPr/>
        </p:nvCxnSpPr>
        <p:spPr>
          <a:xfrm flipV="1">
            <a:off x="2781000" y="4114080"/>
            <a:ext cx="289620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0" name=""/>
          <p:cNvCxnSpPr/>
          <p:nvPr/>
        </p:nvCxnSpPr>
        <p:spPr>
          <a:xfrm flipV="1" rot="10800000">
            <a:off x="74289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" name=""/>
          <p:cNvCxnSpPr/>
          <p:nvPr/>
        </p:nvCxnSpPr>
        <p:spPr>
          <a:xfrm flipH="1" flipV="1">
            <a:off x="80002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327672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"/>
          <p:cNvCxnSpPr>
            <a:endCxn id="369" idx="2"/>
          </p:cNvCxnSpPr>
          <p:nvPr/>
        </p:nvCxnSpPr>
        <p:spPr>
          <a:xfrm flipV="1">
            <a:off x="3695760" y="4114080"/>
            <a:ext cx="369648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5" name=""/>
          <p:cNvSpPr/>
          <p:nvPr/>
        </p:nvSpPr>
        <p:spPr>
          <a:xfrm>
            <a:off x="4876920" y="5562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for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1600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>
            <a:stCxn id="400" idx="0"/>
            <a:endCxn id="40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0"/>
            <a:endCxn id="40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stCxn id="404" idx="0"/>
            <a:endCxn id="40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6" name=""/>
          <p:cNvCxnSpPr>
            <a:stCxn id="398" idx="3"/>
            <a:endCxn id="40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402" idx="3"/>
            <a:endCxn id="40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400" idx="3"/>
            <a:endCxn id="40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endCxn id="39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endCxn id="40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40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3" name=""/>
          <p:cNvCxnSpPr>
            <a:endCxn id="398" idx="2"/>
          </p:cNvCxnSpPr>
          <p:nvPr/>
        </p:nvCxnSpPr>
        <p:spPr>
          <a:xfrm flipV="1">
            <a:off x="1066320" y="4114080"/>
            <a:ext cx="8773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endCxn id="398" idx="2"/>
          </p:cNvCxnSpPr>
          <p:nvPr/>
        </p:nvCxnSpPr>
        <p:spPr>
          <a:xfrm flipV="1">
            <a:off x="1599840" y="4114440"/>
            <a:ext cx="3438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639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3352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0"/>
            <a:endCxn id="42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22" idx="0"/>
            <a:endCxn id="42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4" idx="0"/>
            <a:endCxn id="42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6" name=""/>
          <p:cNvCxnSpPr>
            <a:stCxn id="418" idx="3"/>
            <a:endCxn id="42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22" idx="3"/>
            <a:endCxn id="42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2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endCxn id="41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3" name=""/>
          <p:cNvCxnSpPr/>
          <p:nvPr/>
        </p:nvCxnSpPr>
        <p:spPr>
          <a:xfrm flipV="1">
            <a:off x="2971800" y="4114080"/>
            <a:ext cx="8769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endCxn id="418" idx="2"/>
          </p:cNvCxnSpPr>
          <p:nvPr/>
        </p:nvCxnSpPr>
        <p:spPr>
          <a:xfrm flipV="1">
            <a:off x="1599840" y="4114440"/>
            <a:ext cx="3438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>
            <a:off x="143352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66868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40" idx="0"/>
            <a:endCxn id="44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2" idx="0"/>
            <a:endCxn id="44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0"/>
            <a:endCxn id="44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38" idx="3"/>
            <a:endCxn id="44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stCxn id="442" idx="3"/>
            <a:endCxn id="44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40" idx="3"/>
            <a:endCxn id="44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endCxn id="43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endCxn id="44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stCxn id="44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3" name=""/>
          <p:cNvCxnSpPr/>
          <p:nvPr/>
        </p:nvCxnSpPr>
        <p:spPr>
          <a:xfrm flipV="1">
            <a:off x="4723920" y="4114080"/>
            <a:ext cx="8773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endCxn id="438" idx="2"/>
          </p:cNvCxnSpPr>
          <p:nvPr/>
        </p:nvCxnSpPr>
        <p:spPr>
          <a:xfrm flipV="1">
            <a:off x="1599840" y="4114440"/>
            <a:ext cx="3438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143352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215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1" name=""/>
          <p:cNvCxnSpPr>
            <a:stCxn id="460" idx="0"/>
            <a:endCxn id="46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2" idx="0"/>
            <a:endCxn id="46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stCxn id="464" idx="0"/>
            <a:endCxn id="46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58" idx="3"/>
            <a:endCxn id="46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2" idx="3"/>
            <a:endCxn id="46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8" name=""/>
          <p:cNvCxnSpPr>
            <a:stCxn id="460" idx="3"/>
            <a:endCxn id="46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endCxn id="45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endCxn id="46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"/>
          <p:cNvCxnSpPr>
            <a:stCxn id="46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/>
          <p:nvPr/>
        </p:nvCxnSpPr>
        <p:spPr>
          <a:xfrm flipV="1">
            <a:off x="4723920" y="4114080"/>
            <a:ext cx="8773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4" name=""/>
          <p:cNvCxnSpPr/>
          <p:nvPr/>
        </p:nvCxnSpPr>
        <p:spPr>
          <a:xfrm flipV="1">
            <a:off x="3505320" y="411444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333864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215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0" idx="0"/>
            <a:endCxn id="48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82" idx="0"/>
            <a:endCxn id="48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4" idx="0"/>
            <a:endCxn id="48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6" name=""/>
          <p:cNvCxnSpPr>
            <a:stCxn id="478" idx="3"/>
            <a:endCxn id="48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"/>
          <p:cNvCxnSpPr>
            <a:stCxn id="482" idx="3"/>
            <a:endCxn id="48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0" idx="3"/>
            <a:endCxn id="48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"/>
          <p:cNvCxnSpPr>
            <a:endCxn id="47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"/>
          <p:cNvCxnSpPr>
            <a:endCxn id="48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"/>
          <p:cNvCxnSpPr>
            <a:stCxn id="48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3" name=""/>
          <p:cNvCxnSpPr/>
          <p:nvPr/>
        </p:nvCxnSpPr>
        <p:spPr>
          <a:xfrm flipV="1">
            <a:off x="6552720" y="4114080"/>
            <a:ext cx="8773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"/>
          <p:cNvCxnSpPr/>
          <p:nvPr/>
        </p:nvCxnSpPr>
        <p:spPr>
          <a:xfrm flipV="1">
            <a:off x="3505320" y="411444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333864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50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0"/>
            <a:endCxn id="6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2" idx="0"/>
            <a:endCxn id="6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4" idx="0"/>
            <a:endCxn id="6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58" idx="3"/>
            <a:endCxn id="6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3"/>
            <a:endCxn id="6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0" idx="3"/>
            <a:endCxn id="6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endCxn id="5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endCxn id="6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" name=""/>
          <p:cNvCxnSpPr/>
          <p:nvPr/>
        </p:nvCxnSpPr>
        <p:spPr>
          <a:xfrm flipV="1">
            <a:off x="456840" y="4114080"/>
            <a:ext cx="80100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304920" y="4800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500" idx="0"/>
            <a:endCxn id="50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2" idx="0"/>
            <a:endCxn id="50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504" idx="0"/>
            <a:endCxn id="50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98" idx="3"/>
            <a:endCxn id="50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502" idx="3"/>
            <a:endCxn id="50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500" idx="3"/>
            <a:endCxn id="50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endCxn id="49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1" name=""/>
          <p:cNvCxnSpPr>
            <a:endCxn id="50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3" name=""/>
          <p:cNvCxnSpPr>
            <a:endCxn id="502" idx="0"/>
          </p:cNvCxnSpPr>
          <p:nvPr/>
        </p:nvCxnSpPr>
        <p:spPr>
          <a:xfrm>
            <a:off x="2895480" y="2286000"/>
            <a:ext cx="9532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/>
          <p:nvPr/>
        </p:nvCxnSpPr>
        <p:spPr>
          <a:xfrm flipV="1">
            <a:off x="3505320" y="411444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5" name=""/>
          <p:cNvSpPr/>
          <p:nvPr/>
        </p:nvSpPr>
        <p:spPr>
          <a:xfrm>
            <a:off x="333864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14600" y="19810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20" idx="0"/>
            <a:endCxn id="52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3" name=""/>
          <p:cNvCxnSpPr>
            <a:stCxn id="522" idx="0"/>
            <a:endCxn id="52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stCxn id="524" idx="0"/>
            <a:endCxn id="52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6" name=""/>
          <p:cNvCxnSpPr>
            <a:stCxn id="518" idx="3"/>
            <a:endCxn id="52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522" idx="3"/>
            <a:endCxn id="52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520" idx="3"/>
            <a:endCxn id="52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endCxn id="51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endCxn id="52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>
            <a:stCxn id="52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"/>
          <p:cNvCxnSpPr>
            <a:endCxn id="522" idx="0"/>
          </p:cNvCxnSpPr>
          <p:nvPr/>
        </p:nvCxnSpPr>
        <p:spPr>
          <a:xfrm>
            <a:off x="2895480" y="2286000"/>
            <a:ext cx="9532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4" name=""/>
          <p:cNvCxnSpPr/>
          <p:nvPr/>
        </p:nvCxnSpPr>
        <p:spPr>
          <a:xfrm flipV="1">
            <a:off x="5334120" y="411444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5" name=""/>
          <p:cNvSpPr/>
          <p:nvPr/>
        </p:nvSpPr>
        <p:spPr>
          <a:xfrm>
            <a:off x="516744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514600" y="19810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40" idx="0"/>
            <a:endCxn id="54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42" idx="0"/>
            <a:endCxn id="54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44" idx="0"/>
            <a:endCxn id="54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38" idx="3"/>
            <a:endCxn id="54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42" idx="3"/>
            <a:endCxn id="54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8" name=""/>
          <p:cNvCxnSpPr>
            <a:stCxn id="540" idx="3"/>
            <a:endCxn id="54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9" name=""/>
          <p:cNvCxnSpPr>
            <a:endCxn id="53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" name=""/>
          <p:cNvCxnSpPr>
            <a:endCxn id="54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2" name=""/>
          <p:cNvCxnSpPr>
            <a:stCxn id="54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3" name=""/>
          <p:cNvCxnSpPr>
            <a:endCxn id="540" idx="2"/>
          </p:cNvCxnSpPr>
          <p:nvPr/>
        </p:nvCxnSpPr>
        <p:spPr>
          <a:xfrm flipV="1">
            <a:off x="4343400" y="4114440"/>
            <a:ext cx="133416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"/>
          <p:cNvCxnSpPr/>
          <p:nvPr/>
        </p:nvCxnSpPr>
        <p:spPr>
          <a:xfrm flipV="1">
            <a:off x="5334120" y="411444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"/>
          <p:cNvSpPr/>
          <p:nvPr/>
        </p:nvSpPr>
        <p:spPr>
          <a:xfrm>
            <a:off x="516744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06800" y="48006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0" idx="0"/>
            <a:endCxn id="56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"/>
          <p:cNvCxnSpPr>
            <a:stCxn id="562" idx="0"/>
            <a:endCxn id="56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64" idx="0"/>
            <a:endCxn id="56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58" idx="3"/>
            <a:endCxn id="56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"/>
          <p:cNvCxnSpPr>
            <a:stCxn id="562" idx="3"/>
            <a:endCxn id="56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8" name=""/>
          <p:cNvCxnSpPr>
            <a:stCxn id="560" idx="3"/>
            <a:endCxn id="56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"/>
          <p:cNvCxnSpPr>
            <a:endCxn id="55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endCxn id="56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6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3" name=""/>
          <p:cNvCxnSpPr/>
          <p:nvPr/>
        </p:nvCxnSpPr>
        <p:spPr>
          <a:xfrm flipV="1">
            <a:off x="6095520" y="4114440"/>
            <a:ext cx="133452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/>
          <p:nvPr/>
        </p:nvCxnSpPr>
        <p:spPr>
          <a:xfrm flipV="1">
            <a:off x="5334120" y="411444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5" name=""/>
          <p:cNvSpPr/>
          <p:nvPr/>
        </p:nvSpPr>
        <p:spPr>
          <a:xfrm>
            <a:off x="516744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15000" y="495288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80" idx="0"/>
            <a:endCxn id="58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2" idx="0"/>
            <a:endCxn id="58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stCxn id="584" idx="0"/>
            <a:endCxn id="58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6" name=""/>
          <p:cNvCxnSpPr>
            <a:stCxn id="578" idx="3"/>
            <a:endCxn id="58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7" name=""/>
          <p:cNvCxnSpPr>
            <a:stCxn id="582" idx="3"/>
            <a:endCxn id="58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8" name=""/>
          <p:cNvCxnSpPr>
            <a:stCxn id="580" idx="3"/>
            <a:endCxn id="58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9" name=""/>
          <p:cNvCxnSpPr>
            <a:endCxn id="57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1" name=""/>
          <p:cNvCxnSpPr>
            <a:endCxn id="58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2" name=""/>
          <p:cNvCxnSpPr>
            <a:stCxn id="58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3" name=""/>
          <p:cNvCxnSpPr/>
          <p:nvPr/>
        </p:nvCxnSpPr>
        <p:spPr>
          <a:xfrm flipV="1">
            <a:off x="6095520" y="4114440"/>
            <a:ext cx="133452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4" name=""/>
          <p:cNvCxnSpPr/>
          <p:nvPr/>
        </p:nvCxnSpPr>
        <p:spPr>
          <a:xfrm flipV="1">
            <a:off x="7086240" y="4114440"/>
            <a:ext cx="3438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5" name=""/>
          <p:cNvSpPr/>
          <p:nvPr/>
        </p:nvSpPr>
        <p:spPr>
          <a:xfrm>
            <a:off x="6843960" y="522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15000" y="495288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258720" y="48420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ycle 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time and space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1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2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3" name=""/>
          <p:cNvCxnSpPr>
            <a:stCxn id="602" idx="0"/>
            <a:endCxn id="602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4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604" idx="0"/>
            <a:endCxn id="604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6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606" idx="0"/>
            <a:endCxn id="606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8" name=""/>
          <p:cNvCxnSpPr>
            <a:endCxn id="600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9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1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602" idx="3"/>
            <a:endCxn id="606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"/>
          <p:cNvCxnSpPr>
            <a:stCxn id="604" idx="3"/>
            <a:endCxn id="602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"/>
          <p:cNvCxnSpPr>
            <a:stCxn id="600" idx="3"/>
            <a:endCxn id="604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6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17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6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7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400" y="5410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57400" y="49528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8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71800" y="5410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49528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0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86200" y="5410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71800" y="49528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9" idx="0"/>
            <a:endCxn id="79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81" idx="0"/>
            <a:endCxn id="81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0"/>
            <a:endCxn id="83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79" idx="3"/>
            <a:endCxn id="83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endCxn id="77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endCxn id="81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3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/>
          <p:nvPr/>
        </p:nvCxnSpPr>
        <p:spPr>
          <a:xfrm flipV="1">
            <a:off x="2362320" y="4114080"/>
            <a:ext cx="80064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2209680" y="4800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endCxn id="77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7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1"/>
            <a:endCxn id="77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609480" y="617220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79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2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00600" y="5410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429000" y="49528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75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562720" y="5410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886200" y="49528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6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7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553080" y="5334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343400" y="49528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9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3152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00600" y="50292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0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848720" y="4038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181480" y="50292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03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96080" y="3048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562720" y="502920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35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19920" y="502920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638680" y="2209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477120" y="495288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724280" y="29718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010280" y="4648320"/>
            <a:ext cx="76320" cy="75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572000" y="4038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315200" y="43434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3" idx="0"/>
            <a:endCxn id="103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0"/>
            <a:endCxn id="105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0"/>
            <a:endCxn id="107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03" idx="3"/>
            <a:endCxn id="107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endCxn id="101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endCxn id="105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7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/>
          <p:nvPr/>
        </p:nvCxnSpPr>
        <p:spPr>
          <a:xfrm flipV="1">
            <a:off x="4191120" y="4114080"/>
            <a:ext cx="80064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038480" y="4800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endCxn id="101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1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1"/>
            <a:endCxn id="101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0"/>
            <a:endCxn id="105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860400" y="63244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2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63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1814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40384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4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5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553080" y="52578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467480" y="35812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6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7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3152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391520" y="320040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8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9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772400" y="4038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086600" y="28954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0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91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696080" y="3048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705720" y="266688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2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3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324480" y="25146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4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5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638680" y="2286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91320" y="2590920"/>
            <a:ext cx="75960" cy="75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048120" y="220968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ycle detec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time and space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572000" y="182880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9" name=""/>
          <p:cNvCxnSpPr/>
          <p:nvPr/>
        </p:nvCxnSpPr>
        <p:spPr>
          <a:xfrm>
            <a:off x="1828800" y="457164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0" name=""/>
          <p:cNvSpPr/>
          <p:nvPr/>
        </p:nvSpPr>
        <p:spPr>
          <a:xfrm>
            <a:off x="18288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860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6576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20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34120" y="4572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4572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248520" y="44956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934320" y="41911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238880" y="38098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2940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391520" y="3429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391520" y="29718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315200" y="2514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553080" y="1828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095880" y="1752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934320" y="21337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486400" y="1828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029200" y="2133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24280" y="2514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57200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572000" y="3429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724280" y="3886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105520" y="42670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10080" y="1676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562720" y="198108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time and space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066680" y="5105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562720" y="5029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572000" y="182880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4" name=""/>
          <p:cNvCxnSpPr/>
          <p:nvPr/>
        </p:nvCxnSpPr>
        <p:spPr>
          <a:xfrm>
            <a:off x="1828800" y="457164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5" name=""/>
          <p:cNvSpPr/>
          <p:nvPr/>
        </p:nvSpPr>
        <p:spPr>
          <a:xfrm>
            <a:off x="18288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2860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432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6576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5720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334120" y="4572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791320" y="4572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248520" y="44956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934320" y="41911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238880" y="38098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62940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391520" y="3429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391520" y="29718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315200" y="2514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553080" y="1828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095880" y="1752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934320" y="21337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486400" y="1828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029200" y="2133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724280" y="2514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57200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72000" y="3429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724280" y="3886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105520" y="42670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410080" y="1676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562720" y="198108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31" idx="0"/>
            <a:endCxn id="131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0"/>
            <a:endCxn id="133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5" idx="0"/>
            <a:endCxn id="135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endCxn id="129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endCxn id="133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5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/>
          <p:nvPr/>
        </p:nvCxnSpPr>
        <p:spPr>
          <a:xfrm flipV="1">
            <a:off x="5866920" y="4114080"/>
            <a:ext cx="80100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715000" y="4800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endCxn id="129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9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29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0"/>
            <a:endCxn id="133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" name=""/>
          <p:cNvCxnSpPr/>
          <p:nvPr/>
        </p:nvCxnSpPr>
        <p:spPr>
          <a:xfrm flipV="1" rot="10800000">
            <a:off x="56761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/>
          <p:nvPr/>
        </p:nvCxnSpPr>
        <p:spPr>
          <a:xfrm flipH="1" flipV="1">
            <a:off x="62478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243828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0"/>
            <a:endCxn id="131" idx="2"/>
          </p:cNvCxnSpPr>
          <p:nvPr/>
        </p:nvCxnSpPr>
        <p:spPr>
          <a:xfrm flipV="1">
            <a:off x="2781000" y="4114080"/>
            <a:ext cx="289620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0"/>
            <a:endCxn id="162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4" idx="0"/>
            <a:endCxn id="164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6" idx="0"/>
            <a:endCxn id="166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endCxn id="160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/>
          <p:nvPr/>
        </p:nvCxnSpPr>
        <p:spPr>
          <a:xfrm>
            <a:off x="3048120" y="2133360"/>
            <a:ext cx="8388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2743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endCxn id="160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0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5" idx="1"/>
            <a:endCxn id="160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0"/>
            <a:endCxn id="164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" name=""/>
          <p:cNvCxnSpPr/>
          <p:nvPr/>
        </p:nvCxnSpPr>
        <p:spPr>
          <a:xfrm flipV="1" rot="10800000">
            <a:off x="56761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/>
          <p:nvPr/>
        </p:nvCxnSpPr>
        <p:spPr>
          <a:xfrm flipH="1" flipV="1">
            <a:off x="62478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243828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62" idx="2"/>
          </p:cNvCxnSpPr>
          <p:nvPr/>
        </p:nvCxnSpPr>
        <p:spPr>
          <a:xfrm flipV="1">
            <a:off x="2781000" y="4114080"/>
            <a:ext cx="289620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/>
          <p:nvPr/>
        </p:nvCxnSpPr>
        <p:spPr>
          <a:xfrm flipV="1" rot="10800000">
            <a:off x="74289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/>
          <p:nvPr/>
        </p:nvCxnSpPr>
        <p:spPr>
          <a:xfrm flipH="1" flipV="1">
            <a:off x="80002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327672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endCxn id="166" idx="2"/>
          </p:cNvCxnSpPr>
          <p:nvPr/>
        </p:nvCxnSpPr>
        <p:spPr>
          <a:xfrm flipV="1">
            <a:off x="3695760" y="4114080"/>
            <a:ext cx="369648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3429000" y="2133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ycle detected at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restore the l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saved pointer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7" idx="0"/>
            <a:endCxn id="197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9" idx="0"/>
            <a:endCxn id="199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0"/>
            <a:endCxn id="201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endCxn id="195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/>
          <p:nvPr/>
        </p:nvCxnSpPr>
        <p:spPr>
          <a:xfrm>
            <a:off x="3048120" y="2133360"/>
            <a:ext cx="8388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2743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endCxn id="195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5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10" idx="1"/>
            <a:endCxn id="195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0"/>
            <a:endCxn id="199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" name=""/>
          <p:cNvCxnSpPr/>
          <p:nvPr/>
        </p:nvCxnSpPr>
        <p:spPr>
          <a:xfrm flipV="1" rot="10800000">
            <a:off x="56761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/>
          <p:nvPr/>
        </p:nvCxnSpPr>
        <p:spPr>
          <a:xfrm flipH="1" flipV="1">
            <a:off x="62478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9" name=""/>
          <p:cNvSpPr/>
          <p:nvPr/>
        </p:nvSpPr>
        <p:spPr>
          <a:xfrm>
            <a:off x="243828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20" idx="0"/>
            <a:endCxn id="197" idx="2"/>
          </p:cNvCxnSpPr>
          <p:nvPr/>
        </p:nvCxnSpPr>
        <p:spPr>
          <a:xfrm flipV="1">
            <a:off x="2781000" y="4114080"/>
            <a:ext cx="289620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flipV="1" rot="10800000">
            <a:off x="74289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flipH="1" flipV="1">
            <a:off x="80002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327672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endCxn id="201" idx="2"/>
          </p:cNvCxnSpPr>
          <p:nvPr/>
        </p:nvCxnSpPr>
        <p:spPr>
          <a:xfrm flipV="1">
            <a:off x="3695760" y="4114080"/>
            <a:ext cx="369648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oring . . 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0"/>
            <a:endCxn id="231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0"/>
            <a:endCxn id="233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5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0"/>
            <a:endCxn id="235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endCxn id="229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40" idx="3"/>
            <a:endCxn id="235" idx="2"/>
          </p:cNvCxnSpPr>
          <p:nvPr/>
        </p:nvCxnSpPr>
        <p:spPr>
          <a:xfrm flipV="1">
            <a:off x="6781680" y="4114080"/>
            <a:ext cx="61056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6400800" y="5486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endCxn id="229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29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1"/>
            <a:endCxn id="229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7" idx="0"/>
            <a:endCxn id="233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/>
          <p:nvPr/>
        </p:nvCxnSpPr>
        <p:spPr>
          <a:xfrm flipV="1" rot="10800000">
            <a:off x="56761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/>
          <p:nvPr/>
        </p:nvCxnSpPr>
        <p:spPr>
          <a:xfrm flipH="1" flipV="1">
            <a:off x="62478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243828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54" idx="0"/>
            <a:endCxn id="231" idx="2"/>
          </p:cNvCxnSpPr>
          <p:nvPr/>
        </p:nvCxnSpPr>
        <p:spPr>
          <a:xfrm flipV="1">
            <a:off x="2781000" y="4114080"/>
            <a:ext cx="289620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oring . . 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2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62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64" idx="0"/>
            <a:endCxn id="264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6" idx="0"/>
            <a:endCxn id="266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8" name=""/>
          <p:cNvCxnSpPr>
            <a:endCxn id="260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endCxn id="262" idx="2"/>
          </p:cNvCxnSpPr>
          <p:nvPr/>
        </p:nvCxnSpPr>
        <p:spPr>
          <a:xfrm flipV="1">
            <a:off x="4952520" y="4114080"/>
            <a:ext cx="7246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457200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endCxn id="260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0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5" idx="1"/>
            <a:endCxn id="260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0"/>
            <a:endCxn id="264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" name=""/>
          <p:cNvCxnSpPr>
            <a:stCxn id="262" idx="3"/>
            <a:endCxn id="266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20:17:30Z</dcterms:created>
  <dc:creator>David R. Musser</dc:creator>
  <dc:description/>
  <dc:language>en-US</dc:language>
  <cp:lastModifiedBy>David R. Musser</cp:lastModifiedBy>
  <dcterms:modified xsi:type="dcterms:W3CDTF">1999-03-16T16:39:08Z</dcterms:modified>
  <cp:revision>13</cp:revision>
  <dc:subject/>
  <dc:title>Detecting a cycle </dc:title>
</cp:coreProperties>
</file>