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1F7-03B5-40B9-88DA-782BFA3B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5FC-60E7-4C5C-BC30-5B88C4BD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965-A762-42C1-A8A1-D305A448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07D-CC2F-4E80-BF72-1037DF8F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C7A-4053-443F-9392-7A1970A2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F1C-7EAE-4482-AA75-F8FFD66D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005-3D17-485C-A228-947ECCC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BF1-A9C1-45D2-994B-FCC9134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DD3-F086-4F47-8FED-6DE6B120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7F3-697B-4EE4-B94A-2E6138A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D7F-F1B0-4083-9C05-64C38724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E25-7B44-4C59-8DFC-37E6629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6B90-370B-4897-8D99-F4F5827D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4" idx="0"/>
            <a:endCxn id="44" idx="2"/>
          </p:cNvCxnSpPr>
          <p:nvPr/>
        </p:nvCxnSpPr>
        <p:spPr>
          <a:xfrm>
            <a:off x="567684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0"/>
            <a:endCxn id="46" idx="2"/>
          </p:cNvCxnSpPr>
          <p:nvPr/>
        </p:nvCxnSpPr>
        <p:spPr>
          <a:xfrm>
            <a:off x="384804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0"/>
            <a:endCxn id="48" idx="2"/>
          </p:cNvCxnSpPr>
          <p:nvPr/>
        </p:nvCxnSpPr>
        <p:spPr>
          <a:xfrm>
            <a:off x="739152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2" idx="3"/>
            <a:endCxn id="46" idx="1"/>
          </p:cNvCxnSpPr>
          <p:nvPr/>
        </p:nvCxnSpPr>
        <p:spPr>
          <a:xfrm>
            <a:off x="2666880" y="3695760"/>
            <a:ext cx="457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6" idx="3"/>
            <a:endCxn id="44" idx="1"/>
          </p:cNvCxnSpPr>
          <p:nvPr/>
        </p:nvCxnSpPr>
        <p:spPr>
          <a:xfrm>
            <a:off x="4572000" y="369576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4" idx="3"/>
            <a:endCxn id="48" idx="1"/>
          </p:cNvCxnSpPr>
          <p:nvPr/>
        </p:nvCxnSpPr>
        <p:spPr>
          <a:xfrm>
            <a:off x="6400800" y="3695760"/>
            <a:ext cx="267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2" idx="1"/>
          </p:cNvCxnSpPr>
          <p:nvPr/>
        </p:nvCxnSpPr>
        <p:spPr>
          <a:xfrm>
            <a:off x="609480" y="3657600"/>
            <a:ext cx="6102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6" idx="0"/>
          </p:cNvCxnSpPr>
          <p:nvPr/>
        </p:nvCxnSpPr>
        <p:spPr>
          <a:xfrm rot="5400000">
            <a:off x="4324320" y="1886040"/>
            <a:ext cx="914760" cy="1867320"/>
          </a:xfrm>
          <a:prstGeom prst="curvedConnector3">
            <a:avLst>
              <a:gd name="adj1" fmla="val 24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3">
            <a:avLst>
              <a:gd name="adj1" fmla="val -8202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9" idx="0"/>
            <a:endCxn id="289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1" idx="0"/>
            <a:endCxn id="291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3" idx="0"/>
            <a:endCxn id="293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endCxn id="287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/>
          <p:nvPr/>
        </p:nvCxnSpPr>
        <p:spPr>
          <a:xfrm flipV="1">
            <a:off x="312372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27432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87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7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1"/>
            <a:endCxn id="287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89" idx="3"/>
            <a:endCxn id="293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1" idx="3"/>
            <a:endCxn id="289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0"/>
            <a:endCxn id="31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0"/>
            <a:endCxn id="31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0"/>
            <a:endCxn id="31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endCxn id="31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/>
          <p:nvPr/>
        </p:nvCxnSpPr>
        <p:spPr>
          <a:xfrm flipV="1">
            <a:off x="121896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838080" y="5562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2" idx="3"/>
            <a:endCxn id="31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14" idx="3"/>
            <a:endCxn id="312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0" idx="3"/>
            <a:endCxn id="314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ed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0"/>
            <a:endCxn id="3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5" idx="0"/>
            <a:endCxn id="3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endCxn id="3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1" idx="3"/>
            <a:endCxn id="335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3" idx="3"/>
            <a:endCxn id="331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29" idx="3"/>
            <a:endCxn id="333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0"/>
            <a:endCxn id="348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50" idx="0"/>
            <a:endCxn id="350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2" idx="0"/>
            <a:endCxn id="352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endCxn id="346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48" idx="3"/>
            <a:endCxn id="352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0" idx="3"/>
            <a:endCxn id="348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6" idx="3"/>
            <a:endCxn id="350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0"/>
            <a:endCxn id="365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7" idx="0"/>
            <a:endCxn id="367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0"/>
            <a:endCxn id="369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endCxn id="363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endCxn id="363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3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1"/>
            <a:endCxn id="363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67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0"/>
            <a:endCxn id="365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endCxn id="369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6920" y="5562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for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1600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400" idx="0"/>
            <a:endCxn id="40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0"/>
            <a:endCxn id="40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4" idx="0"/>
            <a:endCxn id="40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8" idx="3"/>
            <a:endCxn id="40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2" idx="3"/>
            <a:endCxn id="40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0" idx="3"/>
            <a:endCxn id="40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endCxn id="39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endCxn id="40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"/>
          <p:cNvCxnSpPr>
            <a:endCxn id="398" idx="2"/>
          </p:cNvCxnSpPr>
          <p:nvPr/>
        </p:nvCxnSpPr>
        <p:spPr>
          <a:xfrm flipV="1">
            <a:off x="10663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endCxn id="39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639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2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  <a:endCxn id="42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4" idx="0"/>
            <a:endCxn id="42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18" idx="3"/>
            <a:endCxn id="42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2" idx="3"/>
            <a:endCxn id="42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endCxn id="41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/>
          <p:nvPr/>
        </p:nvCxnSpPr>
        <p:spPr>
          <a:xfrm flipV="1">
            <a:off x="2971800" y="4114080"/>
            <a:ext cx="876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endCxn id="41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8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40" idx="0"/>
            <a:endCxn id="44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4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8" idx="3"/>
            <a:endCxn id="44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2" idx="3"/>
            <a:endCxn id="44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0" idx="3"/>
            <a:endCxn id="44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endCxn id="43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4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/>
          <p:nvPr/>
        </p:nvCxnSpPr>
        <p:spPr>
          <a:xfrm flipV="1">
            <a:off x="47239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endCxn id="43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1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0"/>
            <a:endCxn id="4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4" idx="0"/>
            <a:endCxn id="4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3"/>
            <a:endCxn id="4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2" idx="3"/>
            <a:endCxn id="4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0" idx="3"/>
            <a:endCxn id="4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endCxn id="4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endCxn id="4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/>
          <p:nvPr/>
        </p:nvCxnSpPr>
        <p:spPr>
          <a:xfrm flipV="1">
            <a:off x="47239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21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  <a:endCxn id="48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0"/>
            <a:endCxn id="48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0"/>
            <a:endCxn id="48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78" idx="3"/>
            <a:endCxn id="48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2" idx="3"/>
            <a:endCxn id="48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0" idx="3"/>
            <a:endCxn id="48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endCxn id="47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endCxn id="48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3" name=""/>
          <p:cNvCxnSpPr/>
          <p:nvPr/>
        </p:nvCxnSpPr>
        <p:spPr>
          <a:xfrm flipV="1">
            <a:off x="65527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0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0"/>
            <a:endCxn id="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0"/>
            <a:endCxn id="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8" idx="3"/>
            <a:endCxn id="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3"/>
            <a:endCxn id="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/>
          <p:nvPr/>
        </p:nvCxnSpPr>
        <p:spPr>
          <a:xfrm flipV="1">
            <a:off x="456840" y="4114080"/>
            <a:ext cx="801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049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2" idx="0"/>
            <a:endCxn id="50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4" idx="0"/>
            <a:endCxn id="50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8" idx="3"/>
            <a:endCxn id="50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2" idx="3"/>
            <a:endCxn id="50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0" idx="3"/>
            <a:endCxn id="50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endCxn id="49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endCxn id="50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endCxn id="502" idx="0"/>
          </p:cNvCxnSpPr>
          <p:nvPr/>
        </p:nvCxnSpPr>
        <p:spPr>
          <a:xfrm>
            <a:off x="2895480" y="2286000"/>
            <a:ext cx="9532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22" idx="0"/>
            <a:endCxn id="52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4" idx="0"/>
            <a:endCxn id="52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18" idx="3"/>
            <a:endCxn id="52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2" idx="3"/>
            <a:endCxn id="52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3"/>
            <a:endCxn id="52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endCxn id="51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endCxn id="52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endCxn id="522" idx="0"/>
          </p:cNvCxnSpPr>
          <p:nvPr/>
        </p:nvCxnSpPr>
        <p:spPr>
          <a:xfrm>
            <a:off x="2895480" y="2286000"/>
            <a:ext cx="9532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146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40" idx="0"/>
            <a:endCxn id="54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2" idx="0"/>
            <a:endCxn id="54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44" idx="0"/>
            <a:endCxn id="54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38" idx="3"/>
            <a:endCxn id="54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2" idx="3"/>
            <a:endCxn id="54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0" idx="3"/>
            <a:endCxn id="54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endCxn id="53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endCxn id="54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endCxn id="540" idx="2"/>
          </p:cNvCxnSpPr>
          <p:nvPr/>
        </p:nvCxnSpPr>
        <p:spPr>
          <a:xfrm flipV="1">
            <a:off x="4343400" y="4114440"/>
            <a:ext cx="13341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06800" y="48006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62" idx="0"/>
            <a:endCxn id="5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0"/>
            <a:endCxn id="5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8" idx="3"/>
            <a:endCxn id="5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62" idx="3"/>
            <a:endCxn id="5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0" idx="3"/>
            <a:endCxn id="5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endCxn id="5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endCxn id="5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/>
          <p:nvPr/>
        </p:nvCxnSpPr>
        <p:spPr>
          <a:xfrm flipV="1">
            <a:off x="6095520" y="4114440"/>
            <a:ext cx="1334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4952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80" idx="0"/>
            <a:endCxn id="58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0"/>
            <a:endCxn id="58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4" idx="0"/>
            <a:endCxn id="58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" name=""/>
          <p:cNvCxnSpPr>
            <a:stCxn id="578" idx="3"/>
            <a:endCxn id="58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2" idx="3"/>
            <a:endCxn id="58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0" idx="3"/>
            <a:endCxn id="58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endCxn id="57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endCxn id="58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/>
          <p:nvPr/>
        </p:nvCxnSpPr>
        <p:spPr>
          <a:xfrm flipV="1">
            <a:off x="6095520" y="4114440"/>
            <a:ext cx="1334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/>
          <p:nvPr/>
        </p:nvCxnSpPr>
        <p:spPr>
          <a:xfrm flipV="1">
            <a:off x="70862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6843960" y="522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4952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58720" y="48420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602" idx="0"/>
            <a:endCxn id="60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4" idx="0"/>
            <a:endCxn id="60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endCxn id="60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3"/>
            <a:endCxn id="60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04" idx="3"/>
            <a:endCxn id="602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600" idx="3"/>
            <a:endCxn id="604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18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62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0"/>
            <a:endCxn id="79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0"/>
            <a:endCxn id="81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0"/>
            <a:endCxn id="83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9" idx="3"/>
            <a:endCxn id="83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endCxn id="77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endCxn id="81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 flipV="1">
            <a:off x="2362320" y="4114080"/>
            <a:ext cx="800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77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1"/>
            <a:endCxn id="77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09480" y="61722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79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006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862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55308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060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4038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8148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96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562720" y="5029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9920" y="5029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477120" y="4952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2428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010280" y="4648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7200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315200" y="43434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0"/>
            <a:endCxn id="103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105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7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03" idx="3"/>
            <a:endCxn id="107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endCxn id="101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5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7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 flipV="1">
            <a:off x="4191120" y="4114080"/>
            <a:ext cx="800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0384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endCxn id="101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1"/>
            <a:endCxn id="101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05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60400" y="63244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4038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5257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67480" y="3581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91520" y="3200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77240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086600" y="2895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96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705720" y="2666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24480" y="25146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1320" y="2590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048120" y="22096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72000" y="182880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9" name=""/>
          <p:cNvCxnSpPr/>
          <p:nvPr/>
        </p:nvCxnSpPr>
        <p:spPr>
          <a:xfrm>
            <a:off x="1828800" y="457164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1828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86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6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2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248520" y="4495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934320" y="41911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3809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2940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5308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95880" y="1752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34320" y="21337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8640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029200" y="2133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2428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572000" y="3429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724280" y="3886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05520" y="42670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562720" y="1981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182880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4" name=""/>
          <p:cNvCxnSpPr/>
          <p:nvPr/>
        </p:nvCxnSpPr>
        <p:spPr>
          <a:xfrm>
            <a:off x="1828800" y="457164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5" name=""/>
          <p:cNvSpPr/>
          <p:nvPr/>
        </p:nvSpPr>
        <p:spPr>
          <a:xfrm>
            <a:off x="1828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286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432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6576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572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341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913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248520" y="4495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934320" y="41911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3809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2940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55308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095880" y="1752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934320" y="21337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8640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29200" y="2133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72428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0" y="3429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24280" y="3886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05520" y="42670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1008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62720" y="1981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1" idx="0"/>
            <a:endCxn id="1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0"/>
            <a:endCxn id="1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0"/>
            <a:endCxn id="1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endCxn id="1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endCxn id="133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 flipV="1">
            <a:off x="5866920" y="4114080"/>
            <a:ext cx="801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71500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endCxn id="129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29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0"/>
            <a:endCxn id="133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0"/>
            <a:endCxn id="131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0"/>
            <a:endCxn id="16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0"/>
            <a:endCxn id="16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0"/>
            <a:endCxn id="16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endCxn id="16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endCxn id="160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0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5" idx="1"/>
            <a:endCxn id="160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64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62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endCxn id="166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42900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 a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restore the l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aved pointe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0"/>
            <a:endCxn id="197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0"/>
            <a:endCxn id="199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201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endCxn id="195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endCxn id="195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5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1"/>
            <a:endCxn id="195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0"/>
            <a:endCxn id="199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0"/>
            <a:endCxn id="197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endCxn id="201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0"/>
            <a:endCxn id="2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endCxn id="2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3"/>
            <a:endCxn id="235" idx="2"/>
          </p:cNvCxnSpPr>
          <p:nvPr/>
        </p:nvCxnSpPr>
        <p:spPr>
          <a:xfrm flipV="1">
            <a:off x="6781680" y="4114080"/>
            <a:ext cx="61056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400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endCxn id="229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9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1"/>
            <a:endCxn id="229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0"/>
            <a:endCxn id="233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4" idx="0"/>
            <a:endCxn id="231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6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4" idx="0"/>
            <a:endCxn id="26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0"/>
            <a:endCxn id="26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endCxn id="26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endCxn id="262" idx="2"/>
          </p:cNvCxnSpPr>
          <p:nvPr/>
        </p:nvCxnSpPr>
        <p:spPr>
          <a:xfrm flipV="1">
            <a:off x="495252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4572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endCxn id="260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0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1"/>
            <a:endCxn id="260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0"/>
            <a:endCxn id="264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62" idx="3"/>
            <a:endCxn id="26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20:17:30Z</dcterms:created>
  <dc:creator>David R. Musser</dc:creator>
  <dc:description/>
  <dc:language>en-US</dc:language>
  <cp:lastModifiedBy>David R. Musser</cp:lastModifiedBy>
  <dcterms:modified xsi:type="dcterms:W3CDTF">1999-03-16T16:39:08Z</dcterms:modified>
  <cp:revision>13</cp:revision>
  <dc:subject/>
  <dc:title>Detecting a cycle </dc:title>
</cp:coreProperties>
</file>