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BB7-6391-42C4-93C6-4D42F9E2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BBA-5070-4806-B545-580E22F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06A-F3DF-4665-894C-526F3C9D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BAA2-3B9E-48DA-8354-B7CBB1C6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D31-4B68-45E2-B48A-2FE8CF27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1DB-5D4D-448B-B6D0-A8E43C8F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A90-CBE6-4641-BB3E-890F2D8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E31E-C46F-4CAB-904B-2675AF66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B351-1286-4F7D-AD94-E8C8AC0A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44E-6807-4403-8BF0-08E41A93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38B-9715-43E6-9809-D8270D4A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00E-8224-4556-8D87-33D4043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D5C9-6664-4B3E-9A6C-E8312D01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" name=""/>
          <p:cNvCxnSpPr>
            <a:stCxn id="44" idx="0"/>
            <a:endCxn id="44" idx="2"/>
          </p:cNvCxnSpPr>
          <p:nvPr/>
        </p:nvCxnSpPr>
        <p:spPr>
          <a:xfrm>
            <a:off x="56768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6" idx="0"/>
            <a:endCxn id="46" idx="2"/>
          </p:cNvCxnSpPr>
          <p:nvPr/>
        </p:nvCxnSpPr>
        <p:spPr>
          <a:xfrm>
            <a:off x="384804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>
            <a:stCxn id="48" idx="0"/>
            <a:endCxn id="48" idx="2"/>
          </p:cNvCxnSpPr>
          <p:nvPr/>
        </p:nvCxnSpPr>
        <p:spPr>
          <a:xfrm>
            <a:off x="7391520" y="3276720"/>
            <a:ext cx="3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2" idx="3"/>
            <a:endCxn id="46" idx="1"/>
          </p:cNvCxnSpPr>
          <p:nvPr/>
        </p:nvCxnSpPr>
        <p:spPr>
          <a:xfrm>
            <a:off x="2666880" y="3695760"/>
            <a:ext cx="4575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6" idx="3"/>
            <a:endCxn id="44" idx="1"/>
          </p:cNvCxnSpPr>
          <p:nvPr/>
        </p:nvCxnSpPr>
        <p:spPr>
          <a:xfrm>
            <a:off x="4572000" y="369576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4" idx="3"/>
            <a:endCxn id="48" idx="1"/>
          </p:cNvCxnSpPr>
          <p:nvPr/>
        </p:nvCxnSpPr>
        <p:spPr>
          <a:xfrm>
            <a:off x="6400800" y="3695760"/>
            <a:ext cx="267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endCxn id="42" idx="1"/>
          </p:cNvCxnSpPr>
          <p:nvPr/>
        </p:nvCxnSpPr>
        <p:spPr>
          <a:xfrm>
            <a:off x="609480" y="3657600"/>
            <a:ext cx="610200" cy="3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6" idx="0"/>
          </p:cNvCxnSpPr>
          <p:nvPr/>
        </p:nvCxnSpPr>
        <p:spPr>
          <a:xfrm rot="5400000">
            <a:off x="4324320" y="1886040"/>
            <a:ext cx="914760" cy="1867320"/>
          </a:xfrm>
          <a:prstGeom prst="curvedConnector3">
            <a:avLst>
              <a:gd name="adj1" fmla="val 246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3">
            <a:avLst>
              <a:gd name="adj1" fmla="val -8202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89" idx="0"/>
            <a:endCxn id="28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1" idx="0"/>
            <a:endCxn id="29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93" idx="0"/>
            <a:endCxn id="29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5" name=""/>
          <p:cNvCxnSpPr>
            <a:endCxn id="28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"/>
          <p:cNvCxnSpPr/>
          <p:nvPr/>
        </p:nvCxnSpPr>
        <p:spPr>
          <a:xfrm flipV="1">
            <a:off x="31237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27432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9" name=""/>
          <p:cNvCxnSpPr>
            <a:endCxn id="28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2" idx="1"/>
            <a:endCxn id="28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89" idx="3"/>
            <a:endCxn id="29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7" name=""/>
          <p:cNvCxnSpPr>
            <a:stCxn id="291" idx="3"/>
            <a:endCxn id="28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0"/>
            <a:endCxn id="31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14" idx="0"/>
            <a:endCxn id="31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16" idx="0"/>
            <a:endCxn id="31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8" name=""/>
          <p:cNvCxnSpPr>
            <a:endCxn id="31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/>
          <p:nvPr/>
        </p:nvCxnSpPr>
        <p:spPr>
          <a:xfrm flipV="1">
            <a:off x="121896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>
            <a:off x="838080" y="5562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12" idx="3"/>
            <a:endCxn id="31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314" idx="3"/>
            <a:endCxn id="31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10" idx="3"/>
            <a:endCxn id="31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ed!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0"/>
            <a:endCxn id="3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33" idx="0"/>
            <a:endCxn id="3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35" idx="0"/>
            <a:endCxn id="3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" name=""/>
          <p:cNvCxnSpPr>
            <a:endCxn id="3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1" name=""/>
          <p:cNvCxnSpPr>
            <a:stCxn id="331" idx="3"/>
            <a:endCxn id="335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3" idx="3"/>
            <a:endCxn id="331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29" idx="3"/>
            <a:endCxn id="333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8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9" name=""/>
          <p:cNvCxnSpPr>
            <a:stCxn id="348" idx="0"/>
            <a:endCxn id="348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0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50" idx="0"/>
            <a:endCxn id="350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52" idx="0"/>
            <a:endCxn id="352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endCxn id="346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5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8" name=""/>
          <p:cNvCxnSpPr>
            <a:stCxn id="348" idx="3"/>
            <a:endCxn id="352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0" idx="3"/>
            <a:endCxn id="348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46" idx="3"/>
            <a:endCxn id="350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6" name=""/>
          <p:cNvCxnSpPr>
            <a:stCxn id="365" idx="0"/>
            <a:endCxn id="365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7" idx="0"/>
            <a:endCxn id="367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9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9" idx="0"/>
            <a:endCxn id="369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1" name=""/>
          <p:cNvCxnSpPr>
            <a:endCxn id="363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3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endCxn id="363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3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8" idx="1"/>
            <a:endCxn id="363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81" idx="0"/>
            <a:endCxn id="367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87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8" idx="0"/>
            <a:endCxn id="365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0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1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2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4" name=""/>
          <p:cNvCxnSpPr>
            <a:endCxn id="369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5" name=""/>
          <p:cNvSpPr/>
          <p:nvPr/>
        </p:nvSpPr>
        <p:spPr>
          <a:xfrm>
            <a:off x="487692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 for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00600" y="1600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400" idx="0"/>
            <a:endCxn id="4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0"/>
            <a:endCxn id="4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404" idx="0"/>
            <a:endCxn id="4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8" idx="3"/>
            <a:endCxn id="4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2" idx="3"/>
            <a:endCxn id="4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0" idx="3"/>
            <a:endCxn id="4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endCxn id="3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endCxn id="4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4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3" name=""/>
          <p:cNvCxnSpPr>
            <a:endCxn id="398" idx="2"/>
          </p:cNvCxnSpPr>
          <p:nvPr/>
        </p:nvCxnSpPr>
        <p:spPr>
          <a:xfrm flipV="1">
            <a:off x="10663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endCxn id="39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639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  <a:endCxn id="4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4" idx="0"/>
            <a:endCxn id="4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"/>
          <p:cNvCxnSpPr>
            <a:stCxn id="418" idx="3"/>
            <a:endCxn id="4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2" idx="3"/>
            <a:endCxn id="4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endCxn id="4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3" name=""/>
          <p:cNvCxnSpPr/>
          <p:nvPr/>
        </p:nvCxnSpPr>
        <p:spPr>
          <a:xfrm flipV="1">
            <a:off x="2971800" y="4114080"/>
            <a:ext cx="8769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endCxn id="41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68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40" idx="0"/>
            <a:endCxn id="4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2" idx="0"/>
            <a:endCxn id="4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0"/>
            <a:endCxn id="4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stCxn id="438" idx="3"/>
            <a:endCxn id="4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42" idx="3"/>
            <a:endCxn id="4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40" idx="3"/>
            <a:endCxn id="4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endCxn id="4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endCxn id="4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endCxn id="438" idx="2"/>
          </p:cNvCxnSpPr>
          <p:nvPr/>
        </p:nvCxnSpPr>
        <p:spPr>
          <a:xfrm flipV="1">
            <a:off x="15998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143352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60" idx="0"/>
            <a:endCxn id="4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62" idx="0"/>
            <a:endCxn id="4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4" idx="0"/>
            <a:endCxn id="4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6" name=""/>
          <p:cNvCxnSpPr>
            <a:stCxn id="458" idx="3"/>
            <a:endCxn id="4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2" idx="3"/>
            <a:endCxn id="4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>
            <a:stCxn id="460" idx="3"/>
            <a:endCxn id="4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9" name=""/>
          <p:cNvCxnSpPr>
            <a:endCxn id="4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1" name=""/>
          <p:cNvCxnSpPr>
            <a:endCxn id="4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/>
          <p:nvPr/>
        </p:nvCxnSpPr>
        <p:spPr>
          <a:xfrm flipV="1">
            <a:off x="47239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215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0"/>
            <a:endCxn id="4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82" idx="0"/>
            <a:endCxn id="4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5" name=""/>
          <p:cNvCxnSpPr>
            <a:stCxn id="484" idx="0"/>
            <a:endCxn id="4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6" name=""/>
          <p:cNvCxnSpPr>
            <a:stCxn id="478" idx="3"/>
            <a:endCxn id="4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"/>
          <p:cNvCxnSpPr>
            <a:stCxn id="482" idx="3"/>
            <a:endCxn id="4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8" name=""/>
          <p:cNvCxnSpPr>
            <a:stCxn id="480" idx="3"/>
            <a:endCxn id="4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9" name=""/>
          <p:cNvCxnSpPr>
            <a:endCxn id="4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1" name=""/>
          <p:cNvCxnSpPr>
            <a:endCxn id="4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2" name=""/>
          <p:cNvCxnSpPr>
            <a:stCxn id="4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3" name=""/>
          <p:cNvCxnSpPr/>
          <p:nvPr/>
        </p:nvCxnSpPr>
        <p:spPr>
          <a:xfrm flipV="1">
            <a:off x="6552720" y="4114080"/>
            <a:ext cx="8773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0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0"/>
            <a:endCxn id="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0"/>
            <a:endCxn id="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8" idx="3"/>
            <a:endCxn id="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3"/>
            <a:endCxn id="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0" idx="3"/>
            <a:endCxn id="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endCxn id="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" name=""/>
          <p:cNvCxnSpPr/>
          <p:nvPr/>
        </p:nvCxnSpPr>
        <p:spPr>
          <a:xfrm flipV="1">
            <a:off x="45684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30492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500" idx="0"/>
            <a:endCxn id="50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3" name=""/>
          <p:cNvCxnSpPr>
            <a:stCxn id="502" idx="0"/>
            <a:endCxn id="50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504" idx="0"/>
            <a:endCxn id="50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98" idx="3"/>
            <a:endCxn id="50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502" idx="3"/>
            <a:endCxn id="50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500" idx="3"/>
            <a:endCxn id="50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9" name=""/>
          <p:cNvCxnSpPr>
            <a:endCxn id="49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endCxn id="50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"/>
          <p:cNvCxnSpPr>
            <a:endCxn id="50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/>
          <p:nvPr/>
        </p:nvCxnSpPr>
        <p:spPr>
          <a:xfrm flipV="1">
            <a:off x="35053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33386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20" idx="0"/>
            <a:endCxn id="52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22" idx="0"/>
            <a:endCxn id="52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5" name=""/>
          <p:cNvCxnSpPr>
            <a:stCxn id="524" idx="0"/>
            <a:endCxn id="52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6" name=""/>
          <p:cNvCxnSpPr>
            <a:stCxn id="518" idx="3"/>
            <a:endCxn id="52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2" idx="3"/>
            <a:endCxn id="52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stCxn id="520" idx="3"/>
            <a:endCxn id="52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endCxn id="51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endCxn id="52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>
            <a:stCxn id="52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endCxn id="522" idx="0"/>
          </p:cNvCxnSpPr>
          <p:nvPr/>
        </p:nvCxnSpPr>
        <p:spPr>
          <a:xfrm>
            <a:off x="2895480" y="2286000"/>
            <a:ext cx="95328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14600" y="198108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40" idx="0"/>
            <a:endCxn id="54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2" idx="0"/>
            <a:endCxn id="54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5" name=""/>
          <p:cNvCxnSpPr>
            <a:stCxn id="544" idx="0"/>
            <a:endCxn id="54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38" idx="3"/>
            <a:endCxn id="54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2" idx="3"/>
            <a:endCxn id="54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8" name=""/>
          <p:cNvCxnSpPr>
            <a:stCxn id="540" idx="3"/>
            <a:endCxn id="54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9" name=""/>
          <p:cNvCxnSpPr>
            <a:endCxn id="53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endCxn id="54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endCxn id="540" idx="2"/>
          </p:cNvCxnSpPr>
          <p:nvPr/>
        </p:nvCxnSpPr>
        <p:spPr>
          <a:xfrm flipV="1">
            <a:off x="4343400" y="4114440"/>
            <a:ext cx="133416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006800" y="480060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0" idx="0"/>
            <a:endCxn id="56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62" idx="0"/>
            <a:endCxn id="56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4" idx="0"/>
            <a:endCxn id="56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58" idx="3"/>
            <a:endCxn id="56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>
            <a:stCxn id="562" idx="3"/>
            <a:endCxn id="56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60" idx="3"/>
            <a:endCxn id="56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9" name=""/>
          <p:cNvCxnSpPr>
            <a:endCxn id="55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1" name=""/>
          <p:cNvCxnSpPr>
            <a:endCxn id="56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2" name=""/>
          <p:cNvCxnSpPr>
            <a:stCxn id="56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/>
          <p:nvPr/>
        </p:nvCxnSpPr>
        <p:spPr>
          <a:xfrm flipV="1">
            <a:off x="5334120" y="4114440"/>
            <a:ext cx="34344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5" name=""/>
          <p:cNvSpPr/>
          <p:nvPr/>
        </p:nvSpPr>
        <p:spPr>
          <a:xfrm>
            <a:off x="516744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two-speed point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0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80" idx="0"/>
            <a:endCxn id="580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2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82" idx="0"/>
            <a:endCxn id="582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4" idx="0"/>
            <a:endCxn id="584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6" name=""/>
          <p:cNvCxnSpPr>
            <a:stCxn id="578" idx="3"/>
            <a:endCxn id="582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7" name=""/>
          <p:cNvCxnSpPr>
            <a:stCxn id="582" idx="3"/>
            <a:endCxn id="580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"/>
          <p:cNvCxnSpPr>
            <a:stCxn id="580" idx="3"/>
            <a:endCxn id="584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endCxn id="578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0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endCxn id="582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2" name=""/>
          <p:cNvCxnSpPr>
            <a:stCxn id="584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3" name=""/>
          <p:cNvCxnSpPr/>
          <p:nvPr/>
        </p:nvCxnSpPr>
        <p:spPr>
          <a:xfrm flipV="1">
            <a:off x="6095520" y="4114440"/>
            <a:ext cx="133452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"/>
          <p:cNvCxnSpPr/>
          <p:nvPr/>
        </p:nvCxnSpPr>
        <p:spPr>
          <a:xfrm flipV="1">
            <a:off x="7086240" y="4114440"/>
            <a:ext cx="343800" cy="99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"/>
          <p:cNvSpPr/>
          <p:nvPr/>
        </p:nvSpPr>
        <p:spPr>
          <a:xfrm>
            <a:off x="6843960" y="522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15000" y="49528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258720" y="48420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602" idx="0"/>
            <a:endCxn id="60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4" idx="0"/>
            <a:endCxn id="60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8" name=""/>
          <p:cNvCxnSpPr>
            <a:endCxn id="60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0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1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3"/>
            <a:endCxn id="60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04" idx="3"/>
            <a:endCxn id="602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4" name=""/>
          <p:cNvCxnSpPr>
            <a:stCxn id="600" idx="3"/>
            <a:endCxn id="604" idx="1"/>
          </p:cNvCxnSpPr>
          <p:nvPr/>
        </p:nvCxnSpPr>
        <p:spPr>
          <a:xfrm>
            <a:off x="2666880" y="369540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1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4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574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7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718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46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862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718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9" idx="0"/>
            <a:endCxn id="79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81" idx="0"/>
            <a:endCxn id="81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0"/>
            <a:endCxn id="83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79" idx="3"/>
            <a:endCxn id="83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endCxn id="77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endCxn id="81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/>
          <p:nvPr/>
        </p:nvCxnSpPr>
        <p:spPr>
          <a:xfrm flipV="1">
            <a:off x="23623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2096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77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7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5" idx="1"/>
            <a:endCxn id="77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609480" y="617220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79" idx="1"/>
          </p:cNvCxnSpPr>
          <p:nvPr/>
        </p:nvCxnSpPr>
        <p:spPr>
          <a:xfrm>
            <a:off x="4572000" y="36954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800600" y="54100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4290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562720" y="54100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8862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553080" y="5334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343400" y="49528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80060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7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848720" y="4038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81480" y="50292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55627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3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019920" y="50292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638680" y="22096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477120" y="4952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724280" y="2971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010280" y="4648320"/>
            <a:ext cx="7632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20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315200" y="43434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3" idx="0"/>
            <a:endCxn id="103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0"/>
            <a:endCxn id="105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7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" name=""/>
          <p:cNvCxnSpPr>
            <a:stCxn id="103" idx="3"/>
            <a:endCxn id="107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endCxn id="101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endCxn id="105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7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/>
          <p:nvPr/>
        </p:nvCxnSpPr>
        <p:spPr>
          <a:xfrm flipV="1">
            <a:off x="4191120" y="4114080"/>
            <a:ext cx="80064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038480" y="4800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endCxn id="101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1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1"/>
            <a:endCxn id="101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05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860400" y="6324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18148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467480" y="4038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553080" y="52578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67480" y="35812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6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7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315200" y="4952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391520" y="320040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8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772400" y="4038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86600" y="289548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0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1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696080" y="30481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705720" y="26668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2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3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5800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324480" y="25146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800600" y="243828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4" name=""/>
          <p:cNvCxnSpPr/>
          <p:nvPr/>
        </p:nvCxnSpPr>
        <p:spPr>
          <a:xfrm>
            <a:off x="2057400" y="518112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5" name=""/>
          <p:cNvSpPr/>
          <p:nvPr/>
        </p:nvSpPr>
        <p:spPr>
          <a:xfrm>
            <a:off x="2057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14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9718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34290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8862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3434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80060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181480" y="5181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5627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019920" y="5181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77120" y="51055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48006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46748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858000" y="5029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620120" y="40384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620120" y="35812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324480" y="2362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1629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715000" y="2438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57800" y="2743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31240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800600" y="35812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800600" y="4038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952880" y="44956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334120" y="48769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638680" y="2286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1320" y="2590920"/>
            <a:ext cx="75960" cy="75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048120" y="220968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838080" y="914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-speed metho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arger example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9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uch time and space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066680" y="5105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562720" y="5029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1828800"/>
            <a:ext cx="2895480" cy="2743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4" name=""/>
          <p:cNvCxnSpPr/>
          <p:nvPr/>
        </p:nvCxnSpPr>
        <p:spPr>
          <a:xfrm>
            <a:off x="1828800" y="4571640"/>
            <a:ext cx="419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5" name=""/>
          <p:cNvSpPr/>
          <p:nvPr/>
        </p:nvSpPr>
        <p:spPr>
          <a:xfrm>
            <a:off x="1828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286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7432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6576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57200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341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791320" y="4572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248520" y="44956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934320" y="41911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238880" y="38098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29400" y="4419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391520" y="3429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391520" y="29718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31520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55308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095880" y="175248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934320" y="21337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86400" y="1828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029200" y="2133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724280" y="2514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57200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3429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724280" y="38862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105520" y="426708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410080" y="1676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562720" y="1981080"/>
            <a:ext cx="75960" cy="76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31" idx="0"/>
            <a:endCxn id="1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3" idx="0"/>
            <a:endCxn id="1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0"/>
            <a:endCxn id="1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endCxn id="1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endCxn id="133" idx="0"/>
          </p:cNvCxnSpPr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3"/>
          </p:cNvCxnSpPr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/>
          <p:nvPr/>
        </p:nvCxnSpPr>
        <p:spPr>
          <a:xfrm flipV="1">
            <a:off x="5866920" y="4114080"/>
            <a:ext cx="8010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715000" y="4800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endCxn id="1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0"/>
            <a:endCxn id="1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56" idx="0"/>
            <a:endCxn id="1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ng a cyc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0"/>
            <a:endCxn id="1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4" idx="0"/>
            <a:endCxn id="1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6" idx="0"/>
            <a:endCxn id="1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endCxn id="1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endCxn id="1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5" idx="1"/>
            <a:endCxn id="1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8" idx="0"/>
            <a:endCxn id="1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5" idx="0"/>
            <a:endCxn id="162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endCxn id="166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429000" y="21337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ycle detected at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restore the li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saved pointe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7" idx="0"/>
            <a:endCxn id="197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9" idx="0"/>
            <a:endCxn id="199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0"/>
            <a:endCxn id="201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endCxn id="195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/>
          <p:nvPr/>
        </p:nvCxnSpPr>
        <p:spPr>
          <a:xfrm>
            <a:off x="3048120" y="2133360"/>
            <a:ext cx="838800" cy="106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2743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endCxn id="195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5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10" idx="1"/>
            <a:endCxn id="195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3" idx="0"/>
            <a:endCxn id="199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20" idx="0"/>
            <a:endCxn id="197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0800000">
            <a:off x="74289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H="1" flipV="1">
            <a:off x="80002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327672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576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endCxn id="201" idx="2"/>
          </p:cNvCxnSpPr>
          <p:nvPr/>
        </p:nvCxnSpPr>
        <p:spPr>
          <a:xfrm flipV="1">
            <a:off x="3695760" y="4114080"/>
            <a:ext cx="3696480" cy="163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1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0"/>
            <a:endCxn id="233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5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endCxn id="229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40" idx="3"/>
            <a:endCxn id="235" idx="2"/>
          </p:cNvCxnSpPr>
          <p:nvPr/>
        </p:nvCxnSpPr>
        <p:spPr>
          <a:xfrm flipV="1">
            <a:off x="6781680" y="4114080"/>
            <a:ext cx="61056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400800" y="548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endCxn id="229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29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1"/>
            <a:endCxn id="229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7" idx="0"/>
            <a:endCxn id="233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/>
          <p:nvPr/>
        </p:nvCxnSpPr>
        <p:spPr>
          <a:xfrm flipV="1" rot="10800000">
            <a:off x="56761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/>
          <p:nvPr/>
        </p:nvCxnSpPr>
        <p:spPr>
          <a:xfrm flipH="1" flipV="1">
            <a:off x="62478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243828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74320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4" idx="0"/>
            <a:endCxn id="231" idx="2"/>
          </p:cNvCxnSpPr>
          <p:nvPr/>
        </p:nvCxnSpPr>
        <p:spPr>
          <a:xfrm flipV="1">
            <a:off x="2781000" y="4114080"/>
            <a:ext cx="289620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oring . . .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19320" y="3276720"/>
            <a:ext cx="144756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1" name=""/>
          <p:cNvCxnSpPr/>
          <p:nvPr/>
        </p:nvCxnSpPr>
        <p:spPr>
          <a:xfrm>
            <a:off x="19047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49528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0"/>
            <a:endCxn id="262" idx="2"/>
          </p:cNvCxnSpPr>
          <p:nvPr/>
        </p:nvCxnSpPr>
        <p:spPr>
          <a:xfrm>
            <a:off x="56764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312408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4" idx="0"/>
            <a:endCxn id="264" idx="2"/>
          </p:cNvCxnSpPr>
          <p:nvPr/>
        </p:nvCxnSpPr>
        <p:spPr>
          <a:xfrm>
            <a:off x="384768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6" name=""/>
          <p:cNvSpPr/>
          <p:nvPr/>
        </p:nvSpPr>
        <p:spPr>
          <a:xfrm>
            <a:off x="6667560" y="3276720"/>
            <a:ext cx="144792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6" idx="0"/>
            <a:endCxn id="266" idx="2"/>
          </p:cNvCxnSpPr>
          <p:nvPr/>
        </p:nvCxnSpPr>
        <p:spPr>
          <a:xfrm>
            <a:off x="7391160" y="3276720"/>
            <a:ext cx="10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endCxn id="260" idx="1"/>
          </p:cNvCxnSpPr>
          <p:nvPr/>
        </p:nvCxnSpPr>
        <p:spPr>
          <a:xfrm>
            <a:off x="609480" y="3657600"/>
            <a:ext cx="61056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380880" y="32767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endCxn id="262" idx="2"/>
          </p:cNvCxnSpPr>
          <p:nvPr/>
        </p:nvCxnSpPr>
        <p:spPr>
          <a:xfrm flipV="1">
            <a:off x="4952520" y="4114080"/>
            <a:ext cx="7246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4572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endCxn id="260" idx="0"/>
          </p:cNvCxnSpPr>
          <p:nvPr/>
        </p:nvCxnSpPr>
        <p:spPr>
          <a:xfrm flipV="1" rot="10800000">
            <a:off x="1942560" y="2742840"/>
            <a:ext cx="57204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60" idx="3"/>
          </p:cNvCxnSpPr>
          <p:nvPr/>
        </p:nvCxnSpPr>
        <p:spPr>
          <a:xfrm flipH="1" flipV="1">
            <a:off x="251388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685800" y="5410080"/>
            <a:ext cx="8380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57913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5" idx="1"/>
            <a:endCxn id="260" idx="2"/>
          </p:cNvCxnSpPr>
          <p:nvPr/>
        </p:nvCxnSpPr>
        <p:spPr>
          <a:xfrm flipV="1">
            <a:off x="1066320" y="4114080"/>
            <a:ext cx="877320" cy="171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600200" y="5410080"/>
            <a:ext cx="76212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5120" y="5791320"/>
            <a:ext cx="7596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78" idx="0"/>
            <a:endCxn id="264" idx="2"/>
          </p:cNvCxnSpPr>
          <p:nvPr/>
        </p:nvCxnSpPr>
        <p:spPr>
          <a:xfrm flipV="1">
            <a:off x="1942920" y="4114080"/>
            <a:ext cx="19054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/>
          <p:nvPr/>
        </p:nvCxnSpPr>
        <p:spPr>
          <a:xfrm flipV="1" rot="10800000">
            <a:off x="3847320" y="2742840"/>
            <a:ext cx="572400" cy="534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/>
          <p:nvPr/>
        </p:nvCxnSpPr>
        <p:spPr>
          <a:xfrm flipH="1" flipV="1">
            <a:off x="4419000" y="2742840"/>
            <a:ext cx="153000" cy="953280"/>
          </a:xfrm>
          <a:prstGeom prst="curvedConnector5">
            <a:avLst>
              <a:gd name="adj1" fmla="val -225943"/>
              <a:gd name="adj2" fmla="val 50245"/>
              <a:gd name="adj3" fmla="val -2259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" name=""/>
          <p:cNvCxnSpPr/>
          <p:nvPr/>
        </p:nvCxnSpPr>
        <p:spPr>
          <a:xfrm flipV="1" rot="10800000">
            <a:off x="3847320" y="2361960"/>
            <a:ext cx="186768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/>
          <p:nvPr/>
        </p:nvCxnSpPr>
        <p:spPr>
          <a:xfrm flipH="1" flipV="1">
            <a:off x="5714640" y="2361960"/>
            <a:ext cx="2401200" cy="1334160"/>
          </a:xfrm>
          <a:prstGeom prst="curvedConnector5">
            <a:avLst>
              <a:gd name="adj1" fmla="val -9521"/>
              <a:gd name="adj2" fmla="val 49986"/>
              <a:gd name="adj3" fmla="val -952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" name=""/>
          <p:cNvCxnSpPr>
            <a:stCxn id="262" idx="3"/>
            <a:endCxn id="266" idx="1"/>
          </p:cNvCxnSpPr>
          <p:nvPr/>
        </p:nvCxnSpPr>
        <p:spPr>
          <a:xfrm>
            <a:off x="6400440" y="3695400"/>
            <a:ext cx="267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20:17:30Z</dcterms:created>
  <dc:creator>David R. Musser</dc:creator>
  <dc:description/>
  <dc:language>en-US</dc:language>
  <cp:lastModifiedBy>David R. Musser</cp:lastModifiedBy>
  <dcterms:modified xsi:type="dcterms:W3CDTF">1999-03-16T16:39:08Z</dcterms:modified>
  <cp:revision>13</cp:revision>
  <dc:subject/>
  <dc:title>Detecting a cycle </dc:title>
</cp:coreProperties>
</file>